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BAC-4F48-4B04-A4D7-F0632675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4F8-45A1-4B79-83C5-1BE7F074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652-64A2-46D5-A0AA-C5696C77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29B-DA5B-4E88-8C1A-22ACDF71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8CB-CF09-44C7-8788-C23E9165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83E-A164-4C29-88F0-0B0749E0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139-A1F7-41CE-B6BA-1950C49F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45B-6F8F-4A6E-92D3-9433E976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0C9-5AB0-41AC-94C9-D17738E8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68D-AA96-47B0-BF94-D137F17B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62D-64C3-45ED-8423-642B26D2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FB7-1F33-4848-8A45-E4B7E3BF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C273-F66A-4C46-B21B-30827CFA8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371600"/>
            <a:ext cx="835524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c1e66"/>
                </a:solidFill>
                <a:latin typeface="Times New Roman"/>
                <a:cs typeface="Nazanin"/>
              </a:rPr>
              <a:t>مديريت</a:t>
            </a:r>
            <a:r>
              <a:rPr b="1" lang="en-US" sz="4400" spc="-1" strike="noStrike">
                <a:solidFill>
                  <a:srgbClr val="1c1e66"/>
                </a:solidFill>
                <a:latin typeface="Times New Roman"/>
                <a:ea typeface="Nazanin"/>
              </a:rPr>
              <a:t> </a:t>
            </a:r>
            <a:r>
              <a:rPr b="1" lang="fa-IR" sz="4400" spc="-1" strike="noStrike">
                <a:solidFill>
                  <a:srgbClr val="1c1e66"/>
                </a:solidFill>
                <a:latin typeface="Times New Roman"/>
                <a:ea typeface="Nazanin"/>
              </a:rPr>
              <a:t> استراتژيك </a:t>
            </a:r>
            <a:r>
              <a:rPr b="1" lang="ar-SA" sz="4400" spc="-1" strike="noStrike">
                <a:solidFill>
                  <a:srgbClr val="1c1e66"/>
                </a:solidFill>
                <a:latin typeface="Times New Roman"/>
                <a:ea typeface="Nazanin"/>
              </a:rPr>
              <a:t> منابع انساني</a:t>
            </a:r>
            <a:br>
              <a:rPr sz="4400"/>
            </a:br>
            <a:r>
              <a:rPr b="1" lang="en-CA" sz="4400" spc="-1" strike="noStrike">
                <a:solidFill>
                  <a:srgbClr val="1c1e66"/>
                </a:solidFill>
                <a:latin typeface="Times New Roman"/>
                <a:ea typeface="Nazanin"/>
              </a:rPr>
              <a:t>“</a:t>
            </a:r>
            <a:r>
              <a:rPr b="1" lang="ar-SA" sz="4400" spc="-1" strike="noStrike">
                <a:solidFill>
                  <a:srgbClr val="1c1e66"/>
                </a:solidFill>
                <a:latin typeface="Times New Roman"/>
                <a:cs typeface="Nazanin"/>
              </a:rPr>
              <a:t>رويكرد</a:t>
            </a:r>
            <a:r>
              <a:rPr b="1" lang="fa-IR" sz="4400" spc="-1" strike="noStrike">
                <a:solidFill>
                  <a:srgbClr val="1c1e66"/>
                </a:solidFill>
                <a:latin typeface="Times New Roman"/>
                <a:cs typeface="Nazanin"/>
              </a:rPr>
              <a:t>حاكميت شركتي </a:t>
            </a:r>
            <a:r>
              <a:rPr b="1" lang="en-CA" sz="4400" spc="-1" strike="noStrike">
                <a:solidFill>
                  <a:srgbClr val="1c1e66"/>
                </a:solidFill>
                <a:latin typeface="Times New Roman"/>
                <a:ea typeface="Nazanin"/>
              </a:rPr>
              <a:t>“</a:t>
            </a:r>
            <a:br>
              <a:rPr sz="4400"/>
            </a:br>
            <a:r>
              <a:rPr b="1" lang="en-CA" sz="3600" spc="-1" strike="noStrike">
                <a:solidFill>
                  <a:srgbClr val="1c1e66"/>
                </a:solidFill>
                <a:latin typeface="Times New Roman"/>
                <a:ea typeface="Nazanin"/>
              </a:rPr>
              <a:t>Human Resource Strategic management </a:t>
            </a:r>
            <a:br>
              <a:rPr sz="3600"/>
            </a:br>
            <a:r>
              <a:rPr b="1" lang="en-CA" sz="4400" spc="-1" strike="noStrike">
                <a:solidFill>
                  <a:srgbClr val="1c1e66"/>
                </a:solidFill>
                <a:latin typeface="Times New Roman"/>
                <a:ea typeface="Nazanin"/>
              </a:rPr>
              <a:t>‘</a:t>
            </a:r>
            <a:r>
              <a:rPr b="1" lang="en-CA" sz="3200" spc="-1" strike="noStrike">
                <a:solidFill>
                  <a:srgbClr val="1c1e66"/>
                </a:solidFill>
                <a:latin typeface="Times New Roman"/>
                <a:ea typeface="Nazanin"/>
              </a:rPr>
              <a:t>A Corporate Governance Approach</a:t>
            </a:r>
            <a:r>
              <a:rPr b="1" lang="en-CA" sz="3200" spc="-1" strike="noStrike">
                <a:solidFill>
                  <a:srgbClr val="1c1e66"/>
                </a:solidFill>
                <a:latin typeface="Times New Roman"/>
                <a:ea typeface="Nazani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89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c1e66"/>
                </a:solidFill>
                <a:latin typeface="Times New Roman"/>
                <a:cs typeface="Yagut"/>
              </a:rPr>
              <a:t>ناصر </a:t>
            </a:r>
            <a:r>
              <a:rPr b="1" lang="ar-SA" sz="4000" spc="-1" strike="noStrike">
                <a:solidFill>
                  <a:srgbClr val="1c1e66"/>
                </a:solidFill>
                <a:latin typeface="Times New Roman"/>
                <a:cs typeface="Yagut"/>
              </a:rPr>
              <a:t>ميرسپاس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320920" y="1981080"/>
            <a:ext cx="4495680" cy="2514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4"/>
          <p:cNvSpPr/>
          <p:nvPr/>
        </p:nvSpPr>
        <p:spPr>
          <a:xfrm>
            <a:off x="2397240" y="2666880"/>
            <a:ext cx="2265120" cy="117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5"/>
          <p:cNvSpPr/>
          <p:nvPr/>
        </p:nvSpPr>
        <p:spPr>
          <a:xfrm>
            <a:off x="3429000" y="2174760"/>
            <a:ext cx="2265480" cy="117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6"/>
          <p:cNvSpPr/>
          <p:nvPr/>
        </p:nvSpPr>
        <p:spPr>
          <a:xfrm>
            <a:off x="3443400" y="3124080"/>
            <a:ext cx="2265120" cy="117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7"/>
          <p:cNvSpPr/>
          <p:nvPr/>
        </p:nvSpPr>
        <p:spPr>
          <a:xfrm>
            <a:off x="4454640" y="2666880"/>
            <a:ext cx="2265120" cy="117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280280" y="2133720"/>
            <a:ext cx="167004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173160" y="2133720"/>
            <a:ext cx="1676160" cy="1371600"/>
          </a:xfrm>
          <a:prstGeom prst="rect">
            <a:avLst/>
          </a:prstGeom>
          <a:solidFill>
            <a:srgbClr val="ff4d4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2941560" y="457200"/>
            <a:ext cx="3276720" cy="746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استراتژي، تكنولوژي، ساختار سازمان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فرهنگ سازمان و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Yagut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Yagu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3368520" y="4883040"/>
            <a:ext cx="2417760" cy="146844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3470400" y="5353200"/>
            <a:ext cx="14382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4200480" y="4986360"/>
            <a:ext cx="76212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4200480" y="5388120"/>
            <a:ext cx="76212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4255920" y="5332320"/>
            <a:ext cx="14385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311640" y="5311800"/>
            <a:ext cx="1752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حيط     اجتماع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973760" y="535320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اقتص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4253040" y="493704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سياس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4287960" y="574848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زيس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2424240" y="2868480"/>
            <a:ext cx="121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نظام جذ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تامين و تعدي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3935520" y="223056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نظام نگهدار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Yagut"/>
              </a:rPr>
              <a:t> و حفاظ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5369040" y="2895480"/>
            <a:ext cx="121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نظ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كاربر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3"/>
          <p:cNvSpPr/>
          <p:nvPr/>
        </p:nvSpPr>
        <p:spPr>
          <a:xfrm>
            <a:off x="3941640" y="363708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نظا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آموزش و بهساز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0"/>
          <p:cNvSpPr/>
          <p:nvPr/>
        </p:nvSpPr>
        <p:spPr>
          <a:xfrm>
            <a:off x="7350120" y="2189160"/>
            <a:ext cx="76212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1"/>
          <p:cNvSpPr/>
          <p:nvPr/>
        </p:nvSpPr>
        <p:spPr>
          <a:xfrm>
            <a:off x="7370640" y="2590920"/>
            <a:ext cx="76212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2"/>
          <p:cNvSpPr/>
          <p:nvPr/>
        </p:nvSpPr>
        <p:spPr>
          <a:xfrm>
            <a:off x="7426440" y="2535120"/>
            <a:ext cx="14382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7405560" y="217476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سازما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7432560" y="253512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ناف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7426440" y="29718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فر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8118360" y="255600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جامع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3484440" y="64771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50021"/>
                </a:solidFill>
                <a:latin typeface="Times New Roman"/>
                <a:cs typeface="Yagut"/>
              </a:rPr>
              <a:t>نظام مديريت منابع انسا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2951280" y="1211400"/>
            <a:ext cx="3255840" cy="7617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فرآيند عمليات نظام 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Yagu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Yagut"/>
              </a:rPr>
              <a:t>(Through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9"/>
          <p:cNvSpPr/>
          <p:nvPr/>
        </p:nvSpPr>
        <p:spPr>
          <a:xfrm>
            <a:off x="6816600" y="2819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40"/>
          <p:cNvSpPr/>
          <p:nvPr/>
        </p:nvSpPr>
        <p:spPr>
          <a:xfrm>
            <a:off x="1870200" y="2819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4"/>
          <p:cNvSpPr/>
          <p:nvPr/>
        </p:nvSpPr>
        <p:spPr>
          <a:xfrm>
            <a:off x="241200" y="2541600"/>
            <a:ext cx="14382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971640" y="2174760"/>
            <a:ext cx="76176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971640" y="2576520"/>
            <a:ext cx="76176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82440" y="250020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نابع       ارزش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1023840" y="212580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ال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1038240" y="291636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غير مال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7661160" y="1600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Yagut"/>
              </a:rPr>
              <a:t>برون د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554040" y="1600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Yagut"/>
              </a:rPr>
              <a:t>درون د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4176720" y="444024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Yagut"/>
              </a:rPr>
              <a:t>پيش   د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53"/>
          <p:cNvSpPr/>
          <p:nvPr/>
        </p:nvSpPr>
        <p:spPr>
          <a:xfrm flipV="1">
            <a:off x="4572000" y="447516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4"/>
          <p:cNvSpPr/>
          <p:nvPr/>
        </p:nvSpPr>
        <p:spPr>
          <a:xfrm>
            <a:off x="5791320" y="56037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8132760" y="35254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990720" y="56037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7"/>
          <p:cNvSpPr/>
          <p:nvPr/>
        </p:nvSpPr>
        <p:spPr>
          <a:xfrm flipV="1">
            <a:off x="1011240" y="35254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8"/>
          <p:cNvSpPr/>
          <p:nvPr/>
        </p:nvSpPr>
        <p:spPr>
          <a:xfrm>
            <a:off x="1828800" y="5181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Yagut"/>
              </a:rPr>
              <a:t>بازد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1"/>
          <p:cNvSpPr/>
          <p:nvPr/>
        </p:nvSpPr>
        <p:spPr>
          <a:xfrm>
            <a:off x="3484440" y="11736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Yagut"/>
              </a:rPr>
              <a:t>محيط درون سازمان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20720" y="2362320"/>
          <a:ext cx="6629400" cy="2361960"/>
        </p:xfrm>
        <a:graphic>
          <a:graphicData uri="http://schemas.openxmlformats.org/drawingml/2006/table">
            <a:tbl>
              <a:tblPr/>
              <a:tblGrid>
                <a:gridCol w="3321000"/>
                <a:gridCol w="3308400"/>
              </a:tblGrid>
              <a:tr h="137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انتخاب استراتژي توسع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انتخاب استراتژي گستر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انتخاب استراتژي تغيير جه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Redir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انتخاب استراتژي بهره ور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Produ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c1e66"/>
                </a:solidFill>
                <a:latin typeface="Times New Roman"/>
                <a:cs typeface="Yagut"/>
              </a:rPr>
              <a:t>آمادگي منابع انساني از لحاظ كيفي و ك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3513240" y="4952880"/>
            <a:ext cx="106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Yagut"/>
              </a:rPr>
              <a:t>آماد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5202360" y="4800600"/>
            <a:ext cx="106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زيا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1884240" y="4800600"/>
            <a:ext cx="106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ك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7426440" y="407844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ك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7426440" y="24732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زيا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7315200" y="324180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Yagut"/>
              </a:rPr>
              <a:t>رشد مورد انتظ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66680" y="2362320"/>
          <a:ext cx="6629400" cy="2361960"/>
        </p:xfrm>
        <a:graphic>
          <a:graphicData uri="http://schemas.openxmlformats.org/drawingml/2006/table">
            <a:tbl>
              <a:tblPr/>
              <a:tblGrid>
                <a:gridCol w="3321000"/>
                <a:gridCol w="3308400"/>
              </a:tblGrid>
              <a:tr h="137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استراتژي ساخت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بوروكراتيك منابع انس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استراتژي ساخت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قابل انعطاف منابع انس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استراتژي ساخت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گاراژي منابع انس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استراتژي ساختار نوآفر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و ساده منابع انس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c1e66"/>
                </a:solidFill>
                <a:latin typeface="Times New Roman"/>
                <a:cs typeface="Yagut"/>
              </a:rPr>
              <a:t>ماتريس پيچيدگي سازمان و نرخ تغي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3774960" y="4952880"/>
            <a:ext cx="1211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Yagut"/>
              </a:rPr>
              <a:t>نرخ تغي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5548320" y="4800600"/>
            <a:ext cx="106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زيا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2230560" y="4800600"/>
            <a:ext cx="106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ك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7772400" y="407844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ك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7772400" y="24732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Yagut"/>
              </a:rPr>
              <a:t>زيا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7661160" y="3241800"/>
            <a:ext cx="1067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Yagut"/>
              </a:rPr>
              <a:t>پيچيد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Times New Roman"/>
                <a:cs typeface="Nazanin"/>
              </a:rPr>
              <a:t>ارتباط مديريت منابع انساني با استراتژِي  سازمان و ساختار سازماني</a:t>
            </a:r>
            <a:r>
              <a:rPr b="0" lang="fa-IR" sz="4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15960" y="14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ساختاركلاسيك و ويژگي هاي آ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ساختار مورد توصيه فعلي با تاكيد بر برون سپاري پشتيباني هاي فني ،خدماتي ،آموزشي ،اداري و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utsourcing ,off shoring (Off bord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Image result for Outsourcing"/>
          <p:cNvPicPr/>
          <p:nvPr/>
        </p:nvPicPr>
        <p:blipFill>
          <a:blip r:embed="rId1"/>
          <a:stretch/>
        </p:blipFill>
        <p:spPr>
          <a:xfrm>
            <a:off x="1368360" y="44845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mage result for Outsourcing"/>
          <p:cNvPicPr/>
          <p:nvPr/>
        </p:nvPicPr>
        <p:blipFill>
          <a:blip r:embed="rId2"/>
          <a:stretch/>
        </p:blipFill>
        <p:spPr>
          <a:xfrm>
            <a:off x="4716360" y="4327560"/>
            <a:ext cx="31003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2"/>
          <p:cNvSpPr/>
          <p:nvPr/>
        </p:nvSpPr>
        <p:spPr>
          <a:xfrm>
            <a:off x="4038480" y="1357200"/>
            <a:ext cx="12193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دير عام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3160" y="123840"/>
            <a:ext cx="549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1c1e66"/>
                </a:solidFill>
                <a:latin typeface="Times New Roman"/>
                <a:cs typeface="Yagut"/>
              </a:rPr>
              <a:t>حوزه های مناسب برای برون سپار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6022800" y="2652840"/>
            <a:ext cx="144792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1755720" y="2652840"/>
            <a:ext cx="144792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دير منابع انسان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4048200" y="4121280"/>
            <a:ext cx="129528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عاونت اجراي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1936800" y="3948120"/>
            <a:ext cx="8380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841320" y="3948120"/>
            <a:ext cx="8380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509760" y="4730760"/>
            <a:ext cx="8380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1459080" y="4718160"/>
            <a:ext cx="8380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7540560" y="3948120"/>
            <a:ext cx="83844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6500880" y="3948120"/>
            <a:ext cx="8380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5073480" y="5243400"/>
            <a:ext cx="8384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3397320" y="5243400"/>
            <a:ext cx="8380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5"/>
          <p:cNvSpPr/>
          <p:nvPr/>
        </p:nvSpPr>
        <p:spPr>
          <a:xfrm>
            <a:off x="3841920" y="6005520"/>
            <a:ext cx="6220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6"/>
          <p:cNvSpPr/>
          <p:nvPr/>
        </p:nvSpPr>
        <p:spPr>
          <a:xfrm>
            <a:off x="3149640" y="6005520"/>
            <a:ext cx="62244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7"/>
          <p:cNvSpPr/>
          <p:nvPr/>
        </p:nvSpPr>
        <p:spPr>
          <a:xfrm>
            <a:off x="2428920" y="6005520"/>
            <a:ext cx="6220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1714680" y="6005520"/>
            <a:ext cx="6220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3"/>
          <p:cNvSpPr/>
          <p:nvPr/>
        </p:nvSpPr>
        <p:spPr>
          <a:xfrm>
            <a:off x="2482920" y="2271600"/>
            <a:ext cx="430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4"/>
          <p:cNvSpPr/>
          <p:nvPr/>
        </p:nvSpPr>
        <p:spPr>
          <a:xfrm>
            <a:off x="2482920" y="2271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5"/>
          <p:cNvSpPr/>
          <p:nvPr/>
        </p:nvSpPr>
        <p:spPr>
          <a:xfrm>
            <a:off x="6764400" y="2271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6"/>
          <p:cNvSpPr/>
          <p:nvPr/>
        </p:nvSpPr>
        <p:spPr>
          <a:xfrm>
            <a:off x="2482920" y="31860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7"/>
          <p:cNvSpPr/>
          <p:nvPr/>
        </p:nvSpPr>
        <p:spPr>
          <a:xfrm>
            <a:off x="6764400" y="31860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8"/>
          <p:cNvSpPr/>
          <p:nvPr/>
        </p:nvSpPr>
        <p:spPr>
          <a:xfrm>
            <a:off x="1278000" y="356544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9"/>
          <p:cNvSpPr/>
          <p:nvPr/>
        </p:nvSpPr>
        <p:spPr>
          <a:xfrm>
            <a:off x="1278000" y="356724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0"/>
          <p:cNvSpPr/>
          <p:nvPr/>
        </p:nvSpPr>
        <p:spPr>
          <a:xfrm>
            <a:off x="6750000" y="356724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1"/>
          <p:cNvSpPr/>
          <p:nvPr/>
        </p:nvSpPr>
        <p:spPr>
          <a:xfrm>
            <a:off x="7977240" y="35528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2"/>
          <p:cNvSpPr/>
          <p:nvPr/>
        </p:nvSpPr>
        <p:spPr>
          <a:xfrm>
            <a:off x="2365200" y="35672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3"/>
          <p:cNvSpPr/>
          <p:nvPr/>
        </p:nvSpPr>
        <p:spPr>
          <a:xfrm>
            <a:off x="6937200" y="35672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4"/>
          <p:cNvSpPr/>
          <p:nvPr/>
        </p:nvSpPr>
        <p:spPr>
          <a:xfrm>
            <a:off x="1278000" y="4329000"/>
            <a:ext cx="0" cy="18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56"/>
          <p:cNvSpPr/>
          <p:nvPr/>
        </p:nvSpPr>
        <p:spPr>
          <a:xfrm>
            <a:off x="1887480" y="452916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57"/>
          <p:cNvSpPr/>
          <p:nvPr/>
        </p:nvSpPr>
        <p:spPr>
          <a:xfrm>
            <a:off x="1265400" y="4522680"/>
            <a:ext cx="61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58"/>
          <p:cNvSpPr/>
          <p:nvPr/>
        </p:nvSpPr>
        <p:spPr>
          <a:xfrm>
            <a:off x="3825720" y="5624640"/>
            <a:ext cx="0" cy="18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59"/>
          <p:cNvSpPr/>
          <p:nvPr/>
        </p:nvSpPr>
        <p:spPr>
          <a:xfrm>
            <a:off x="2065320" y="5818320"/>
            <a:ext cx="0" cy="18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0"/>
          <p:cNvSpPr/>
          <p:nvPr/>
        </p:nvSpPr>
        <p:spPr>
          <a:xfrm>
            <a:off x="2724120" y="5818320"/>
            <a:ext cx="0" cy="18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1"/>
          <p:cNvSpPr/>
          <p:nvPr/>
        </p:nvSpPr>
        <p:spPr>
          <a:xfrm>
            <a:off x="3459240" y="5818320"/>
            <a:ext cx="0" cy="18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2"/>
          <p:cNvSpPr/>
          <p:nvPr/>
        </p:nvSpPr>
        <p:spPr>
          <a:xfrm>
            <a:off x="4159080" y="5818320"/>
            <a:ext cx="0" cy="18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64"/>
          <p:cNvSpPr/>
          <p:nvPr/>
        </p:nvSpPr>
        <p:spPr>
          <a:xfrm>
            <a:off x="2046240" y="579744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"/>
          <p:cNvSpPr/>
          <p:nvPr/>
        </p:nvSpPr>
        <p:spPr>
          <a:xfrm>
            <a:off x="7027920" y="6005520"/>
            <a:ext cx="6220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"/>
          <p:cNvSpPr/>
          <p:nvPr/>
        </p:nvSpPr>
        <p:spPr>
          <a:xfrm>
            <a:off x="6335640" y="6005520"/>
            <a:ext cx="62244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7"/>
          <p:cNvSpPr/>
          <p:nvPr/>
        </p:nvSpPr>
        <p:spPr>
          <a:xfrm>
            <a:off x="5635800" y="6005520"/>
            <a:ext cx="6220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8"/>
          <p:cNvSpPr/>
          <p:nvPr/>
        </p:nvSpPr>
        <p:spPr>
          <a:xfrm>
            <a:off x="4921200" y="6005520"/>
            <a:ext cx="62244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69"/>
          <p:cNvSpPr/>
          <p:nvPr/>
        </p:nvSpPr>
        <p:spPr>
          <a:xfrm>
            <a:off x="5495760" y="5624640"/>
            <a:ext cx="0" cy="18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0"/>
          <p:cNvSpPr/>
          <p:nvPr/>
        </p:nvSpPr>
        <p:spPr>
          <a:xfrm>
            <a:off x="5230800" y="5818320"/>
            <a:ext cx="0" cy="18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71"/>
          <p:cNvSpPr/>
          <p:nvPr/>
        </p:nvSpPr>
        <p:spPr>
          <a:xfrm>
            <a:off x="5910120" y="57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2"/>
          <p:cNvSpPr/>
          <p:nvPr/>
        </p:nvSpPr>
        <p:spPr>
          <a:xfrm>
            <a:off x="6645240" y="5818320"/>
            <a:ext cx="0" cy="18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73"/>
          <p:cNvSpPr/>
          <p:nvPr/>
        </p:nvSpPr>
        <p:spPr>
          <a:xfrm>
            <a:off x="7345440" y="5818320"/>
            <a:ext cx="0" cy="18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4"/>
          <p:cNvSpPr/>
          <p:nvPr/>
        </p:nvSpPr>
        <p:spPr>
          <a:xfrm>
            <a:off x="5226120" y="579744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5"/>
          <p:cNvSpPr/>
          <p:nvPr/>
        </p:nvSpPr>
        <p:spPr>
          <a:xfrm>
            <a:off x="5510160" y="5056200"/>
            <a:ext cx="0" cy="18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6"/>
          <p:cNvSpPr/>
          <p:nvPr/>
        </p:nvSpPr>
        <p:spPr>
          <a:xfrm>
            <a:off x="3813120" y="5049720"/>
            <a:ext cx="0" cy="18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8"/>
          <p:cNvSpPr/>
          <p:nvPr/>
        </p:nvSpPr>
        <p:spPr>
          <a:xfrm>
            <a:off x="3809880" y="5049720"/>
            <a:ext cx="172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79"/>
          <p:cNvSpPr/>
          <p:nvPr/>
        </p:nvSpPr>
        <p:spPr>
          <a:xfrm rot="2328000">
            <a:off x="765000" y="1433520"/>
            <a:ext cx="2587680" cy="4495680"/>
          </a:xfrm>
          <a:prstGeom prst="ellipse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80"/>
          <p:cNvSpPr/>
          <p:nvPr/>
        </p:nvSpPr>
        <p:spPr>
          <a:xfrm rot="19714200">
            <a:off x="5870160" y="1356840"/>
            <a:ext cx="2587680" cy="4496040"/>
          </a:xfrm>
          <a:prstGeom prst="ellipse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92"/>
          <p:cNvSpPr/>
          <p:nvPr/>
        </p:nvSpPr>
        <p:spPr>
          <a:xfrm rot="3600000">
            <a:off x="1415160" y="1780200"/>
            <a:ext cx="2616120" cy="3757680"/>
          </a:xfrm>
          <a:custGeom>
            <a:avLst/>
            <a:gdLst/>
            <a:ahLst/>
            <a:rect l="l" t="t" r="r" b="b"/>
            <a:pathLst>
              <a:path fill="none" w="21600" h="21348">
                <a:moveTo>
                  <a:pt x="3291" y="0"/>
                </a:moveTo>
                <a:cubicBezTo>
                  <a:pt x="13825" y="1624"/>
                  <a:pt x="21600" y="10689"/>
                  <a:pt x="21600" y="21348"/>
                </a:cubicBezTo>
              </a:path>
              <a:path stroke="0" w="21600" h="21348">
                <a:moveTo>
                  <a:pt x="3291" y="0"/>
                </a:moveTo>
                <a:cubicBezTo>
                  <a:pt x="13825" y="1624"/>
                  <a:pt x="21600" y="10689"/>
                  <a:pt x="21600" y="21348"/>
                </a:cubicBezTo>
                <a:lnTo>
                  <a:pt x="0" y="21348"/>
                </a:lnTo>
                <a:lnTo>
                  <a:pt x="329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94"/>
          <p:cNvSpPr/>
          <p:nvPr/>
        </p:nvSpPr>
        <p:spPr>
          <a:xfrm rot="11555400">
            <a:off x="5094000" y="2133720"/>
            <a:ext cx="3257640" cy="3396960"/>
          </a:xfrm>
          <a:custGeom>
            <a:avLst/>
            <a:gdLst/>
            <a:ahLst/>
            <a:rect l="l" t="t" r="r" b="b"/>
            <a:pathLst>
              <a:path fill="none" w="21580" h="21600">
                <a:moveTo>
                  <a:pt x="-1" y="0"/>
                </a:moveTo>
                <a:cubicBezTo>
                  <a:pt x="11569" y="0"/>
                  <a:pt x="21084" y="9115"/>
                  <a:pt x="21580" y="20673"/>
                </a:cubicBezTo>
              </a:path>
              <a:path stroke="0" w="21580" h="21600">
                <a:moveTo>
                  <a:pt x="-1" y="0"/>
                </a:moveTo>
                <a:cubicBezTo>
                  <a:pt x="11569" y="0"/>
                  <a:pt x="21084" y="9115"/>
                  <a:pt x="21580" y="2067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97"/>
          <p:cNvSpPr/>
          <p:nvPr/>
        </p:nvSpPr>
        <p:spPr>
          <a:xfrm>
            <a:off x="1273320" y="5715000"/>
            <a:ext cx="482400" cy="990720"/>
          </a:xfrm>
          <a:custGeom>
            <a:avLst/>
            <a:gdLst/>
            <a:ahLst/>
            <a:rect l="l" t="t" r="r" b="b"/>
            <a:pathLst>
              <a:path w="304" h="624">
                <a:moveTo>
                  <a:pt x="304" y="0"/>
                </a:moveTo>
                <a:cubicBezTo>
                  <a:pt x="232" y="40"/>
                  <a:pt x="160" y="80"/>
                  <a:pt x="112" y="144"/>
                </a:cubicBezTo>
                <a:cubicBezTo>
                  <a:pt x="64" y="208"/>
                  <a:pt x="32" y="304"/>
                  <a:pt x="16" y="384"/>
                </a:cubicBezTo>
                <a:cubicBezTo>
                  <a:pt x="0" y="464"/>
                  <a:pt x="8" y="544"/>
                  <a:pt x="16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00"/>
          <p:cNvSpPr/>
          <p:nvPr/>
        </p:nvSpPr>
        <p:spPr>
          <a:xfrm>
            <a:off x="7851600" y="5832360"/>
            <a:ext cx="317520" cy="838440"/>
          </a:xfrm>
          <a:custGeom>
            <a:avLst/>
            <a:gdLst/>
            <a:ahLst/>
            <a:rect l="l" t="t" r="r" b="b"/>
            <a:pathLst>
              <a:path w="200" h="528">
                <a:moveTo>
                  <a:pt x="0" y="0"/>
                </a:moveTo>
                <a:cubicBezTo>
                  <a:pt x="36" y="12"/>
                  <a:pt x="72" y="24"/>
                  <a:pt x="96" y="48"/>
                </a:cubicBezTo>
                <a:cubicBezTo>
                  <a:pt x="120" y="72"/>
                  <a:pt x="128" y="88"/>
                  <a:pt x="144" y="144"/>
                </a:cubicBezTo>
                <a:cubicBezTo>
                  <a:pt x="160" y="200"/>
                  <a:pt x="184" y="320"/>
                  <a:pt x="192" y="384"/>
                </a:cubicBezTo>
                <a:cubicBezTo>
                  <a:pt x="200" y="448"/>
                  <a:pt x="196" y="488"/>
                  <a:pt x="192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1"/>
          <p:cNvSpPr/>
          <p:nvPr/>
        </p:nvSpPr>
        <p:spPr>
          <a:xfrm>
            <a:off x="1278000" y="66913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04"/>
          <p:cNvSpPr/>
          <p:nvPr/>
        </p:nvSpPr>
        <p:spPr>
          <a:xfrm>
            <a:off x="3548160" y="851040"/>
            <a:ext cx="2222280" cy="1127160"/>
          </a:xfrm>
          <a:custGeom>
            <a:avLst/>
            <a:gdLst/>
            <a:ahLst/>
            <a:rect l="l" t="t" r="r" b="b"/>
            <a:pathLst>
              <a:path w="1400" h="710">
                <a:moveTo>
                  <a:pt x="230" y="710"/>
                </a:moveTo>
                <a:cubicBezTo>
                  <a:pt x="197" y="681"/>
                  <a:pt x="58" y="616"/>
                  <a:pt x="29" y="536"/>
                </a:cubicBezTo>
                <a:cubicBezTo>
                  <a:pt x="0" y="456"/>
                  <a:pt x="20" y="308"/>
                  <a:pt x="56" y="228"/>
                </a:cubicBezTo>
                <a:cubicBezTo>
                  <a:pt x="92" y="148"/>
                  <a:pt x="145" y="91"/>
                  <a:pt x="243" y="53"/>
                </a:cubicBezTo>
                <a:cubicBezTo>
                  <a:pt x="341" y="15"/>
                  <a:pt x="502" y="0"/>
                  <a:pt x="645" y="0"/>
                </a:cubicBezTo>
                <a:cubicBezTo>
                  <a:pt x="788" y="0"/>
                  <a:pt x="988" y="14"/>
                  <a:pt x="1100" y="53"/>
                </a:cubicBezTo>
                <a:cubicBezTo>
                  <a:pt x="1212" y="92"/>
                  <a:pt x="1268" y="170"/>
                  <a:pt x="1315" y="236"/>
                </a:cubicBezTo>
                <a:cubicBezTo>
                  <a:pt x="1362" y="302"/>
                  <a:pt x="1400" y="371"/>
                  <a:pt x="1382" y="450"/>
                </a:cubicBezTo>
                <a:cubicBezTo>
                  <a:pt x="1364" y="529"/>
                  <a:pt x="1244" y="656"/>
                  <a:pt x="1208" y="71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7"/>
          <p:cNvSpPr/>
          <p:nvPr/>
        </p:nvSpPr>
        <p:spPr>
          <a:xfrm>
            <a:off x="7315200" y="1676520"/>
            <a:ext cx="12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هندس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8"/>
          <p:cNvSpPr/>
          <p:nvPr/>
        </p:nvSpPr>
        <p:spPr>
          <a:xfrm>
            <a:off x="457200" y="1676520"/>
            <a:ext cx="12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خدمات پشتيباني و ادار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11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4080" y="561960"/>
          <a:ext cx="8843760" cy="6202440"/>
        </p:xfrm>
        <a:graphic>
          <a:graphicData uri="http://schemas.openxmlformats.org/drawingml/2006/table">
            <a:tbl>
              <a:tblPr/>
              <a:tblGrid>
                <a:gridCol w="3732120"/>
                <a:gridCol w="3809880"/>
                <a:gridCol w="1301760"/>
              </a:tblGrid>
              <a:tr h="79056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نگرش تعه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نگرش كنتر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حوزه سياستگذا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392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تعريف وظايف بطور وسي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مسئوليت و تعهد كاري وسي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طرح ريزي و اجرا با هم ديده مي 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تقسيم كار به اجزاء كوچ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واگذاري مسئوليت خاص به مشاغ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متعهد بودن شاغلين به صرفا انجام مسئوليت واگذار ش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طرح ريزي جدا از اجزا ديده مي 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طراحي شغ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ساختار افقي است، كنترل و هماهنگي بصورت مشاركتي انجام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موقعيت شغلي از اهميت كمتري برخوردار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كنترل و هماهنگي از بالا به پاي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مديريت مسئوليت اصلي را بعهده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موقعيت شغلي ازاعتبارسمبوليك برخوردار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اختيارات طبق سلسله‌ مراتب سازماني توزيع   مي شو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سازمان و مديري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52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تقويت كار گروه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پرداخت بر مبناي مهارت، دانش و ساير   پتانسيل هاي كارك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سهيم شدن كاركنان در سود و سها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پرداخت منصفانه براي انجام كاري منصفان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ارزشيابي شغ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پرداخت هاي انگيزه اي فرد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جبران خدم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تعهد متقابل كارفرما و كارگ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پرهيز از اخراج كارك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منابع انساني بعنوان هزينه متغير درنظر گرفته مي 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روابط ك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مديريت مشاركتي و ارتباطات متقاب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دادن ‌اجازه ‌اظهارنظر ‌و ‌تصميم‌گيري‌ به‌ كارك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از طريق تشكل هاي كارگ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از طريق نظرسنجي و درهاي باز مدير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نقش و جايگاه كارك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76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تمام كاركنان مسئوليت پاسخگويي به سهامداران را دارا هست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agut"/>
                        </a:rPr>
                        <a:t>- تامين نياز كاركنان براي صاحبان سهام هدف تلقي مي شود نه وسي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مدير مسئول و پاسخگوي صاحبان سهام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فلسفه و مديري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c1e66"/>
                </a:solidFill>
                <a:latin typeface="Times New Roman"/>
                <a:cs typeface="Yagut"/>
              </a:rPr>
              <a:t>تغيير گرايش هاي سياستگذاري منابع انسا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17"/>
          <p:cNvSpPr/>
          <p:nvPr/>
        </p:nvSpPr>
        <p:spPr>
          <a:xfrm>
            <a:off x="4765680" y="1327320"/>
            <a:ext cx="2158920" cy="2158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556000" y="3546360"/>
            <a:ext cx="2158920" cy="2159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0"/>
          <p:cNvSpPr/>
          <p:nvPr/>
        </p:nvSpPr>
        <p:spPr>
          <a:xfrm flipH="1">
            <a:off x="2568240" y="1314360"/>
            <a:ext cx="2158920" cy="2158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1"/>
          <p:cNvSpPr/>
          <p:nvPr/>
        </p:nvSpPr>
        <p:spPr>
          <a:xfrm flipH="1">
            <a:off x="4809960" y="3533760"/>
            <a:ext cx="2159280" cy="2158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2558880" y="3492360"/>
            <a:ext cx="4318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4724280" y="1371600"/>
            <a:ext cx="0" cy="431784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5"/>
          <p:cNvSpPr/>
          <p:nvPr/>
        </p:nvSpPr>
        <p:spPr>
          <a:xfrm>
            <a:off x="1522440" y="228600"/>
            <a:ext cx="6478560" cy="6478560"/>
          </a:xfrm>
          <a:prstGeom prst="flowChartConnector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3971880" y="609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استراتژ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Yagut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3962520" y="576900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ساختار منابع انسا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Yagut"/>
              </a:rPr>
              <a:t>H.R.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9"/>
          <p:cNvSpPr/>
          <p:nvPr/>
        </p:nvSpPr>
        <p:spPr>
          <a:xfrm>
            <a:off x="6607080" y="2889360"/>
            <a:ext cx="1524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تكنولوژ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0"/>
          <p:cNvSpPr/>
          <p:nvPr/>
        </p:nvSpPr>
        <p:spPr>
          <a:xfrm>
            <a:off x="1584360" y="2762280"/>
            <a:ext cx="1523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ساختا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Yagu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Yagut"/>
              </a:rPr>
              <a:t>      سازما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Yagu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Yagut"/>
              </a:rPr>
              <a:t>O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Yagut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6858000" y="7621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Yagut"/>
              </a:rPr>
              <a:t>محي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2"/>
          <p:cNvSpPr/>
          <p:nvPr/>
        </p:nvSpPr>
        <p:spPr>
          <a:xfrm>
            <a:off x="6397560" y="395604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Yagut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rc 45"/>
          <p:cNvSpPr/>
          <p:nvPr/>
        </p:nvSpPr>
        <p:spPr>
          <a:xfrm>
            <a:off x="4711680" y="577800"/>
            <a:ext cx="968400" cy="633600"/>
          </a:xfrm>
          <a:custGeom>
            <a:avLst/>
            <a:gdLst/>
            <a:ahLst/>
            <a:rect l="l" t="t" r="r" b="b"/>
            <a:pathLst>
              <a:path fill="none" w="21586" h="21600">
                <a:moveTo>
                  <a:pt x="-1" y="0"/>
                </a:moveTo>
                <a:cubicBezTo>
                  <a:pt x="11625" y="0"/>
                  <a:pt x="21165" y="9201"/>
                  <a:pt x="21585" y="20819"/>
                </a:cubicBezTo>
              </a:path>
              <a:path stroke="0" w="21586" h="21600">
                <a:moveTo>
                  <a:pt x="-1" y="0"/>
                </a:moveTo>
                <a:cubicBezTo>
                  <a:pt x="11625" y="0"/>
                  <a:pt x="21165" y="9201"/>
                  <a:pt x="21585" y="2081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282600" y="645480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9"/>
          <p:cNvSpPr/>
          <p:nvPr/>
        </p:nvSpPr>
        <p:spPr>
          <a:xfrm flipV="1">
            <a:off x="533520" y="5987520"/>
            <a:ext cx="2854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20"/>
          <p:cNvSpPr/>
          <p:nvPr/>
        </p:nvSpPr>
        <p:spPr>
          <a:xfrm>
            <a:off x="774720" y="5718240"/>
            <a:ext cx="250920" cy="282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rc 21"/>
          <p:cNvSpPr/>
          <p:nvPr/>
        </p:nvSpPr>
        <p:spPr>
          <a:xfrm flipV="1" rot="19207200">
            <a:off x="839520" y="5370480"/>
            <a:ext cx="336960" cy="282600"/>
          </a:xfrm>
          <a:custGeom>
            <a:avLst/>
            <a:gdLst/>
            <a:ahLst/>
            <a:rect l="l" t="t" r="r" b="b"/>
            <a:pathLst>
              <a:path fill="none" w="19674" h="21600">
                <a:moveTo>
                  <a:pt x="-1" y="0"/>
                </a:moveTo>
                <a:cubicBezTo>
                  <a:pt x="8479" y="0"/>
                  <a:pt x="16174" y="4961"/>
                  <a:pt x="19674" y="12684"/>
                </a:cubicBezTo>
              </a:path>
              <a:path stroke="0" w="19674" h="21600">
                <a:moveTo>
                  <a:pt x="-1" y="0"/>
                </a:moveTo>
                <a:cubicBezTo>
                  <a:pt x="8479" y="0"/>
                  <a:pt x="16174" y="4961"/>
                  <a:pt x="19674" y="1268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24"/>
          <p:cNvSpPr/>
          <p:nvPr/>
        </p:nvSpPr>
        <p:spPr>
          <a:xfrm rot="493800">
            <a:off x="1142640" y="4965480"/>
            <a:ext cx="412920" cy="523800"/>
          </a:xfrm>
          <a:custGeom>
            <a:avLst/>
            <a:gdLst/>
            <a:ahLst/>
            <a:rect l="l" t="t" r="r" b="b"/>
            <a:pathLst>
              <a:path w="440" h="392">
                <a:moveTo>
                  <a:pt x="0" y="336"/>
                </a:moveTo>
                <a:cubicBezTo>
                  <a:pt x="32" y="364"/>
                  <a:pt x="64" y="392"/>
                  <a:pt x="96" y="384"/>
                </a:cubicBezTo>
                <a:cubicBezTo>
                  <a:pt x="128" y="376"/>
                  <a:pt x="192" y="320"/>
                  <a:pt x="192" y="288"/>
                </a:cubicBezTo>
                <a:cubicBezTo>
                  <a:pt x="192" y="256"/>
                  <a:pt x="80" y="192"/>
                  <a:pt x="96" y="192"/>
                </a:cubicBezTo>
                <a:cubicBezTo>
                  <a:pt x="112" y="192"/>
                  <a:pt x="232" y="288"/>
                  <a:pt x="288" y="288"/>
                </a:cubicBezTo>
                <a:cubicBezTo>
                  <a:pt x="344" y="288"/>
                  <a:pt x="440" y="240"/>
                  <a:pt x="432" y="192"/>
                </a:cubicBezTo>
                <a:cubicBezTo>
                  <a:pt x="424" y="144"/>
                  <a:pt x="272" y="32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5"/>
          <p:cNvSpPr/>
          <p:nvPr/>
        </p:nvSpPr>
        <p:spPr>
          <a:xfrm flipV="1">
            <a:off x="1427760" y="4791600"/>
            <a:ext cx="21492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26"/>
          <p:cNvSpPr/>
          <p:nvPr/>
        </p:nvSpPr>
        <p:spPr>
          <a:xfrm>
            <a:off x="1596960" y="4562640"/>
            <a:ext cx="250920" cy="282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rc 28"/>
          <p:cNvSpPr/>
          <p:nvPr/>
        </p:nvSpPr>
        <p:spPr>
          <a:xfrm flipV="1" rot="18349800">
            <a:off x="1584000" y="4119840"/>
            <a:ext cx="838080" cy="152640"/>
          </a:xfrm>
          <a:custGeom>
            <a:avLst/>
            <a:gdLst/>
            <a:ahLst/>
            <a:rect l="l" t="t" r="r" b="b"/>
            <a:pathLst>
              <a:path fill="none" w="22231" h="21600">
                <a:moveTo>
                  <a:pt x="0" y="9"/>
                </a:moveTo>
                <a:cubicBezTo>
                  <a:pt x="210" y="3"/>
                  <a:pt x="420" y="-1"/>
                  <a:pt x="631" y="0"/>
                </a:cubicBezTo>
                <a:cubicBezTo>
                  <a:pt x="12560" y="0"/>
                  <a:pt x="22231" y="9670"/>
                  <a:pt x="22231" y="21600"/>
                </a:cubicBezTo>
              </a:path>
              <a:path stroke="0" w="22231" h="21600">
                <a:moveTo>
                  <a:pt x="0" y="9"/>
                </a:moveTo>
                <a:cubicBezTo>
                  <a:pt x="210" y="3"/>
                  <a:pt x="420" y="-1"/>
                  <a:pt x="631" y="0"/>
                </a:cubicBezTo>
                <a:cubicBezTo>
                  <a:pt x="12560" y="0"/>
                  <a:pt x="22231" y="9670"/>
                  <a:pt x="22231" y="21600"/>
                </a:cubicBezTo>
                <a:lnTo>
                  <a:pt x="631" y="21600"/>
                </a:lnTo>
                <a:lnTo>
                  <a:pt x="0" y="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29"/>
          <p:cNvSpPr/>
          <p:nvPr/>
        </p:nvSpPr>
        <p:spPr>
          <a:xfrm>
            <a:off x="2124000" y="3549600"/>
            <a:ext cx="250920" cy="282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30"/>
          <p:cNvSpPr/>
          <p:nvPr/>
        </p:nvSpPr>
        <p:spPr>
          <a:xfrm flipV="1" rot="19552200">
            <a:off x="2196720" y="3130920"/>
            <a:ext cx="395280" cy="360720"/>
          </a:xfrm>
          <a:custGeom>
            <a:avLst/>
            <a:gdLst/>
            <a:ahLst/>
            <a:rect l="l" t="t" r="r" b="b"/>
            <a:pathLst>
              <a:path fill="none" w="19674" h="21600">
                <a:moveTo>
                  <a:pt x="-1" y="0"/>
                </a:moveTo>
                <a:cubicBezTo>
                  <a:pt x="8479" y="0"/>
                  <a:pt x="16174" y="4961"/>
                  <a:pt x="19674" y="12684"/>
                </a:cubicBezTo>
              </a:path>
              <a:path stroke="0" w="19674" h="21600">
                <a:moveTo>
                  <a:pt x="-1" y="0"/>
                </a:moveTo>
                <a:cubicBezTo>
                  <a:pt x="8479" y="0"/>
                  <a:pt x="16174" y="4961"/>
                  <a:pt x="19674" y="1268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31"/>
          <p:cNvSpPr/>
          <p:nvPr/>
        </p:nvSpPr>
        <p:spPr>
          <a:xfrm>
            <a:off x="2546280" y="2771640"/>
            <a:ext cx="412920" cy="524160"/>
          </a:xfrm>
          <a:custGeom>
            <a:avLst/>
            <a:gdLst/>
            <a:ahLst/>
            <a:rect l="l" t="t" r="r" b="b"/>
            <a:pathLst>
              <a:path w="440" h="392">
                <a:moveTo>
                  <a:pt x="0" y="336"/>
                </a:moveTo>
                <a:cubicBezTo>
                  <a:pt x="32" y="364"/>
                  <a:pt x="64" y="392"/>
                  <a:pt x="96" y="384"/>
                </a:cubicBezTo>
                <a:cubicBezTo>
                  <a:pt x="128" y="376"/>
                  <a:pt x="192" y="320"/>
                  <a:pt x="192" y="288"/>
                </a:cubicBezTo>
                <a:cubicBezTo>
                  <a:pt x="192" y="256"/>
                  <a:pt x="80" y="192"/>
                  <a:pt x="96" y="192"/>
                </a:cubicBezTo>
                <a:cubicBezTo>
                  <a:pt x="112" y="192"/>
                  <a:pt x="232" y="288"/>
                  <a:pt x="288" y="288"/>
                </a:cubicBezTo>
                <a:cubicBezTo>
                  <a:pt x="344" y="288"/>
                  <a:pt x="440" y="240"/>
                  <a:pt x="432" y="192"/>
                </a:cubicBezTo>
                <a:cubicBezTo>
                  <a:pt x="424" y="144"/>
                  <a:pt x="272" y="32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2"/>
          <p:cNvSpPr/>
          <p:nvPr/>
        </p:nvSpPr>
        <p:spPr>
          <a:xfrm flipV="1">
            <a:off x="2816280" y="2428920"/>
            <a:ext cx="79200" cy="3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33"/>
          <p:cNvSpPr/>
          <p:nvPr/>
        </p:nvSpPr>
        <p:spPr>
          <a:xfrm>
            <a:off x="2851200" y="2189160"/>
            <a:ext cx="250920" cy="282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35"/>
          <p:cNvSpPr/>
          <p:nvPr/>
        </p:nvSpPr>
        <p:spPr>
          <a:xfrm>
            <a:off x="3375000" y="1200240"/>
            <a:ext cx="250920" cy="282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4473720" y="460440"/>
            <a:ext cx="250560" cy="282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40"/>
          <p:cNvSpPr/>
          <p:nvPr/>
        </p:nvSpPr>
        <p:spPr>
          <a:xfrm>
            <a:off x="5591160" y="1154160"/>
            <a:ext cx="250920" cy="282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47"/>
          <p:cNvSpPr/>
          <p:nvPr/>
        </p:nvSpPr>
        <p:spPr>
          <a:xfrm>
            <a:off x="5991120" y="2233440"/>
            <a:ext cx="250920" cy="282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rc 48"/>
          <p:cNvSpPr/>
          <p:nvPr/>
        </p:nvSpPr>
        <p:spPr>
          <a:xfrm flipV="1" rot="6048000">
            <a:off x="6450120" y="3350520"/>
            <a:ext cx="395280" cy="360720"/>
          </a:xfrm>
          <a:custGeom>
            <a:avLst/>
            <a:gdLst/>
            <a:ahLst/>
            <a:rect l="l" t="t" r="r" b="b"/>
            <a:pathLst>
              <a:path fill="none" w="19674" h="21600">
                <a:moveTo>
                  <a:pt x="-1" y="0"/>
                </a:moveTo>
                <a:cubicBezTo>
                  <a:pt x="8479" y="0"/>
                  <a:pt x="16174" y="4961"/>
                  <a:pt x="19674" y="12684"/>
                </a:cubicBezTo>
              </a:path>
              <a:path stroke="0" w="19674" h="21600">
                <a:moveTo>
                  <a:pt x="-1" y="0"/>
                </a:moveTo>
                <a:cubicBezTo>
                  <a:pt x="8479" y="0"/>
                  <a:pt x="16174" y="4961"/>
                  <a:pt x="19674" y="1268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49"/>
          <p:cNvSpPr/>
          <p:nvPr/>
        </p:nvSpPr>
        <p:spPr>
          <a:xfrm rot="8103000">
            <a:off x="6135480" y="2857320"/>
            <a:ext cx="412560" cy="523800"/>
          </a:xfrm>
          <a:custGeom>
            <a:avLst/>
            <a:gdLst/>
            <a:ahLst/>
            <a:rect l="l" t="t" r="r" b="b"/>
            <a:pathLst>
              <a:path w="440" h="392">
                <a:moveTo>
                  <a:pt x="0" y="336"/>
                </a:moveTo>
                <a:cubicBezTo>
                  <a:pt x="32" y="364"/>
                  <a:pt x="64" y="392"/>
                  <a:pt x="96" y="384"/>
                </a:cubicBezTo>
                <a:cubicBezTo>
                  <a:pt x="128" y="376"/>
                  <a:pt x="192" y="320"/>
                  <a:pt x="192" y="288"/>
                </a:cubicBezTo>
                <a:cubicBezTo>
                  <a:pt x="192" y="256"/>
                  <a:pt x="80" y="192"/>
                  <a:pt x="96" y="192"/>
                </a:cubicBezTo>
                <a:cubicBezTo>
                  <a:pt x="112" y="192"/>
                  <a:pt x="232" y="288"/>
                  <a:pt x="288" y="288"/>
                </a:cubicBezTo>
                <a:cubicBezTo>
                  <a:pt x="344" y="288"/>
                  <a:pt x="440" y="240"/>
                  <a:pt x="432" y="192"/>
                </a:cubicBezTo>
                <a:cubicBezTo>
                  <a:pt x="424" y="144"/>
                  <a:pt x="272" y="32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50"/>
          <p:cNvSpPr/>
          <p:nvPr/>
        </p:nvSpPr>
        <p:spPr>
          <a:xfrm>
            <a:off x="6166800" y="2509920"/>
            <a:ext cx="162720" cy="31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56"/>
          <p:cNvSpPr/>
          <p:nvPr/>
        </p:nvSpPr>
        <p:spPr>
          <a:xfrm>
            <a:off x="3079800" y="1460520"/>
            <a:ext cx="380880" cy="76212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0" y="480"/>
                </a:moveTo>
                <a:cubicBezTo>
                  <a:pt x="52" y="400"/>
                  <a:pt x="104" y="320"/>
                  <a:pt x="144" y="240"/>
                </a:cubicBezTo>
                <a:cubicBezTo>
                  <a:pt x="184" y="160"/>
                  <a:pt x="212" y="80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57"/>
          <p:cNvSpPr/>
          <p:nvPr/>
        </p:nvSpPr>
        <p:spPr>
          <a:xfrm rot="18757200">
            <a:off x="5752800" y="1443240"/>
            <a:ext cx="380880" cy="76176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0" y="480"/>
                </a:moveTo>
                <a:cubicBezTo>
                  <a:pt x="52" y="400"/>
                  <a:pt x="104" y="320"/>
                  <a:pt x="144" y="240"/>
                </a:cubicBezTo>
                <a:cubicBezTo>
                  <a:pt x="184" y="160"/>
                  <a:pt x="212" y="80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8"/>
          <p:cNvSpPr/>
          <p:nvPr/>
        </p:nvSpPr>
        <p:spPr>
          <a:xfrm>
            <a:off x="6540480" y="3720960"/>
            <a:ext cx="250920" cy="282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9"/>
          <p:cNvSpPr/>
          <p:nvPr/>
        </p:nvSpPr>
        <p:spPr>
          <a:xfrm>
            <a:off x="8175600" y="5340240"/>
            <a:ext cx="250920" cy="282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61"/>
          <p:cNvSpPr/>
          <p:nvPr/>
        </p:nvSpPr>
        <p:spPr>
          <a:xfrm>
            <a:off x="6715080" y="3984480"/>
            <a:ext cx="1447920" cy="144792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0" y="0"/>
                </a:moveTo>
                <a:cubicBezTo>
                  <a:pt x="48" y="84"/>
                  <a:pt x="96" y="168"/>
                  <a:pt x="144" y="240"/>
                </a:cubicBezTo>
                <a:cubicBezTo>
                  <a:pt x="192" y="312"/>
                  <a:pt x="240" y="376"/>
                  <a:pt x="288" y="432"/>
                </a:cubicBezTo>
                <a:cubicBezTo>
                  <a:pt x="336" y="488"/>
                  <a:pt x="368" y="520"/>
                  <a:pt x="432" y="576"/>
                </a:cubicBezTo>
                <a:cubicBezTo>
                  <a:pt x="496" y="632"/>
                  <a:pt x="592" y="712"/>
                  <a:pt x="672" y="768"/>
                </a:cubicBezTo>
                <a:cubicBezTo>
                  <a:pt x="752" y="824"/>
                  <a:pt x="832" y="868"/>
                  <a:pt x="912" y="912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63"/>
          <p:cNvSpPr/>
          <p:nvPr/>
        </p:nvSpPr>
        <p:spPr>
          <a:xfrm>
            <a:off x="1044720" y="5568840"/>
            <a:ext cx="2590560" cy="266760"/>
          </a:xfrm>
          <a:custGeom>
            <a:avLst/>
            <a:gdLst/>
            <a:ahLst/>
            <a:rect l="l" t="t" r="r" b="b"/>
            <a:pathLst>
              <a:path w="1632" h="168">
                <a:moveTo>
                  <a:pt x="0" y="168"/>
                </a:moveTo>
                <a:cubicBezTo>
                  <a:pt x="172" y="108"/>
                  <a:pt x="344" y="48"/>
                  <a:pt x="528" y="24"/>
                </a:cubicBezTo>
                <a:cubicBezTo>
                  <a:pt x="712" y="0"/>
                  <a:pt x="920" y="0"/>
                  <a:pt x="1104" y="24"/>
                </a:cubicBezTo>
                <a:cubicBezTo>
                  <a:pt x="1288" y="48"/>
                  <a:pt x="1536" y="136"/>
                  <a:pt x="1632" y="16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64"/>
          <p:cNvSpPr/>
          <p:nvPr/>
        </p:nvSpPr>
        <p:spPr>
          <a:xfrm rot="362400">
            <a:off x="1851120" y="4565160"/>
            <a:ext cx="2209680" cy="292320"/>
          </a:xfrm>
          <a:custGeom>
            <a:avLst/>
            <a:gdLst/>
            <a:ahLst/>
            <a:rect l="l" t="t" r="r" b="b"/>
            <a:pathLst>
              <a:path w="1632" h="168">
                <a:moveTo>
                  <a:pt x="0" y="168"/>
                </a:moveTo>
                <a:cubicBezTo>
                  <a:pt x="172" y="108"/>
                  <a:pt x="344" y="48"/>
                  <a:pt x="528" y="24"/>
                </a:cubicBezTo>
                <a:cubicBezTo>
                  <a:pt x="712" y="0"/>
                  <a:pt x="920" y="0"/>
                  <a:pt x="1104" y="24"/>
                </a:cubicBezTo>
                <a:cubicBezTo>
                  <a:pt x="1288" y="48"/>
                  <a:pt x="1536" y="136"/>
                  <a:pt x="1632" y="16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65"/>
          <p:cNvSpPr/>
          <p:nvPr/>
        </p:nvSpPr>
        <p:spPr>
          <a:xfrm rot="496800">
            <a:off x="2406600" y="3571920"/>
            <a:ext cx="2057400" cy="230040"/>
          </a:xfrm>
          <a:custGeom>
            <a:avLst/>
            <a:gdLst/>
            <a:ahLst/>
            <a:rect l="l" t="t" r="r" b="b"/>
            <a:pathLst>
              <a:path w="1632" h="168">
                <a:moveTo>
                  <a:pt x="0" y="168"/>
                </a:moveTo>
                <a:cubicBezTo>
                  <a:pt x="172" y="108"/>
                  <a:pt x="344" y="48"/>
                  <a:pt x="528" y="24"/>
                </a:cubicBezTo>
                <a:cubicBezTo>
                  <a:pt x="712" y="0"/>
                  <a:pt x="920" y="0"/>
                  <a:pt x="1104" y="24"/>
                </a:cubicBezTo>
                <a:cubicBezTo>
                  <a:pt x="1288" y="48"/>
                  <a:pt x="1536" y="136"/>
                  <a:pt x="1632" y="16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66"/>
          <p:cNvSpPr/>
          <p:nvPr/>
        </p:nvSpPr>
        <p:spPr>
          <a:xfrm rot="742200">
            <a:off x="3119400" y="2251080"/>
            <a:ext cx="1863720" cy="257040"/>
          </a:xfrm>
          <a:custGeom>
            <a:avLst/>
            <a:gdLst/>
            <a:ahLst/>
            <a:rect l="l" t="t" r="r" b="b"/>
            <a:pathLst>
              <a:path w="1632" h="168">
                <a:moveTo>
                  <a:pt x="0" y="168"/>
                </a:moveTo>
                <a:cubicBezTo>
                  <a:pt x="172" y="108"/>
                  <a:pt x="344" y="48"/>
                  <a:pt x="528" y="24"/>
                </a:cubicBezTo>
                <a:cubicBezTo>
                  <a:pt x="712" y="0"/>
                  <a:pt x="920" y="0"/>
                  <a:pt x="1104" y="24"/>
                </a:cubicBezTo>
                <a:cubicBezTo>
                  <a:pt x="1288" y="48"/>
                  <a:pt x="1536" y="136"/>
                  <a:pt x="1632" y="16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67"/>
          <p:cNvSpPr/>
          <p:nvPr/>
        </p:nvSpPr>
        <p:spPr>
          <a:xfrm>
            <a:off x="3559320" y="561960"/>
            <a:ext cx="914400" cy="647640"/>
          </a:xfrm>
          <a:custGeom>
            <a:avLst/>
            <a:gdLst/>
            <a:ahLst/>
            <a:rect l="l" t="t" r="r" b="b"/>
            <a:pathLst>
              <a:path w="576" h="408">
                <a:moveTo>
                  <a:pt x="0" y="408"/>
                </a:moveTo>
                <a:cubicBezTo>
                  <a:pt x="60" y="320"/>
                  <a:pt x="120" y="232"/>
                  <a:pt x="192" y="168"/>
                </a:cubicBezTo>
                <a:cubicBezTo>
                  <a:pt x="264" y="104"/>
                  <a:pt x="368" y="48"/>
                  <a:pt x="432" y="24"/>
                </a:cubicBezTo>
                <a:cubicBezTo>
                  <a:pt x="496" y="0"/>
                  <a:pt x="536" y="12"/>
                  <a:pt x="57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8"/>
          <p:cNvSpPr/>
          <p:nvPr/>
        </p:nvSpPr>
        <p:spPr>
          <a:xfrm>
            <a:off x="60480" y="552132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نطف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9"/>
          <p:cNvSpPr/>
          <p:nvPr/>
        </p:nvSpPr>
        <p:spPr>
          <a:xfrm>
            <a:off x="533520" y="44100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طفول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0"/>
          <p:cNvSpPr/>
          <p:nvPr/>
        </p:nvSpPr>
        <p:spPr>
          <a:xfrm>
            <a:off x="838080" y="341964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رشد سر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1"/>
          <p:cNvSpPr/>
          <p:nvPr/>
        </p:nvSpPr>
        <p:spPr>
          <a:xfrm>
            <a:off x="2057400" y="2048040"/>
            <a:ext cx="914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بلو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2"/>
          <p:cNvSpPr/>
          <p:nvPr/>
        </p:nvSpPr>
        <p:spPr>
          <a:xfrm>
            <a:off x="1828800" y="10573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جواني (تكام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3"/>
          <p:cNvSpPr/>
          <p:nvPr/>
        </p:nvSpPr>
        <p:spPr>
          <a:xfrm>
            <a:off x="4289400" y="-936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ث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4"/>
          <p:cNvSpPr/>
          <p:nvPr/>
        </p:nvSpPr>
        <p:spPr>
          <a:xfrm>
            <a:off x="6019920" y="914400"/>
            <a:ext cx="121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اشرافي گ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5"/>
          <p:cNvSpPr/>
          <p:nvPr/>
        </p:nvSpPr>
        <p:spPr>
          <a:xfrm>
            <a:off x="6400800" y="20574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نزديك شده ب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ديوان سال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6"/>
          <p:cNvSpPr/>
          <p:nvPr/>
        </p:nvSpPr>
        <p:spPr>
          <a:xfrm>
            <a:off x="6934320" y="35812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ديوان سال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77"/>
          <p:cNvSpPr/>
          <p:nvPr/>
        </p:nvSpPr>
        <p:spPr>
          <a:xfrm>
            <a:off x="8458200" y="52578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مر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4483080" y="26668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پيري زودر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9"/>
          <p:cNvSpPr/>
          <p:nvPr/>
        </p:nvSpPr>
        <p:spPr>
          <a:xfrm>
            <a:off x="4317840" y="390852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تله موس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0"/>
          <p:cNvSpPr/>
          <p:nvPr/>
        </p:nvSpPr>
        <p:spPr>
          <a:xfrm>
            <a:off x="4191120" y="4876920"/>
            <a:ext cx="1676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مرگ در طفول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1"/>
          <p:cNvSpPr/>
          <p:nvPr/>
        </p:nvSpPr>
        <p:spPr>
          <a:xfrm>
            <a:off x="3505320" y="571500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رابطه نافرج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2"/>
          <p:cNvSpPr/>
          <p:nvPr/>
        </p:nvSpPr>
        <p:spPr>
          <a:xfrm>
            <a:off x="4683240" y="6172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3"/>
          <p:cNvSpPr/>
          <p:nvPr/>
        </p:nvSpPr>
        <p:spPr>
          <a:xfrm>
            <a:off x="1905120" y="639144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ر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4"/>
          <p:cNvSpPr/>
          <p:nvPr/>
        </p:nvSpPr>
        <p:spPr>
          <a:xfrm>
            <a:off x="6248520" y="64008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Yagut"/>
              </a:rPr>
              <a:t>پي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5"/>
          <p:cNvSpPr/>
          <p:nvPr/>
        </p:nvSpPr>
        <p:spPr>
          <a:xfrm>
            <a:off x="5562720" y="763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50021"/>
                </a:solidFill>
                <a:latin typeface="Times New Roman"/>
                <a:cs typeface="Yagut"/>
              </a:rPr>
              <a:t>ويژگي هاي دوره عمر سازما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90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1"/>
          <p:cNvSpPr/>
          <p:nvPr/>
        </p:nvSpPr>
        <p:spPr>
          <a:xfrm>
            <a:off x="1219320" y="632448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  <a:cs typeface="Yagut"/>
              </a:rPr>
              <a:t>مدل نظري طرح ريزي راهبردي (استراتژيك) منابع انسا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6878520" y="2689200"/>
            <a:ext cx="2210040" cy="3635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تجزيه و تحليل وضع موجو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نابع انساني در موسس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سطح خر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شرايط سني و زيست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سطح مهارت 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كارآئي و عملكر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پتانسيل هاي موجو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يزان رضايت كاركنا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توانائي مديرا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سطح كلا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جو رواني در سازما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ساختار سازمان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كيفيت زندگي كا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هزينه هاي پرسنل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6878520" y="555480"/>
            <a:ext cx="2210040" cy="2057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تجزيه و تحليل شراي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حي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جغرافيائ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اقتص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تكنولوژي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قانون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اجتماعي – فرهن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بازار كا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76320" y="1774800"/>
            <a:ext cx="1697040" cy="3276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– برنامه ريز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     خدمات و تام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      منابع انسان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– برنامه ريز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      آموزش و پرور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– برنامه ريز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      نگهداري مناب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      انسان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– برنامه ريز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      كاربرد موث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      منابع انسان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Yagut"/>
              </a:rPr>
              <a:t>       و روابط كا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2001960" y="1774800"/>
            <a:ext cx="99036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استراتژيها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نابع انسان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3220920" y="1774800"/>
            <a:ext cx="990720" cy="8380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هدف ها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استراتژي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4440240" y="1774800"/>
            <a:ext cx="990720" cy="838080"/>
          </a:xfrm>
          <a:prstGeom prst="rect">
            <a:avLst/>
          </a:prstGeom>
          <a:solidFill>
            <a:srgbClr val="ff4d4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لاحظات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استراتژي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8"/>
          <p:cNvSpPr/>
          <p:nvPr/>
        </p:nvSpPr>
        <p:spPr>
          <a:xfrm>
            <a:off x="5659560" y="1774800"/>
            <a:ext cx="99036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فرصت ها 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تهدي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4211640" y="3929040"/>
            <a:ext cx="1447920" cy="1143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نقاط ضعف و قو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نابع انساني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مؤسس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0"/>
          <p:cNvSpPr/>
          <p:nvPr/>
        </p:nvSpPr>
        <p:spPr>
          <a:xfrm>
            <a:off x="2300400" y="650880"/>
            <a:ext cx="1904760" cy="770040"/>
          </a:xfrm>
          <a:prstGeom prst="rect">
            <a:avLst/>
          </a:prstGeom>
          <a:solidFill>
            <a:srgbClr val="ff4d4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پيش بيني مناب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انساني مورد تقاض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1"/>
          <p:cNvSpPr/>
          <p:nvPr/>
        </p:nvSpPr>
        <p:spPr>
          <a:xfrm>
            <a:off x="4419720" y="174600"/>
            <a:ext cx="1904760" cy="770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تجزيه و تحليل اهدا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Yagut"/>
              </a:rPr>
              <a:t>و استراتژي هاي موسس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 flipH="1">
            <a:off x="5638320" y="451656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 flipV="1">
            <a:off x="4932360" y="2590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 flipH="1">
            <a:off x="6640200" y="21956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 flipH="1">
            <a:off x="5420880" y="21891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 flipH="1">
            <a:off x="4201920" y="21891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 flipH="1">
            <a:off x="2991960" y="21891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9"/>
          <p:cNvSpPr/>
          <p:nvPr/>
        </p:nvSpPr>
        <p:spPr>
          <a:xfrm flipH="1">
            <a:off x="914400" y="588816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40"/>
          <p:cNvSpPr/>
          <p:nvPr/>
        </p:nvSpPr>
        <p:spPr>
          <a:xfrm flipV="1">
            <a:off x="934920" y="5029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41"/>
          <p:cNvSpPr/>
          <p:nvPr/>
        </p:nvSpPr>
        <p:spPr>
          <a:xfrm flipV="1">
            <a:off x="2479680" y="25905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42"/>
          <p:cNvSpPr/>
          <p:nvPr/>
        </p:nvSpPr>
        <p:spPr>
          <a:xfrm flipV="1">
            <a:off x="3713040" y="25905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43"/>
          <p:cNvSpPr/>
          <p:nvPr/>
        </p:nvSpPr>
        <p:spPr>
          <a:xfrm flipV="1">
            <a:off x="934920" y="49176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44"/>
          <p:cNvSpPr/>
          <p:nvPr/>
        </p:nvSpPr>
        <p:spPr>
          <a:xfrm>
            <a:off x="914400" y="43020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45"/>
          <p:cNvSpPr/>
          <p:nvPr/>
        </p:nvSpPr>
        <p:spPr>
          <a:xfrm>
            <a:off x="4938840" y="93492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6"/>
          <p:cNvSpPr/>
          <p:nvPr/>
        </p:nvSpPr>
        <p:spPr>
          <a:xfrm>
            <a:off x="3713040" y="1427040"/>
            <a:ext cx="20880" cy="325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47"/>
          <p:cNvSpPr/>
          <p:nvPr/>
        </p:nvSpPr>
        <p:spPr>
          <a:xfrm>
            <a:off x="1773360" y="21891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50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mes New Roman"/>
                <a:cs typeface="Nazanin"/>
              </a:rPr>
              <a:t>توصیه های کاربردی</a:t>
            </a:r>
            <a:r>
              <a:rPr b="1" lang="fa-IR" sz="4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6" descr="Image result for question mark"/>
          <p:cNvPicPr/>
          <p:nvPr/>
        </p:nvPicPr>
        <p:blipFill>
          <a:blip r:embed="rId1"/>
          <a:stretch/>
        </p:blipFill>
        <p:spPr>
          <a:xfrm>
            <a:off x="3440160" y="2738520"/>
            <a:ext cx="1973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Yagut"/>
              </a:rPr>
              <a:t>عمل كردن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Yagu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Yagut"/>
              </a:rPr>
              <a:t>بدون اتكاء به نظريه،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Yagut"/>
              </a:rPr>
              <a:t>يك حركت و فعاليت كور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Yagut"/>
              </a:rPr>
              <a:t>و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Yagut"/>
              </a:rPr>
              <a:t>نظريه پردازي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Yagu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Yagut"/>
              </a:rPr>
              <a:t>بدون توجه به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Yagut"/>
              </a:rPr>
              <a:t>واقعيت ها نيز تنها يك بازي ذهني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Yagu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Yagut"/>
              </a:rPr>
              <a:t>است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"/>
          <p:cNvSpPr/>
          <p:nvPr/>
        </p:nvSpPr>
        <p:spPr>
          <a:xfrm>
            <a:off x="228600" y="304920"/>
            <a:ext cx="8686800" cy="6248160"/>
          </a:xfrm>
          <a:prstGeom prst="bevel">
            <a:avLst>
              <a:gd name="adj" fmla="val 2500"/>
            </a:avLst>
          </a:prstGeom>
          <a:solidFill>
            <a:srgbClr val="ccc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عن اميرِالمؤمِنيِن علِي ابنِ ابيطالِب عليهِ الس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حيِلة فائِدة الفِكرِ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Yagut"/>
              </a:rPr>
              <a:t>راه يابي و چاره انديش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Yagut"/>
              </a:rPr>
              <a:t>ثمره فكر كردن است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Yagut"/>
              </a:rPr>
              <a:t>غرر الحكم – ج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Yagut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Yagut"/>
              </a:rPr>
              <a:t>- ص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Yagut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Yagut"/>
              </a:rPr>
              <a:t>انديشه هاي تازه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Yagut"/>
              </a:rPr>
              <a:t>زندگي نو مي سازد</a:t>
            </a:r>
            <a:br>
              <a:rPr sz="7200"/>
            </a:br>
            <a:br>
              <a:rPr sz="6000"/>
            </a:b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Yagut"/>
              </a:rPr>
              <a:t>نوانديشي = نوزيست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33200" y="1600200"/>
          <a:ext cx="8858520" cy="4541760"/>
        </p:xfrm>
        <a:graphic>
          <a:graphicData uri="http://schemas.openxmlformats.org/drawingml/2006/table">
            <a:tbl>
              <a:tblPr/>
              <a:tblGrid>
                <a:gridCol w="3905280"/>
                <a:gridCol w="3810240"/>
                <a:gridCol w="1143000"/>
              </a:tblGrid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مديريت منابع انساني با نگرش كيفيت جام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مديريت منابع انساني با نگرش سنت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فرآيند و محتو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تاكيد بر مشاوره و رايزني غير متمر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رها كردن و دادن آزادي 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تاكيد بر پرورش و بهساز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تاكيد بر سلسله مراتب متمر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كشيدن كاركنان به سوي اهدا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تاكيد بر نظم اد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فرآين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984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متكي بر جم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يكپارچگي مسئولي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متكي بر كاركن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ارزيابي رضاي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مبتني بر فر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متكي بر فر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تفكيك وظا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متكي بر ساخت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ارزيابي عملكر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مبتني بر شغ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Yagut"/>
                        </a:rPr>
                        <a:t>محت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c1e66"/>
                </a:solidFill>
                <a:latin typeface="Times New Roman"/>
                <a:cs typeface="Yagut"/>
              </a:rPr>
              <a:t>مقايسه فرآيند و محتوي در دو نگرش</a:t>
            </a:r>
            <a:br>
              <a:rPr sz="2800"/>
            </a:br>
            <a:r>
              <a:rPr b="1" lang="ar-SA" sz="2800" spc="-1" strike="noStrike">
                <a:solidFill>
                  <a:srgbClr val="1c1e66"/>
                </a:solidFill>
                <a:latin typeface="Times New Roman"/>
                <a:cs typeface="Yagut"/>
              </a:rPr>
              <a:t>سنتي </a:t>
            </a:r>
            <a:r>
              <a:rPr b="1" lang="en-US" sz="2800" spc="-1" strike="noStrike">
                <a:solidFill>
                  <a:srgbClr val="1c1e66"/>
                </a:solidFill>
                <a:latin typeface="Times New Roman"/>
                <a:ea typeface="Yagut"/>
              </a:rPr>
              <a:t>(</a:t>
            </a:r>
            <a:r>
              <a:rPr b="1" lang="en-US" sz="2800" spc="-1" strike="noStrike">
                <a:solidFill>
                  <a:srgbClr val="1c1e66"/>
                </a:solidFill>
                <a:latin typeface="Times New Roman"/>
                <a:ea typeface="Yagut"/>
              </a:rPr>
              <a:t>Traditional</a:t>
            </a:r>
            <a:r>
              <a:rPr b="1" lang="en-US" sz="2800" spc="-1" strike="noStrike">
                <a:solidFill>
                  <a:srgbClr val="1c1e66"/>
                </a:solidFill>
                <a:latin typeface="Times New Roman"/>
                <a:ea typeface="Yagut"/>
              </a:rPr>
              <a:t>)</a:t>
            </a:r>
            <a:r>
              <a:rPr b="1" lang="ar-SA" sz="2800" spc="-1" strike="noStrike">
                <a:solidFill>
                  <a:srgbClr val="1c1e66"/>
                </a:solidFill>
                <a:latin typeface="Times New Roman"/>
                <a:ea typeface="Yagut"/>
              </a:rPr>
              <a:t> و مبتني بر كيفيت جامع </a:t>
            </a:r>
            <a:r>
              <a:rPr b="1" lang="en-US" sz="2800" spc="-1" strike="noStrike">
                <a:solidFill>
                  <a:srgbClr val="1c1e66"/>
                </a:solidFill>
                <a:latin typeface="Times New Roman"/>
                <a:ea typeface="Yagut"/>
              </a:rPr>
              <a:t>(</a:t>
            </a:r>
            <a:r>
              <a:rPr b="1" lang="en-US" sz="2800" spc="-1" strike="noStrike">
                <a:solidFill>
                  <a:srgbClr val="1c1e66"/>
                </a:solidFill>
                <a:latin typeface="Times New Roman"/>
                <a:ea typeface="Yagut"/>
              </a:rPr>
              <a:t>TQHRM</a:t>
            </a:r>
            <a:r>
              <a:rPr b="1" lang="en-US" sz="2800" spc="-1" strike="noStrike">
                <a:solidFill>
                  <a:srgbClr val="1c1e66"/>
                </a:solidFill>
                <a:latin typeface="Times New Roman"/>
                <a:ea typeface="Yagu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35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Nazanin"/>
              </a:rPr>
              <a:t>مفاهيم كليد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حاكميت شركتي و تفاوت آن با مديريت شركت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استراتژي هاي سازمان در بكارگيري حاكميت شركتي در سيستم مديريت منابع انسان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Image result for corporate governance icon"/>
          <p:cNvPicPr/>
          <p:nvPr/>
        </p:nvPicPr>
        <p:blipFill>
          <a:blip r:embed="rId1"/>
          <a:stretch/>
        </p:blipFill>
        <p:spPr>
          <a:xfrm>
            <a:off x="2916360" y="4057560"/>
            <a:ext cx="30016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Times New Roman"/>
                <a:cs typeface="Nazanin"/>
              </a:rPr>
              <a:t>آثار نگرش هاي فلسفي </a:t>
            </a:r>
            <a:br>
              <a:rPr sz="4000"/>
            </a:br>
            <a:r>
              <a:rPr b="0" lang="fa-IR" sz="4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حاكميت شركتي و مديريت منابع انساني</a:t>
            </a:r>
            <a:r>
              <a:rPr b="0" lang="fa-IR" sz="40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فلسفه ارتودوكسي(کمترین مشارکت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فلسفه مشاركت محد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فلسفه مشاركت وس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Image result for participation"/>
          <p:cNvPicPr/>
          <p:nvPr/>
        </p:nvPicPr>
        <p:blipFill>
          <a:blip r:embed="rId1"/>
          <a:stretch/>
        </p:blipFill>
        <p:spPr>
          <a:xfrm>
            <a:off x="1854360" y="3846600"/>
            <a:ext cx="444636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Times New Roman"/>
                <a:cs typeface="Nazanin"/>
              </a:rPr>
              <a:t>تئوري هاي حاكميت شركتي</a:t>
            </a:r>
            <a:r>
              <a:rPr b="0" lang="fa-IR" sz="4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تئوري نمايندگي (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Agency Theory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تئوري مسئوليت و استقلال مديريت (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Stowardship Theory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تئوری پاسخگویی جمعی (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Sakeholder Theory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تئوری متکی بودن بر منابع (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Resource Dependence Theory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Nazanin"/>
              </a:rPr>
              <a:t>بکارگیری حاکمیت شرکتی در شرکت های بزرگ </a:t>
            </a:r>
            <a:r>
              <a:rPr b="1" lang="fa-IR" sz="3600" spc="-1" strike="noStrike">
                <a:solidFill>
                  <a:srgbClr val="ff0000"/>
                </a:solidFill>
                <a:latin typeface="Times New Roman"/>
                <a:cs typeface="Nazanin"/>
              </a:rPr>
              <a:t>در شرایط تغییر و تحول</a:t>
            </a:r>
            <a:br>
              <a:rPr sz="3600"/>
            </a:b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حوزه مدیریت منابع انسان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8920" y="2133720"/>
            <a:ext cx="820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استراتژی های تامین و تعدیل منابع انسان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استراتژی های نگهداری منابع انسان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استراتژی های بهسازی و آموزش منابع انسانی ،مدیریت عملکرد (توانمند سازی منابع انسانی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استراتژی های بکارگیری منابع اسانی (در مسیر کار راهه های شغلی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9T09:25:02Z</dcterms:created>
  <dc:creator>Pooya Javanbakht</dc:creator>
  <dc:description/>
  <dc:language>en-US</dc:language>
  <cp:lastModifiedBy>Lenovo</cp:lastModifiedBy>
  <cp:lastPrinted>2017-02-20T05:06:32Z</cp:lastPrinted>
  <dcterms:modified xsi:type="dcterms:W3CDTF">2017-02-19T18:08:28Z</dcterms:modified>
  <cp:revision>657</cp:revision>
  <dc:subject/>
  <dc:title>مديريت منابع انساني رويكردي استراتژيك</dc:title>
</cp:coreProperties>
</file>