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2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21.png" ContentType="image/png"/>
  <Override PartName="/ppt/media/image20.png" ContentType="image/png"/>
  <Override PartName="/ppt/media/image2.jpeg" ContentType="image/jpeg"/>
  <Override PartName="/ppt/media/image19.wmf" ContentType="image/x-wmf"/>
  <Override PartName="/ppt/media/image18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media/image4.jpeg" ContentType="image/jpeg"/>
  <Override PartName="/ppt/media/image6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92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88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94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93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93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94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</p:sldIdLst>
  <p:sldSz cx="9144000" cy="6858000"/>
  <p:notesSz cx="6796088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0DC1C-548E-470F-A8C1-C9AF24786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852F5-294C-48A0-971C-4DE7CAF02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9B5F0-32D3-4D9B-8336-389D714FB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5F297-A8BE-46AD-B450-77A3071F4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E03BC-D50F-4C9F-8B34-CC4951171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E8AFF-C475-43BF-AB5D-D9FC659D0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811A8-D0BE-44A6-89DB-7838AE983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E3856-979C-4871-928E-DD3F4D768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6A44F-7E74-4DB0-83B2-83E319D47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B6B18-08BF-4207-A035-B079BC4D6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9582F-6585-436D-8FAD-EC5940009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1B230-FE2F-44E2-B418-D03ED1DB6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E5852-831B-42F1-94A3-90835C009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C5F3D-D14B-4934-87B4-E33E8BA7A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CDF2B-DFA2-4129-B79F-EFD31509E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D00ED-C8F6-4EC8-A3D2-E1EE010FD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FBE67-254D-41DF-B80A-ECA8145E4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DBDFC-C04F-4471-8F16-53F8691EC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5DD33-6E7E-420A-92D6-DAA6F7C50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09A95-E6D7-4F05-9E53-98EB8B8B1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95FFF-2759-49E9-9F94-22B2A7BBC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0F183-3F37-4B42-AD0C-6F230DB1D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E960A-58A0-49C9-A969-A1877A80C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A78F7-30CF-4900-82A3-713118AA6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542DB-FD91-4AF1-B279-ACCC4EC3A7F5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A359E-50F0-4106-A864-43A565283331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image" Target="../media/image20.png"/><Relationship Id="rId5" Type="http://schemas.openxmlformats.org/officeDocument/2006/relationships/image" Target="../media/image20.png"/><Relationship Id="rId6" Type="http://schemas.openxmlformats.org/officeDocument/2006/relationships/image" Target="../media/image20.png"/><Relationship Id="rId7" Type="http://schemas.openxmlformats.org/officeDocument/2006/relationships/image" Target="../media/image20.png"/><Relationship Id="rId8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Picture1"/>
          <p:cNvPicPr/>
          <p:nvPr/>
        </p:nvPicPr>
        <p:blipFill>
          <a:blip r:embed="rId1"/>
          <a:stretch/>
        </p:blipFill>
        <p:spPr>
          <a:xfrm>
            <a:off x="0" y="-11160"/>
            <a:ext cx="9144000" cy="70120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6_besme1"/>
          <p:cNvPicPr/>
          <p:nvPr/>
        </p:nvPicPr>
        <p:blipFill>
          <a:blip r:embed="rId2"/>
          <a:stretch/>
        </p:blipFill>
        <p:spPr>
          <a:xfrm>
            <a:off x="3286080" y="285840"/>
            <a:ext cx="2592360" cy="318744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00"/>
                </a:solidFill>
                <a:latin typeface="Arial"/>
                <a:cs typeface="B Zar"/>
              </a:rPr>
              <a:t>مسئله د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Content Placeholder 2"/>
          <p:cNvSpPr/>
          <p:nvPr/>
        </p:nvSpPr>
        <p:spPr>
          <a:xfrm>
            <a:off x="270000" y="1844640"/>
            <a:ext cx="8604000" cy="10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2000"/>
          </a:bodyPr>
          <a:p>
            <a:pPr algn="just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000" spc="-1" strike="noStrike">
                <a:solidFill>
                  <a:srgbClr val="c00000"/>
                </a:solidFill>
                <a:latin typeface="Arial"/>
                <a:cs typeface="B Titr"/>
              </a:rPr>
              <a:t>ضعف نظام آموزش و توانمندسازی منابع انسان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4" descr=""/>
          <p:cNvPicPr/>
          <p:nvPr/>
        </p:nvPicPr>
        <p:blipFill>
          <a:blip r:embed="rId1"/>
          <a:stretch/>
        </p:blipFill>
        <p:spPr>
          <a:xfrm>
            <a:off x="-1440" y="6656400"/>
            <a:ext cx="841320" cy="201600"/>
          </a:xfrm>
          <a:prstGeom prst="rect">
            <a:avLst/>
          </a:prstGeom>
          <a:ln w="0">
            <a:noFill/>
          </a:ln>
        </p:spPr>
      </p:pic>
      <p:sp>
        <p:nvSpPr>
          <p:cNvPr id="112" name="TextBox 4"/>
          <p:cNvSpPr/>
          <p:nvPr/>
        </p:nvSpPr>
        <p:spPr>
          <a:xfrm>
            <a:off x="1979640" y="3500280"/>
            <a:ext cx="60181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Zar"/>
              </a:rPr>
              <a:t>1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Zar"/>
              </a:rPr>
              <a:t>-فقدان نیروی توانمند و ماه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Zar"/>
              </a:rPr>
              <a:t>2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Zar"/>
              </a:rPr>
              <a:t>- عدم ارتباط منطقی بین شغل و شاغ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Zar"/>
              </a:rPr>
              <a:t>3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Zar"/>
              </a:rPr>
              <a:t>- کاهش انگیزه کار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Zar"/>
              </a:rPr>
              <a:t>4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Zar"/>
              </a:rPr>
              <a:t>- عدم احراز مشاغل بالات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-125640" y="-1193760"/>
            <a:ext cx="923436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7030a0"/>
                </a:solidFill>
                <a:latin typeface="Arial"/>
                <a:cs typeface="B Titr"/>
              </a:rPr>
              <a:t>خط مشی اساسی آموزش، توانمندسازی و توسعه منابع انسان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11160" y="2923920"/>
            <a:ext cx="8826480" cy="19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  <a:cs typeface="B Homa"/>
              </a:rPr>
              <a:t>هدف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50000"/>
              </a:lnSpc>
              <a:spcBef>
                <a:spcPts val="700"/>
              </a:spcBef>
              <a:buClr>
                <a:srgbClr val="d6ece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  <a:cs typeface="B Homa"/>
              </a:rPr>
              <a:t>بهبود آگاهی وتوانمندی های کارکنان درمواجهه با نیازمندی های تغییرات فزاینده پیچیده ومتنو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50000"/>
              </a:lnSpc>
              <a:spcBef>
                <a:spcPts val="700"/>
              </a:spcBef>
              <a:buClr>
                <a:srgbClr val="d6ece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  <a:cs typeface="B Homa"/>
              </a:rPr>
              <a:t>دادن فرصت هایی به کارکنان از طریق کارشان وایجاد انگیز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115" name="Straight Arrow Connector 41"/>
          <p:cNvCxnSpPr>
            <a:stCxn id="116" idx="3"/>
            <a:endCxn id="117" idx="1"/>
          </p:cNvCxnSpPr>
          <p:nvPr/>
        </p:nvCxnSpPr>
        <p:spPr>
          <a:xfrm>
            <a:off x="3222720" y="3085920"/>
            <a:ext cx="364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" name="Straight Arrow Connector 43"/>
          <p:cNvCxnSpPr>
            <a:stCxn id="119" idx="3"/>
            <a:endCxn id="120" idx="1"/>
          </p:cNvCxnSpPr>
          <p:nvPr/>
        </p:nvCxnSpPr>
        <p:spPr>
          <a:xfrm>
            <a:off x="3222720" y="3908160"/>
            <a:ext cx="364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1" name="Straight Arrow Connector 48"/>
          <p:cNvCxnSpPr>
            <a:stCxn id="117" idx="3"/>
            <a:endCxn id="122" idx="1"/>
          </p:cNvCxnSpPr>
          <p:nvPr/>
        </p:nvCxnSpPr>
        <p:spPr>
          <a:xfrm>
            <a:off x="4954680" y="3085920"/>
            <a:ext cx="405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Straight Arrow Connector 50"/>
          <p:cNvCxnSpPr>
            <a:stCxn id="120" idx="3"/>
            <a:endCxn id="124" idx="1"/>
          </p:cNvCxnSpPr>
          <p:nvPr/>
        </p:nvCxnSpPr>
        <p:spPr>
          <a:xfrm>
            <a:off x="4954680" y="3908160"/>
            <a:ext cx="405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25" name="Group 76"/>
          <p:cNvGrpSpPr/>
          <p:nvPr/>
        </p:nvGrpSpPr>
        <p:grpSpPr>
          <a:xfrm>
            <a:off x="179280" y="2077920"/>
            <a:ext cx="8137800" cy="4654440"/>
            <a:chOff x="179280" y="2077920"/>
            <a:chExt cx="8137800" cy="4654440"/>
          </a:xfrm>
        </p:grpSpPr>
        <p:grpSp>
          <p:nvGrpSpPr>
            <p:cNvPr id="126" name="Group 39"/>
            <p:cNvGrpSpPr/>
            <p:nvPr/>
          </p:nvGrpSpPr>
          <p:grpSpPr>
            <a:xfrm>
              <a:off x="179280" y="2077920"/>
              <a:ext cx="8137800" cy="4654440"/>
              <a:chOff x="179280" y="2077920"/>
              <a:chExt cx="8137800" cy="4654440"/>
            </a:xfrm>
          </p:grpSpPr>
          <p:grpSp>
            <p:nvGrpSpPr>
              <p:cNvPr id="127" name="Group 26"/>
              <p:cNvGrpSpPr/>
              <p:nvPr/>
            </p:nvGrpSpPr>
            <p:grpSpPr>
              <a:xfrm>
                <a:off x="179280" y="2077920"/>
                <a:ext cx="8137800" cy="4654440"/>
                <a:chOff x="179280" y="2077920"/>
                <a:chExt cx="8137800" cy="4654440"/>
              </a:xfrm>
            </p:grpSpPr>
            <p:grpSp>
              <p:nvGrpSpPr>
                <p:cNvPr id="128" name="Group 24"/>
                <p:cNvGrpSpPr/>
                <p:nvPr/>
              </p:nvGrpSpPr>
              <p:grpSpPr>
                <a:xfrm>
                  <a:off x="2038320" y="2077920"/>
                  <a:ext cx="6278760" cy="4654440"/>
                  <a:chOff x="2038320" y="2077920"/>
                  <a:chExt cx="6278760" cy="4654440"/>
                </a:xfrm>
              </p:grpSpPr>
              <p:sp>
                <p:nvSpPr>
                  <p:cNvPr id="129" name="TextBox 6"/>
                  <p:cNvSpPr/>
                  <p:nvPr/>
                </p:nvSpPr>
                <p:spPr>
                  <a:xfrm>
                    <a:off x="2038320" y="2077920"/>
                    <a:ext cx="1152360" cy="368280"/>
                  </a:xfrm>
                  <a:prstGeom prst="rect">
                    <a:avLst/>
                  </a:prstGeom>
                  <a:solidFill>
                    <a:srgbClr val="d1d1f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a-IR" sz="1800" spc="-1" strike="noStrike">
                        <a:solidFill>
                          <a:srgbClr val="000000"/>
                        </a:solidFill>
                        <a:latin typeface="Arial"/>
                        <a:cs typeface="B Titr"/>
                      </a:rPr>
                      <a:t>رویکرد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TextBox 9"/>
                  <p:cNvSpPr/>
                  <p:nvPr/>
                </p:nvSpPr>
                <p:spPr>
                  <a:xfrm>
                    <a:off x="2070000" y="2901600"/>
                    <a:ext cx="1152360" cy="368280"/>
                  </a:xfrm>
                  <a:prstGeom prst="rect">
                    <a:avLst/>
                  </a:prstGeom>
                  <a:solidFill>
                    <a:srgbClr val="d1d1f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a-IR" sz="1800" spc="-1" strike="noStrike">
                        <a:solidFill>
                          <a:srgbClr val="000000"/>
                        </a:solidFill>
                        <a:latin typeface="Arial"/>
                        <a:cs typeface="B Titr"/>
                      </a:rPr>
                      <a:t>ارتباطی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" name="TextBox 12"/>
                  <p:cNvSpPr/>
                  <p:nvPr/>
                </p:nvSpPr>
                <p:spPr>
                  <a:xfrm>
                    <a:off x="2070000" y="3724200"/>
                    <a:ext cx="1152360" cy="368280"/>
                  </a:xfrm>
                  <a:prstGeom prst="rect">
                    <a:avLst/>
                  </a:prstGeom>
                  <a:solidFill>
                    <a:srgbClr val="d1d1f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a-IR" sz="1800" spc="-1" strike="noStrike">
                        <a:solidFill>
                          <a:srgbClr val="000000"/>
                        </a:solidFill>
                        <a:latin typeface="Arial"/>
                        <a:cs typeface="B Titr"/>
                      </a:rPr>
                      <a:t>انگیزشی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TextBox 15"/>
                  <p:cNvSpPr/>
                  <p:nvPr/>
                </p:nvSpPr>
                <p:spPr>
                  <a:xfrm>
                    <a:off x="2038320" y="4572000"/>
                    <a:ext cx="1152360" cy="368280"/>
                  </a:xfrm>
                  <a:prstGeom prst="rect">
                    <a:avLst/>
                  </a:prstGeom>
                  <a:solidFill>
                    <a:srgbClr val="d1d1f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a-IR" sz="1800" spc="-1" strike="noStrike">
                        <a:solidFill>
                          <a:srgbClr val="000000"/>
                        </a:solidFill>
                        <a:latin typeface="Arial"/>
                        <a:cs typeface="B Titr"/>
                      </a:rPr>
                      <a:t>شناختی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31" name="Group 23"/>
                  <p:cNvGrpSpPr/>
                  <p:nvPr/>
                </p:nvGrpSpPr>
                <p:grpSpPr>
                  <a:xfrm>
                    <a:off x="3586320" y="2077920"/>
                    <a:ext cx="4730760" cy="4654440"/>
                    <a:chOff x="3586320" y="2077920"/>
                    <a:chExt cx="4730760" cy="4654440"/>
                  </a:xfrm>
                </p:grpSpPr>
                <p:sp>
                  <p:nvSpPr>
                    <p:cNvPr id="132" name="TextBox 7"/>
                    <p:cNvSpPr/>
                    <p:nvPr/>
                  </p:nvSpPr>
                  <p:spPr>
                    <a:xfrm>
                      <a:off x="3586320" y="2077920"/>
                      <a:ext cx="1368360" cy="368280"/>
                    </a:xfrm>
                    <a:prstGeom prst="rect">
                      <a:avLst/>
                    </a:prstGeom>
                    <a:solidFill>
                      <a:srgbClr val="d1d1f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000000"/>
                          </a:solidFill>
                          <a:latin typeface="Arial"/>
                          <a:cs typeface="B Titr"/>
                        </a:rPr>
                        <a:t>هد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3" name="TextBox 8"/>
                    <p:cNvSpPr/>
                    <p:nvPr/>
                  </p:nvSpPr>
                  <p:spPr>
                    <a:xfrm>
                      <a:off x="5351400" y="2077920"/>
                      <a:ext cx="1655640" cy="368280"/>
                    </a:xfrm>
                    <a:prstGeom prst="rect">
                      <a:avLst/>
                    </a:prstGeom>
                    <a:solidFill>
                      <a:srgbClr val="d1d1f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000000"/>
                          </a:solidFill>
                          <a:latin typeface="Arial"/>
                          <a:cs typeface="B Titr"/>
                        </a:rPr>
                        <a:t>استراتژ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" name="TextBox 10"/>
                    <p:cNvSpPr/>
                    <p:nvPr/>
                  </p:nvSpPr>
                  <p:spPr>
                    <a:xfrm>
                      <a:off x="3586320" y="2901600"/>
                      <a:ext cx="1368360" cy="642600"/>
                    </a:xfrm>
                    <a:prstGeom prst="rect">
                      <a:avLst/>
                    </a:prstGeom>
                    <a:solidFill>
                      <a:srgbClr val="d1d1f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000000"/>
                          </a:solidFill>
                          <a:latin typeface="Arial"/>
                          <a:cs typeface="B Titr"/>
                        </a:rPr>
                        <a:t>قدرتمندساز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2" name="TextBox 11"/>
                    <p:cNvSpPr/>
                    <p:nvPr/>
                  </p:nvSpPr>
                  <p:spPr>
                    <a:xfrm>
                      <a:off x="5359680" y="2901600"/>
                      <a:ext cx="1647720" cy="368280"/>
                    </a:xfrm>
                    <a:prstGeom prst="rect">
                      <a:avLst/>
                    </a:prstGeom>
                    <a:solidFill>
                      <a:srgbClr val="d1d1f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000000"/>
                          </a:solidFill>
                          <a:latin typeface="Arial"/>
                          <a:cs typeface="B Titr"/>
                        </a:rPr>
                        <a:t>توزیع قدرت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0" name="TextBox 13"/>
                    <p:cNvSpPr/>
                    <p:nvPr/>
                  </p:nvSpPr>
                  <p:spPr>
                    <a:xfrm>
                      <a:off x="3586320" y="3724200"/>
                      <a:ext cx="1368360" cy="368280"/>
                    </a:xfrm>
                    <a:prstGeom prst="rect">
                      <a:avLst/>
                    </a:prstGeom>
                    <a:solidFill>
                      <a:srgbClr val="d1d1f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000000"/>
                          </a:solidFill>
                          <a:latin typeface="Arial"/>
                          <a:cs typeface="B Titr"/>
                        </a:rPr>
                        <a:t>تواناساز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4" name="TextBox 14"/>
                    <p:cNvSpPr/>
                    <p:nvPr/>
                  </p:nvSpPr>
                  <p:spPr>
                    <a:xfrm>
                      <a:off x="5359680" y="3724200"/>
                      <a:ext cx="1647720" cy="642600"/>
                    </a:xfrm>
                    <a:prstGeom prst="rect">
                      <a:avLst/>
                    </a:prstGeom>
                    <a:solidFill>
                      <a:srgbClr val="d1d1f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000000"/>
                          </a:solidFill>
                          <a:latin typeface="Arial"/>
                          <a:cs typeface="B Titr"/>
                        </a:rPr>
                        <a:t>تقویت کفایت نف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4" name="TextBox 16"/>
                    <p:cNvSpPr/>
                    <p:nvPr/>
                  </p:nvSpPr>
                  <p:spPr>
                    <a:xfrm>
                      <a:off x="3586320" y="4548240"/>
                      <a:ext cx="1562040" cy="916920"/>
                    </a:xfrm>
                    <a:prstGeom prst="rect">
                      <a:avLst/>
                    </a:prstGeom>
                    <a:solidFill>
                      <a:srgbClr val="d1d1f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000000"/>
                          </a:solidFill>
                          <a:latin typeface="Arial"/>
                          <a:cs typeface="B Titr"/>
                        </a:rPr>
                        <a:t>افزایش انگیزش درونی وظای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35" name="Group 22"/>
                    <p:cNvGrpSpPr/>
                    <p:nvPr/>
                  </p:nvGrpSpPr>
                  <p:grpSpPr>
                    <a:xfrm>
                      <a:off x="5960160" y="4299120"/>
                      <a:ext cx="2356920" cy="2433240"/>
                      <a:chOff x="5960160" y="4299120"/>
                      <a:chExt cx="2356920" cy="2433240"/>
                    </a:xfrm>
                  </p:grpSpPr>
                  <p:sp>
                    <p:nvSpPr>
                      <p:cNvPr id="136" name="TextBox 17"/>
                      <p:cNvSpPr/>
                      <p:nvPr/>
                    </p:nvSpPr>
                    <p:spPr>
                      <a:xfrm>
                        <a:off x="5982120" y="4299120"/>
                        <a:ext cx="2052360" cy="307080"/>
                      </a:xfrm>
                      <a:prstGeom prst="rect">
                        <a:avLst/>
                      </a:prstGeom>
                      <a:solidFill>
                        <a:srgbClr val="d1d1f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fa-IR" sz="1400" spc="-1" strike="noStrike">
                            <a:solidFill>
                              <a:srgbClr val="000000"/>
                            </a:solidFill>
                            <a:latin typeface="Arial"/>
                            <a:cs typeface="B Titr"/>
                          </a:rPr>
                          <a:t>احساس مؤثر بودن</a:t>
                        </a:r>
                        <a:endParaRPr b="0" lang="en-US" sz="1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7" name="TextBox 18"/>
                      <p:cNvSpPr/>
                      <p:nvPr/>
                    </p:nvSpPr>
                    <p:spPr>
                      <a:xfrm>
                        <a:off x="5982120" y="4813200"/>
                        <a:ext cx="2061720" cy="307080"/>
                      </a:xfrm>
                      <a:prstGeom prst="rect">
                        <a:avLst/>
                      </a:prstGeom>
                      <a:solidFill>
                        <a:srgbClr val="d1d1f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fa-IR" sz="1400" spc="-1" strike="noStrike">
                            <a:solidFill>
                              <a:srgbClr val="000000"/>
                            </a:solidFill>
                            <a:latin typeface="Arial"/>
                            <a:cs typeface="B Titr"/>
                          </a:rPr>
                          <a:t>احساس شایستگی</a:t>
                        </a:r>
                        <a:endParaRPr b="0" lang="en-US" sz="1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8" name="TextBox 19"/>
                      <p:cNvSpPr/>
                      <p:nvPr/>
                    </p:nvSpPr>
                    <p:spPr>
                      <a:xfrm>
                        <a:off x="5985360" y="5316480"/>
                        <a:ext cx="2058840" cy="307080"/>
                      </a:xfrm>
                      <a:prstGeom prst="rect">
                        <a:avLst/>
                      </a:prstGeom>
                      <a:solidFill>
                        <a:srgbClr val="d1d1f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fa-IR" sz="1400" spc="-1" strike="noStrike">
                            <a:solidFill>
                              <a:srgbClr val="000000"/>
                            </a:solidFill>
                            <a:latin typeface="Arial"/>
                            <a:cs typeface="B Titr"/>
                          </a:rPr>
                          <a:t>معناداری</a:t>
                        </a:r>
                        <a:endParaRPr b="0" lang="en-US" sz="1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9" name="TextBox 20"/>
                      <p:cNvSpPr/>
                      <p:nvPr/>
                    </p:nvSpPr>
                    <p:spPr>
                      <a:xfrm>
                        <a:off x="5974200" y="5764320"/>
                        <a:ext cx="2060280" cy="307080"/>
                      </a:xfrm>
                      <a:prstGeom prst="rect">
                        <a:avLst/>
                      </a:prstGeom>
                      <a:solidFill>
                        <a:srgbClr val="d1d1f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fa-IR" sz="1400" spc="-1" strike="noStrike">
                            <a:solidFill>
                              <a:srgbClr val="000000"/>
                            </a:solidFill>
                            <a:latin typeface="Arial"/>
                            <a:cs typeface="B Titr"/>
                          </a:rPr>
                          <a:t>حق انتخاب</a:t>
                        </a:r>
                        <a:endParaRPr b="0" lang="en-US" sz="1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0" name="TextBox 21"/>
                      <p:cNvSpPr/>
                      <p:nvPr/>
                    </p:nvSpPr>
                    <p:spPr>
                      <a:xfrm>
                        <a:off x="5960160" y="6212160"/>
                        <a:ext cx="2356920" cy="520200"/>
                      </a:xfrm>
                      <a:prstGeom prst="rect">
                        <a:avLst/>
                      </a:prstGeom>
                      <a:solidFill>
                        <a:srgbClr val="d1d1f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fa-IR" sz="1400" spc="-1" strike="noStrike">
                            <a:solidFill>
                              <a:srgbClr val="000000"/>
                            </a:solidFill>
                            <a:latin typeface="Arial"/>
                            <a:cs typeface="B Titr"/>
                          </a:rPr>
                          <a:t>احساس اعتماد داشتن به دیگران</a:t>
                        </a:r>
                        <a:endParaRPr b="0" lang="en-US" sz="1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sp>
              <p:nvSpPr>
                <p:cNvPr id="141" name="TextBox 25"/>
                <p:cNvSpPr/>
                <p:nvPr/>
              </p:nvSpPr>
              <p:spPr>
                <a:xfrm>
                  <a:off x="179280" y="3720960"/>
                  <a:ext cx="1468440" cy="368280"/>
                </a:xfrm>
                <a:prstGeom prst="rect">
                  <a:avLst/>
                </a:prstGeom>
                <a:solidFill>
                  <a:srgbClr val="d1d1f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a-IR" sz="1800" spc="-1" strike="noStrike">
                      <a:solidFill>
                        <a:srgbClr val="000000"/>
                      </a:solidFill>
                      <a:latin typeface="Arial"/>
                      <a:cs typeface="B Titr"/>
                    </a:rPr>
                    <a:t>توانمندسازی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2" name="Straight Connector 28"/>
              <p:cNvSpPr/>
              <p:nvPr/>
            </p:nvSpPr>
            <p:spPr>
              <a:xfrm flipV="1">
                <a:off x="913680" y="3085920"/>
                <a:ext cx="0" cy="635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43" name="Straight Arrow Connector 30"/>
              <p:cNvCxnSpPr>
                <a:endCxn id="116" idx="1"/>
              </p:cNvCxnSpPr>
              <p:nvPr/>
            </p:nvCxnSpPr>
            <p:spPr>
              <a:xfrm>
                <a:off x="913680" y="3085560"/>
                <a:ext cx="115704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144" name="Straight Connector 34"/>
              <p:cNvSpPr/>
              <p:nvPr/>
            </p:nvSpPr>
            <p:spPr>
              <a:xfrm>
                <a:off x="913680" y="4090680"/>
                <a:ext cx="0" cy="675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45" name="Straight Arrow Connector 36"/>
              <p:cNvCxnSpPr>
                <a:endCxn id="130" idx="1"/>
              </p:cNvCxnSpPr>
              <p:nvPr/>
            </p:nvCxnSpPr>
            <p:spPr>
              <a:xfrm flipV="1">
                <a:off x="913320" y="4755960"/>
                <a:ext cx="1125720" cy="104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146" name="Straight Arrow Connector 38"/>
              <p:cNvCxnSpPr>
                <a:stCxn id="141" idx="3"/>
                <a:endCxn id="119" idx="1"/>
              </p:cNvCxnSpPr>
              <p:nvPr/>
            </p:nvCxnSpPr>
            <p:spPr>
              <a:xfrm>
                <a:off x="1648080" y="3906000"/>
                <a:ext cx="422280" cy="39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cxnSp>
          <p:nvCxnSpPr>
            <p:cNvPr id="147" name="Straight Arrow Connector 45"/>
            <p:cNvCxnSpPr>
              <a:stCxn id="130" idx="3"/>
            </p:cNvCxnSpPr>
            <p:nvPr/>
          </p:nvCxnSpPr>
          <p:spPr>
            <a:xfrm>
              <a:off x="3191040" y="4756320"/>
              <a:ext cx="396360" cy="10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8" name="Straight Arrow Connector 61"/>
            <p:cNvCxnSpPr/>
            <p:nvPr/>
          </p:nvCxnSpPr>
          <p:spPr>
            <a:xfrm>
              <a:off x="5148360" y="4746240"/>
              <a:ext cx="396360" cy="10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9" name="Straight Connector 63"/>
            <p:cNvSpPr/>
            <p:nvPr/>
          </p:nvSpPr>
          <p:spPr>
            <a:xfrm>
              <a:off x="5544360" y="4453560"/>
              <a:ext cx="7920" cy="1912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50" name="Straight Arrow Connector 68"/>
            <p:cNvCxnSpPr>
              <a:endCxn id="136" idx="1"/>
            </p:cNvCxnSpPr>
            <p:nvPr/>
          </p:nvCxnSpPr>
          <p:spPr>
            <a:xfrm>
              <a:off x="5544000" y="4453200"/>
              <a:ext cx="4388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1" name="Straight Arrow Connector 71"/>
            <p:cNvCxnSpPr/>
            <p:nvPr/>
          </p:nvCxnSpPr>
          <p:spPr>
            <a:xfrm>
              <a:off x="5536080" y="4997520"/>
              <a:ext cx="4388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2" name="Straight Arrow Connector 72"/>
            <p:cNvCxnSpPr/>
            <p:nvPr/>
          </p:nvCxnSpPr>
          <p:spPr>
            <a:xfrm>
              <a:off x="5552280" y="5466240"/>
              <a:ext cx="4388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3" name="Straight Arrow Connector 73"/>
            <p:cNvCxnSpPr/>
            <p:nvPr/>
          </p:nvCxnSpPr>
          <p:spPr>
            <a:xfrm>
              <a:off x="5544000" y="5935680"/>
              <a:ext cx="4388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4" name="Straight Arrow Connector 74"/>
            <p:cNvCxnSpPr/>
            <p:nvPr/>
          </p:nvCxnSpPr>
          <p:spPr>
            <a:xfrm>
              <a:off x="5536080" y="6366240"/>
              <a:ext cx="4388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55" name="TextBox 78"/>
          <p:cNvSpPr/>
          <p:nvPr/>
        </p:nvSpPr>
        <p:spPr>
          <a:xfrm>
            <a:off x="1764360" y="573120"/>
            <a:ext cx="557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ffc000"/>
                </a:solidFill>
                <a:latin typeface="Arial"/>
                <a:cs typeface="B Titr"/>
              </a:rPr>
              <a:t>رویکردها و ابعاد مختلف توانمندساز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68360" y="23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7030a0"/>
                </a:solidFill>
                <a:latin typeface="Arial"/>
                <a:cs typeface="B Zar"/>
              </a:rPr>
              <a:t>نمونه هایی از</a:t>
            </a:r>
            <a:br>
              <a:rPr sz="2800"/>
            </a:br>
            <a:r>
              <a:rPr b="1" lang="fa-IR" sz="2800" spc="-1" strike="noStrike">
                <a:solidFill>
                  <a:srgbClr val="7030a0"/>
                </a:solidFill>
                <a:latin typeface="Arial"/>
                <a:cs typeface="B Zar"/>
              </a:rPr>
              <a:t>برنامه های توسعه منابع انسانی در کشورهای ژاپن و فنلان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Content Placeholder 3" descr=""/>
          <p:cNvPicPr/>
          <p:nvPr/>
        </p:nvPicPr>
        <p:blipFill>
          <a:blip r:embed="rId1"/>
          <a:stretch/>
        </p:blipFill>
        <p:spPr>
          <a:xfrm>
            <a:off x="365040" y="1523880"/>
            <a:ext cx="7377120" cy="4737240"/>
          </a:xfrm>
          <a:prstGeom prst="rect">
            <a:avLst/>
          </a:prstGeom>
          <a:ln w="0">
            <a:noFill/>
          </a:ln>
        </p:spPr>
      </p:pic>
      <p:sp>
        <p:nvSpPr>
          <p:cNvPr id="158" name="TextBox 4"/>
          <p:cNvSpPr/>
          <p:nvPr/>
        </p:nvSpPr>
        <p:spPr>
          <a:xfrm rot="20740800">
            <a:off x="5762160" y="3132720"/>
            <a:ext cx="2415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  <a:cs typeface="B Zar"/>
              </a:rPr>
              <a:t>بهرمندی از منابع متفاوت، ارتقاء منابع انسانی با استفاده از ارزیابی های عملکر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5"/>
          <p:cNvSpPr/>
          <p:nvPr/>
        </p:nvSpPr>
        <p:spPr>
          <a:xfrm rot="20740800">
            <a:off x="34200" y="4208760"/>
            <a:ext cx="24177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  <a:cs typeface="B Zar"/>
              </a:rPr>
              <a:t>توسعه منابع انسانی در محل کار، توسعه تحصیل دانش تخصصی ومهارت های مرتبط با وظایف و مسئولیت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6"/>
          <p:cNvSpPr/>
          <p:nvPr/>
        </p:nvSpPr>
        <p:spPr>
          <a:xfrm rot="20740800">
            <a:off x="173880" y="2394360"/>
            <a:ext cx="2416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  <a:cs typeface="B Zar"/>
              </a:rPr>
              <a:t>خودتوسعه ای، آموزش درون سازمانی، آموزش در مرکز توسعه ظرفیت کارکنان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  <a:ea typeface="B Zar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7030a0"/>
                </a:solidFill>
                <a:latin typeface="Arial"/>
                <a:cs typeface="B Zar"/>
              </a:rPr>
              <a:t>خود توسعه ا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2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700" spc="-1" strike="noStrike">
                <a:solidFill>
                  <a:srgbClr val="000000"/>
                </a:solidFill>
                <a:latin typeface="Arial"/>
                <a:cs typeface="B Homa"/>
              </a:rPr>
              <a:t>سیستم پاداش دهی برای تحصیل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2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700" spc="-1" strike="noStrike">
                <a:solidFill>
                  <a:srgbClr val="000000"/>
                </a:solidFill>
                <a:latin typeface="Arial"/>
                <a:cs typeface="B Homa"/>
              </a:rPr>
              <a:t>سیستم حمایتی برای آموزش دانشگاهی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2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700" spc="-1" strike="noStrike">
                <a:solidFill>
                  <a:srgbClr val="000000"/>
                </a:solidFill>
                <a:latin typeface="Arial"/>
                <a:cs typeface="B Homa"/>
              </a:rPr>
              <a:t>ایجاد انگیزه های آموزشی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2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700" spc="-1" strike="noStrike">
                <a:solidFill>
                  <a:srgbClr val="000000"/>
                </a:solidFill>
                <a:latin typeface="Arial"/>
                <a:cs typeface="B Homa"/>
              </a:rPr>
              <a:t>سیستم مطالعه گروهی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7030a0"/>
                </a:solidFill>
                <a:latin typeface="Arial"/>
                <a:cs typeface="B Zar"/>
              </a:rPr>
              <a:t>خود توسعه ا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178920" y="2396880"/>
            <a:ext cx="8713800" cy="405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700" spc="-1" strike="noStrike">
                <a:solidFill>
                  <a:srgbClr val="000000"/>
                </a:solidFill>
                <a:latin typeface="Arial"/>
                <a:cs typeface="B Homa"/>
              </a:rPr>
              <a:t>جلسات عصرانه (خارج از وقت اداری) برای همه کارکنان (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B Homa"/>
              </a:rPr>
              <a:t>evening courses</a:t>
            </a:r>
            <a:r>
              <a:rPr b="0" lang="fa-IR" sz="2700" spc="-1" strike="noStrike">
                <a:solidFill>
                  <a:srgbClr val="000000"/>
                </a:solidFill>
                <a:latin typeface="Arial"/>
                <a:ea typeface="B Homa"/>
              </a:rPr>
              <a:t>)با هدف بهبود وپیشرفت مهارت های قانونی وارتقاء درک مدیریت شهری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700" spc="-1" strike="noStrike">
                <a:solidFill>
                  <a:srgbClr val="ff0000"/>
                </a:solidFill>
                <a:latin typeface="Arial"/>
                <a:cs typeface="B Homa"/>
              </a:rPr>
              <a:t>قوانین و مقررات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67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700" spc="-1" strike="noStrike">
                <a:solidFill>
                  <a:srgbClr val="ff0000"/>
                </a:solidFill>
                <a:latin typeface="Arial"/>
                <a:cs typeface="B Homa"/>
              </a:rPr>
              <a:t>قانون مدیریت شهری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67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700" spc="-1" strike="noStrike">
                <a:solidFill>
                  <a:srgbClr val="ff0000"/>
                </a:solidFill>
                <a:latin typeface="Arial"/>
                <a:cs typeface="B Homa"/>
              </a:rPr>
              <a:t>قوانین اداری استخدامی و قوانین شهری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700" spc="-1" strike="noStrike">
                <a:solidFill>
                  <a:srgbClr val="0033cc"/>
                </a:solidFill>
                <a:latin typeface="Arial"/>
                <a:cs typeface="B Homa"/>
              </a:rPr>
              <a:t>توسط یک نفر حقوقدان و قانوندان ارائه شود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7030a0"/>
                </a:solidFill>
                <a:latin typeface="Arial"/>
                <a:cs typeface="B Zar"/>
              </a:rPr>
              <a:t>آموزش درون سازمانی</a:t>
            </a:r>
            <a:br>
              <a:rPr sz="4400"/>
            </a:br>
            <a:r>
              <a:rPr b="1" lang="en-US" sz="4400" spc="-1" strike="noStrike">
                <a:solidFill>
                  <a:srgbClr val="7030a0"/>
                </a:solidFill>
                <a:latin typeface="Arial"/>
                <a:ea typeface="B Zar"/>
              </a:rPr>
              <a:t>In</a:t>
            </a:r>
            <a:r>
              <a:rPr b="1" lang="fa-IR" sz="4400" spc="-1" strike="noStrike">
                <a:solidFill>
                  <a:srgbClr val="7030a0"/>
                </a:solidFill>
                <a:latin typeface="Arial"/>
                <a:ea typeface="B Zar"/>
              </a:rPr>
              <a:t>-</a:t>
            </a:r>
            <a:r>
              <a:rPr b="1" lang="en-US" sz="4400" spc="-1" strike="noStrike">
                <a:solidFill>
                  <a:srgbClr val="7030a0"/>
                </a:solidFill>
                <a:latin typeface="Arial"/>
                <a:ea typeface="B Zar"/>
              </a:rPr>
              <a:t>house trai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0" y="1484280"/>
            <a:ext cx="896472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algn="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700" spc="-1" strike="noStrike">
                <a:solidFill>
                  <a:srgbClr val="000000"/>
                </a:solidFill>
                <a:latin typeface="Arial"/>
                <a:cs typeface="B Homa"/>
              </a:rPr>
              <a:t>آموزش های حمایت کننده در محیط کار 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  <a:ea typeface="B Homa"/>
              </a:rPr>
              <a:t>(برنامه ریزی ، مشاوره ، سنخنگویی سازمان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700" spc="-1" strike="noStrike">
                <a:solidFill>
                  <a:srgbClr val="000000"/>
                </a:solidFill>
                <a:latin typeface="Arial"/>
                <a:cs typeface="B Homa"/>
              </a:rPr>
              <a:t>تدارک تجهیزات آموزشی برای مرکز توسعه ظرفیت کارکنان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700" spc="-1" strike="noStrike">
                <a:solidFill>
                  <a:srgbClr val="000000"/>
                </a:solidFill>
                <a:latin typeface="Arial"/>
                <a:cs typeface="B Homa"/>
              </a:rPr>
              <a:t>تهیه و تدوین بروشورها و لوح فشرده های آموزشی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7030a0"/>
                </a:solidFill>
                <a:latin typeface="Arial"/>
                <a:cs typeface="B Zar"/>
              </a:rPr>
              <a:t>آموزش های خا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58560" y="2396880"/>
            <a:ext cx="8327880" cy="412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 algn="r" rtl="1">
              <a:lnSpc>
                <a:spcPct val="15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700" spc="-1" strike="noStrike">
                <a:solidFill>
                  <a:srgbClr val="000000"/>
                </a:solidFill>
                <a:latin typeface="Arial"/>
                <a:cs typeface="B Homa"/>
              </a:rPr>
              <a:t>سمینار برای مدیران عالی(شهرداران، مدیران کل، کارمندان ارشد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 algn="r" rtl="1">
              <a:lnSpc>
                <a:spcPct val="15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700" spc="-1" strike="noStrike">
                <a:solidFill>
                  <a:srgbClr val="000000"/>
                </a:solidFill>
                <a:latin typeface="Arial"/>
                <a:cs typeface="B Homa"/>
              </a:rPr>
              <a:t>سمینارهایی برای مدیر (مدیران قسمت ها، کارشناسان ارشد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 algn="r" rtl="1">
              <a:lnSpc>
                <a:spcPct val="15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700" spc="-1" strike="noStrike">
                <a:solidFill>
                  <a:srgbClr val="000000"/>
                </a:solidFill>
                <a:latin typeface="Arial"/>
                <a:cs typeface="B Homa"/>
              </a:rPr>
              <a:t>سمینار اصلاح آگاهی ها (آزاد برای کارکنان جوان تا معاون مدیر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 algn="r" rtl="1">
              <a:lnSpc>
                <a:spcPct val="15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900" spc="-1" strike="noStrike">
                <a:solidFill>
                  <a:srgbClr val="c00000"/>
                </a:solidFill>
                <a:latin typeface="Arial"/>
                <a:cs typeface="B Badr"/>
              </a:rPr>
              <a:t>این آموزشها آگاهی های موردنیاز را در مواجهه با تغییرات سریع در محیط اطراف در پاسخ گویی به این تغییرات ارتقاء می دهد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 algn="r" rtl="1">
              <a:lnSpc>
                <a:spcPct val="15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700" spc="-1" strike="noStrike">
                <a:solidFill>
                  <a:srgbClr val="000000"/>
                </a:solidFill>
                <a:latin typeface="Arial"/>
                <a:cs typeface="B Homa"/>
              </a:rPr>
              <a:t>مکالمه مستقیم با مدیر عالی </a:t>
            </a:r>
            <a:r>
              <a:rPr b="0" lang="fa-IR" sz="2100" spc="-1" strike="noStrike">
                <a:solidFill>
                  <a:srgbClr val="000000"/>
                </a:solidFill>
                <a:latin typeface="Arial"/>
                <a:ea typeface="B Homa"/>
              </a:rPr>
              <a:t>(طرح ایده ها، پیشنهادات،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84320" y="477360"/>
            <a:ext cx="8635680" cy="109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Zar"/>
              </a:rPr>
              <a:t>آموزش های طبقه بندی شده در شهرداری های ژاپن</a:t>
            </a:r>
            <a:br>
              <a:rPr sz="2400"/>
            </a:b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Zar"/>
              </a:rPr>
              <a:t> این برنامه اجباری است.</a:t>
            </a:r>
            <a:br>
              <a:rPr sz="2400"/>
            </a:b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Zar"/>
              </a:rPr>
              <a:t>مثال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Group 20"/>
          <p:cNvGrpSpPr/>
          <p:nvPr/>
        </p:nvGrpSpPr>
        <p:grpSpPr>
          <a:xfrm>
            <a:off x="446040" y="1700280"/>
            <a:ext cx="7737120" cy="5157720"/>
            <a:chOff x="446040" y="1700280"/>
            <a:chExt cx="7737120" cy="5157720"/>
          </a:xfrm>
        </p:grpSpPr>
        <p:grpSp>
          <p:nvGrpSpPr>
            <p:cNvPr id="171" name="Group 19"/>
            <p:cNvGrpSpPr/>
            <p:nvPr/>
          </p:nvGrpSpPr>
          <p:grpSpPr>
            <a:xfrm>
              <a:off x="446040" y="1700280"/>
              <a:ext cx="7365960" cy="5157720"/>
              <a:chOff x="446040" y="1700280"/>
              <a:chExt cx="7365960" cy="5157720"/>
            </a:xfrm>
          </p:grpSpPr>
          <p:pic>
            <p:nvPicPr>
              <p:cNvPr id="172" name="Picture 18" descr=""/>
              <p:cNvPicPr/>
              <p:nvPr/>
            </p:nvPicPr>
            <p:blipFill>
              <a:blip r:embed="rId1"/>
              <a:stretch/>
            </p:blipFill>
            <p:spPr>
              <a:xfrm>
                <a:off x="446040" y="1700280"/>
                <a:ext cx="7365960" cy="5157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3" name="Bent-Up Arrow 8"/>
              <p:cNvSpPr/>
              <p:nvPr/>
            </p:nvSpPr>
            <p:spPr>
              <a:xfrm flipH="1" flipV="1">
                <a:off x="708840" y="2016000"/>
                <a:ext cx="431640" cy="387360"/>
              </a:xfrm>
              <a:custGeom>
                <a:avLst/>
                <a:gdLst/>
                <a:ahLst/>
                <a:rect l="l" t="t" r="r" b="b"/>
                <a:pathLst>
                  <a:path w="549297" h="449608">
                    <a:moveTo>
                      <a:pt x="0" y="337206"/>
                    </a:moveTo>
                    <a:lnTo>
                      <a:pt x="371518" y="337206"/>
                    </a:lnTo>
                    <a:lnTo>
                      <a:pt x="371518" y="112402"/>
                    </a:lnTo>
                    <a:lnTo>
                      <a:pt x="306140" y="112402"/>
                    </a:lnTo>
                    <a:lnTo>
                      <a:pt x="427719" y="0"/>
                    </a:lnTo>
                    <a:lnTo>
                      <a:pt x="549297" y="112402"/>
                    </a:lnTo>
                    <a:lnTo>
                      <a:pt x="483920" y="112402"/>
                    </a:lnTo>
                    <a:lnTo>
                      <a:pt x="483920" y="449608"/>
                    </a:lnTo>
                    <a:lnTo>
                      <a:pt x="0" y="449608"/>
                    </a:lnTo>
                    <a:lnTo>
                      <a:pt x="0" y="337206"/>
                    </a:lnTo>
                    <a:close/>
                  </a:path>
                </a:pathLst>
              </a:custGeom>
              <a:solidFill>
                <a:srgbClr val="ffff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Bent-Up Arrow 9"/>
              <p:cNvSpPr/>
              <p:nvPr/>
            </p:nvSpPr>
            <p:spPr>
              <a:xfrm flipH="1" flipV="1">
                <a:off x="708840" y="2646360"/>
                <a:ext cx="431640" cy="387360"/>
              </a:xfrm>
              <a:custGeom>
                <a:avLst/>
                <a:gdLst/>
                <a:ahLst/>
                <a:rect l="l" t="t" r="r" b="b"/>
                <a:pathLst>
                  <a:path w="549297" h="449608">
                    <a:moveTo>
                      <a:pt x="0" y="337206"/>
                    </a:moveTo>
                    <a:lnTo>
                      <a:pt x="371518" y="337206"/>
                    </a:lnTo>
                    <a:lnTo>
                      <a:pt x="371518" y="112402"/>
                    </a:lnTo>
                    <a:lnTo>
                      <a:pt x="306140" y="112402"/>
                    </a:lnTo>
                    <a:lnTo>
                      <a:pt x="427719" y="0"/>
                    </a:lnTo>
                    <a:lnTo>
                      <a:pt x="549297" y="112402"/>
                    </a:lnTo>
                    <a:lnTo>
                      <a:pt x="483920" y="112402"/>
                    </a:lnTo>
                    <a:lnTo>
                      <a:pt x="483920" y="449608"/>
                    </a:lnTo>
                    <a:lnTo>
                      <a:pt x="0" y="449608"/>
                    </a:lnTo>
                    <a:lnTo>
                      <a:pt x="0" y="337206"/>
                    </a:lnTo>
                    <a:close/>
                  </a:path>
                </a:pathLst>
              </a:custGeom>
              <a:solidFill>
                <a:srgbClr val="ffff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Bent-Up Arrow 10"/>
              <p:cNvSpPr/>
              <p:nvPr/>
            </p:nvSpPr>
            <p:spPr>
              <a:xfrm flipH="1" flipV="1">
                <a:off x="708840" y="3294000"/>
                <a:ext cx="431640" cy="388800"/>
              </a:xfrm>
              <a:custGeom>
                <a:avLst/>
                <a:gdLst/>
                <a:ahLst/>
                <a:rect l="l" t="t" r="r" b="b"/>
                <a:pathLst>
                  <a:path w="549297" h="451450">
                    <a:moveTo>
                      <a:pt x="0" y="338588"/>
                    </a:moveTo>
                    <a:lnTo>
                      <a:pt x="370789" y="338588"/>
                    </a:lnTo>
                    <a:lnTo>
                      <a:pt x="370789" y="112863"/>
                    </a:lnTo>
                    <a:lnTo>
                      <a:pt x="305144" y="112863"/>
                    </a:lnTo>
                    <a:lnTo>
                      <a:pt x="427220" y="0"/>
                    </a:lnTo>
                    <a:lnTo>
                      <a:pt x="549297" y="112863"/>
                    </a:lnTo>
                    <a:lnTo>
                      <a:pt x="483652" y="112863"/>
                    </a:lnTo>
                    <a:lnTo>
                      <a:pt x="483652" y="451450"/>
                    </a:lnTo>
                    <a:lnTo>
                      <a:pt x="0" y="451450"/>
                    </a:lnTo>
                    <a:lnTo>
                      <a:pt x="0" y="338588"/>
                    </a:lnTo>
                    <a:close/>
                  </a:path>
                </a:pathLst>
              </a:custGeom>
              <a:solidFill>
                <a:srgbClr val="ffff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Bent-Up Arrow 11"/>
              <p:cNvSpPr/>
              <p:nvPr/>
            </p:nvSpPr>
            <p:spPr>
              <a:xfrm flipH="1" flipV="1">
                <a:off x="708840" y="3943440"/>
                <a:ext cx="431640" cy="387360"/>
              </a:xfrm>
              <a:custGeom>
                <a:avLst/>
                <a:gdLst/>
                <a:ahLst/>
                <a:rect l="l" t="t" r="r" b="b"/>
                <a:pathLst>
                  <a:path w="549297" h="449608">
                    <a:moveTo>
                      <a:pt x="0" y="337206"/>
                    </a:moveTo>
                    <a:lnTo>
                      <a:pt x="371518" y="337206"/>
                    </a:lnTo>
                    <a:lnTo>
                      <a:pt x="371518" y="112402"/>
                    </a:lnTo>
                    <a:lnTo>
                      <a:pt x="306140" y="112402"/>
                    </a:lnTo>
                    <a:lnTo>
                      <a:pt x="427719" y="0"/>
                    </a:lnTo>
                    <a:lnTo>
                      <a:pt x="549297" y="112402"/>
                    </a:lnTo>
                    <a:lnTo>
                      <a:pt x="483920" y="112402"/>
                    </a:lnTo>
                    <a:lnTo>
                      <a:pt x="483920" y="449608"/>
                    </a:lnTo>
                    <a:lnTo>
                      <a:pt x="0" y="449608"/>
                    </a:lnTo>
                    <a:lnTo>
                      <a:pt x="0" y="337206"/>
                    </a:lnTo>
                    <a:close/>
                  </a:path>
                </a:pathLst>
              </a:custGeom>
              <a:solidFill>
                <a:srgbClr val="ffff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Bent-Up Arrow 12"/>
              <p:cNvSpPr/>
              <p:nvPr/>
            </p:nvSpPr>
            <p:spPr>
              <a:xfrm flipH="1" flipV="1">
                <a:off x="708840" y="4573800"/>
                <a:ext cx="431640" cy="387360"/>
              </a:xfrm>
              <a:custGeom>
                <a:avLst/>
                <a:gdLst/>
                <a:ahLst/>
                <a:rect l="l" t="t" r="r" b="b"/>
                <a:pathLst>
                  <a:path w="549297" h="449608">
                    <a:moveTo>
                      <a:pt x="0" y="337206"/>
                    </a:moveTo>
                    <a:lnTo>
                      <a:pt x="371518" y="337206"/>
                    </a:lnTo>
                    <a:lnTo>
                      <a:pt x="371518" y="112402"/>
                    </a:lnTo>
                    <a:lnTo>
                      <a:pt x="306140" y="112402"/>
                    </a:lnTo>
                    <a:lnTo>
                      <a:pt x="427719" y="0"/>
                    </a:lnTo>
                    <a:lnTo>
                      <a:pt x="549297" y="112402"/>
                    </a:lnTo>
                    <a:lnTo>
                      <a:pt x="483920" y="112402"/>
                    </a:lnTo>
                    <a:lnTo>
                      <a:pt x="483920" y="449608"/>
                    </a:lnTo>
                    <a:lnTo>
                      <a:pt x="0" y="449608"/>
                    </a:lnTo>
                    <a:lnTo>
                      <a:pt x="0" y="337206"/>
                    </a:lnTo>
                    <a:close/>
                  </a:path>
                </a:pathLst>
              </a:custGeom>
              <a:solidFill>
                <a:srgbClr val="ffff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Bent-Up Arrow 13"/>
              <p:cNvSpPr/>
              <p:nvPr/>
            </p:nvSpPr>
            <p:spPr>
              <a:xfrm flipH="1" flipV="1">
                <a:off x="708840" y="5203800"/>
                <a:ext cx="431640" cy="387360"/>
              </a:xfrm>
              <a:custGeom>
                <a:avLst/>
                <a:gdLst/>
                <a:ahLst/>
                <a:rect l="l" t="t" r="r" b="b"/>
                <a:pathLst>
                  <a:path w="549297" h="449608">
                    <a:moveTo>
                      <a:pt x="0" y="337206"/>
                    </a:moveTo>
                    <a:lnTo>
                      <a:pt x="371518" y="337206"/>
                    </a:lnTo>
                    <a:lnTo>
                      <a:pt x="371518" y="112402"/>
                    </a:lnTo>
                    <a:lnTo>
                      <a:pt x="306140" y="112402"/>
                    </a:lnTo>
                    <a:lnTo>
                      <a:pt x="427719" y="0"/>
                    </a:lnTo>
                    <a:lnTo>
                      <a:pt x="549297" y="112402"/>
                    </a:lnTo>
                    <a:lnTo>
                      <a:pt x="483920" y="112402"/>
                    </a:lnTo>
                    <a:lnTo>
                      <a:pt x="483920" y="449608"/>
                    </a:lnTo>
                    <a:lnTo>
                      <a:pt x="0" y="449608"/>
                    </a:lnTo>
                    <a:lnTo>
                      <a:pt x="0" y="337206"/>
                    </a:lnTo>
                    <a:close/>
                  </a:path>
                </a:pathLst>
              </a:custGeom>
              <a:solidFill>
                <a:srgbClr val="ffff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9" name="TextBox 4"/>
            <p:cNvSpPr/>
            <p:nvPr/>
          </p:nvSpPr>
          <p:spPr>
            <a:xfrm>
              <a:off x="1600920" y="6035760"/>
              <a:ext cx="6582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14200" indent="-214200" algn="r" rtl="1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1200" spc="-1" strike="noStrike">
                  <a:solidFill>
                    <a:srgbClr val="000000"/>
                  </a:solidFill>
                  <a:latin typeface="Arial"/>
                  <a:cs typeface="B Zar"/>
                </a:rPr>
                <a:t>چالش های مدیریت شهری، حقوق شهروندی، قانون، مدیریت، ارزیابی منابع انسانی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19280" y="412920"/>
            <a:ext cx="7053120" cy="10490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00"/>
                </a:solidFill>
                <a:latin typeface="Arial"/>
                <a:cs typeface="B Zar"/>
              </a:rPr>
              <a:t>انواع آموز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47400" y="1963800"/>
            <a:ext cx="8545320" cy="340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r" rtl="1">
              <a:lnSpc>
                <a:spcPct val="2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700" spc="-1" strike="noStrike">
                <a:solidFill>
                  <a:srgbClr val="000000"/>
                </a:solidFill>
                <a:latin typeface="Arial"/>
                <a:cs typeface="B Homa"/>
              </a:rPr>
              <a:t>آموزش های ضمن خدمت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B Homa"/>
              </a:rPr>
              <a:t>Off the job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 rtl="1">
              <a:lnSpc>
                <a:spcPct val="2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700" spc="-1" strike="noStrike">
                <a:solidFill>
                  <a:srgbClr val="ff0000"/>
                </a:solidFill>
                <a:latin typeface="Arial"/>
                <a:ea typeface="B Badr"/>
              </a:rPr>
              <a:t>(آموزش های مهارتی بلندمدت، آموزش های مهارتی کوتاه مدت، کارگاه های آموزشی، آموزش های کانونی (</a:t>
            </a:r>
            <a:r>
              <a:rPr b="0" lang="en-US" sz="2700" spc="-1" strike="noStrike">
                <a:solidFill>
                  <a:srgbClr val="ff0000"/>
                </a:solidFill>
                <a:latin typeface="Arial"/>
                <a:ea typeface="B Badr"/>
              </a:rPr>
              <a:t>focus group</a:t>
            </a:r>
            <a:r>
              <a:rPr b="0" lang="fa-IR" sz="2700" spc="-1" strike="noStrike">
                <a:solidFill>
                  <a:srgbClr val="ff0000"/>
                </a:solidFill>
                <a:latin typeface="Arial"/>
                <a:ea typeface="B Badr"/>
              </a:rPr>
              <a:t>)، سمینار، کنفرانس و...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476000" y="2133360"/>
            <a:ext cx="648036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222268"/>
                </a:solidFill>
                <a:latin typeface="Arial"/>
                <a:cs typeface="B Titr"/>
              </a:rPr>
              <a:t>مدل های پیشرفته منابع انسانی و آسیب شناسی وضع موجو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69"/>
          <p:cNvSpPr/>
          <p:nvPr/>
        </p:nvSpPr>
        <p:spPr>
          <a:xfrm>
            <a:off x="4140360" y="3716280"/>
            <a:ext cx="410364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ffffff"/>
                </a:solidFill>
                <a:latin typeface="Arial"/>
                <a:cs typeface="B Koodak"/>
              </a:rPr>
              <a:t>دکتر کاوه تیمور نژا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" descr=""/>
          <p:cNvPicPr/>
          <p:nvPr/>
        </p:nvPicPr>
        <p:blipFill>
          <a:blip r:embed="rId2"/>
          <a:stretch/>
        </p:blipFill>
        <p:spPr>
          <a:xfrm>
            <a:off x="28440" y="6656400"/>
            <a:ext cx="841680" cy="20160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169"/>
          <p:cNvSpPr/>
          <p:nvPr/>
        </p:nvSpPr>
        <p:spPr>
          <a:xfrm>
            <a:off x="5904000" y="5119560"/>
            <a:ext cx="4105080" cy="9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ffffff"/>
                </a:solidFill>
                <a:latin typeface="Arial"/>
                <a:cs typeface="B Koodak"/>
              </a:rPr>
              <a:t>تابستان </a:t>
            </a:r>
            <a:r>
              <a:rPr b="1" lang="fa-IR" sz="2800" spc="-1" strike="noStrike">
                <a:solidFill>
                  <a:srgbClr val="ffffff"/>
                </a:solidFill>
                <a:latin typeface="Arial"/>
                <a:ea typeface="B Koodak"/>
              </a:rPr>
              <a:t>9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476360" y="404640"/>
            <a:ext cx="7053120" cy="10512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00"/>
                </a:solidFill>
                <a:latin typeface="Arial"/>
                <a:cs typeface="B Zar"/>
              </a:rPr>
              <a:t>انواع آموز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1496520" y="1989000"/>
            <a:ext cx="7326360" cy="21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700" spc="-1" strike="noStrike">
                <a:solidFill>
                  <a:srgbClr val="000000"/>
                </a:solidFill>
                <a:latin typeface="Arial"/>
                <a:cs typeface="B Homa"/>
              </a:rPr>
              <a:t>آموزش های حین خدمت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B Homa"/>
              </a:rPr>
              <a:t>On the job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3" descr=""/>
          <p:cNvPicPr/>
          <p:nvPr/>
        </p:nvPicPr>
        <p:blipFill>
          <a:blip r:embed="rId1"/>
          <a:stretch/>
        </p:blipFill>
        <p:spPr>
          <a:xfrm>
            <a:off x="0" y="2425680"/>
            <a:ext cx="9144000" cy="41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00"/>
                </a:solidFill>
                <a:latin typeface="Arial"/>
                <a:cs typeface="B Zar"/>
              </a:rPr>
              <a:t>مسئله س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Content Placeholder 2"/>
          <p:cNvSpPr/>
          <p:nvPr/>
        </p:nvSpPr>
        <p:spPr>
          <a:xfrm>
            <a:off x="2195640" y="1916280"/>
            <a:ext cx="5111640" cy="10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3000"/>
          </a:bodyPr>
          <a:p>
            <a:pPr algn="just" rtl="1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c00000"/>
                </a:solidFill>
                <a:latin typeface="Arial"/>
                <a:cs typeface="B Titr"/>
              </a:rPr>
              <a:t>ضعف نظام جبران خدمت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4" descr=""/>
          <p:cNvPicPr/>
          <p:nvPr/>
        </p:nvPicPr>
        <p:blipFill>
          <a:blip r:embed="rId1"/>
          <a:stretch/>
        </p:blipFill>
        <p:spPr>
          <a:xfrm>
            <a:off x="-1440" y="6656400"/>
            <a:ext cx="841320" cy="201600"/>
          </a:xfrm>
          <a:prstGeom prst="rect">
            <a:avLst/>
          </a:prstGeom>
          <a:ln w="0">
            <a:noFill/>
          </a:ln>
        </p:spPr>
      </p:pic>
      <p:sp>
        <p:nvSpPr>
          <p:cNvPr id="188" name="TextBox 4"/>
          <p:cNvSpPr/>
          <p:nvPr/>
        </p:nvSpPr>
        <p:spPr>
          <a:xfrm>
            <a:off x="1563840" y="3357720"/>
            <a:ext cx="6016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Zar"/>
              </a:rPr>
              <a:t>1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Zar"/>
              </a:rPr>
              <a:t>- نابرابری و فقدان عدال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Zar"/>
              </a:rPr>
              <a:t>2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Zar"/>
              </a:rPr>
              <a:t>- کاهش انگیزه های کار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Zar"/>
              </a:rPr>
              <a:t>3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Zar"/>
              </a:rPr>
              <a:t>- ترک خدمت نیروهای متخص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Zar"/>
              </a:rPr>
              <a:t>4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Zar"/>
              </a:rPr>
              <a:t>- فساد ادار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7030a0"/>
                </a:solidFill>
                <a:latin typeface="Arial"/>
                <a:cs typeface="B Zar"/>
              </a:rPr>
              <a:t>اصول پایه جبران خدمت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3"/>
          <p:cNvSpPr/>
          <p:nvPr/>
        </p:nvSpPr>
        <p:spPr>
          <a:xfrm>
            <a:off x="971640" y="2811600"/>
            <a:ext cx="6605640" cy="43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Badr"/>
              </a:rPr>
              <a:t>1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Badr"/>
              </a:rPr>
              <a:t>- اصل جبران خدمت بر مبنای وظایف و مسئولیت ه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Badr"/>
              </a:rPr>
              <a:t>2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Badr"/>
              </a:rPr>
              <a:t>- اصل مواجهه با تغییر شرای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Badr"/>
              </a:rPr>
              <a:t>3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Badr"/>
              </a:rPr>
              <a:t>- اصل شایستگ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7030a0"/>
                </a:solidFill>
                <a:latin typeface="Arial"/>
                <a:cs typeface="B Zar"/>
              </a:rPr>
              <a:t>ترکیب جبران خدمت در کشورهای ژاپن و آلما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29"/>
          <p:cNvGrpSpPr/>
          <p:nvPr/>
        </p:nvGrpSpPr>
        <p:grpSpPr>
          <a:xfrm>
            <a:off x="314280" y="1940040"/>
            <a:ext cx="6689880" cy="3039840"/>
            <a:chOff x="314280" y="1940040"/>
            <a:chExt cx="6689880" cy="3039840"/>
          </a:xfrm>
        </p:grpSpPr>
        <p:grpSp>
          <p:nvGrpSpPr>
            <p:cNvPr id="193" name="Group 3"/>
            <p:cNvGrpSpPr/>
            <p:nvPr/>
          </p:nvGrpSpPr>
          <p:grpSpPr>
            <a:xfrm>
              <a:off x="314280" y="1940040"/>
              <a:ext cx="6689880" cy="3039840"/>
              <a:chOff x="314280" y="1940040"/>
              <a:chExt cx="6689880" cy="3039840"/>
            </a:xfrm>
          </p:grpSpPr>
          <p:sp>
            <p:nvSpPr>
              <p:cNvPr id="194" name="Rectangle 4"/>
              <p:cNvSpPr/>
              <p:nvPr/>
            </p:nvSpPr>
            <p:spPr>
              <a:xfrm>
                <a:off x="314280" y="2949480"/>
                <a:ext cx="1671480" cy="1012680"/>
              </a:xfrm>
              <a:prstGeom prst="rect">
                <a:avLst/>
              </a:prstGeom>
              <a:gradFill rotWithShape="0">
                <a:gsLst>
                  <a:gs pos="0">
                    <a:srgbClr val="9b9b9b"/>
                  </a:gs>
                  <a:gs pos="100000">
                    <a:srgbClr val="797979"/>
                  </a:gs>
                </a:gsLst>
                <a:lin ang="5400000"/>
              </a:gra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a-IR" sz="1800" spc="-1" strike="noStrike">
                    <a:solidFill>
                      <a:srgbClr val="000000"/>
                    </a:solidFill>
                    <a:latin typeface="Arial"/>
                    <a:cs typeface="B Zar"/>
                  </a:rPr>
                  <a:t>حقوق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Rectangle 5"/>
              <p:cNvSpPr/>
              <p:nvPr/>
            </p:nvSpPr>
            <p:spPr>
              <a:xfrm>
                <a:off x="314280" y="3963960"/>
                <a:ext cx="1671480" cy="1011240"/>
              </a:xfrm>
              <a:prstGeom prst="rect">
                <a:avLst/>
              </a:prstGeom>
              <a:gradFill rotWithShape="0">
                <a:gsLst>
                  <a:gs pos="0">
                    <a:srgbClr val="9b9b9b"/>
                  </a:gs>
                  <a:gs pos="100000">
                    <a:srgbClr val="797979"/>
                  </a:gs>
                </a:gsLst>
                <a:lin ang="5400000"/>
              </a:gra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a-IR" sz="1800" spc="-1" strike="noStrike">
                    <a:solidFill>
                      <a:srgbClr val="000000"/>
                    </a:solidFill>
                    <a:latin typeface="Arial"/>
                    <a:cs typeface="B Zar"/>
                  </a:rPr>
                  <a:t>فوق العاده ها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Rectangle 6"/>
              <p:cNvSpPr/>
              <p:nvPr/>
            </p:nvSpPr>
            <p:spPr>
              <a:xfrm>
                <a:off x="1985760" y="4470480"/>
                <a:ext cx="1670040" cy="504720"/>
              </a:xfrm>
              <a:prstGeom prst="rect">
                <a:avLst/>
              </a:prstGeom>
              <a:gradFill rotWithShape="0">
                <a:gsLst>
                  <a:gs pos="0">
                    <a:srgbClr val="9b9b9b"/>
                  </a:gs>
                  <a:gs pos="100000">
                    <a:srgbClr val="797979"/>
                  </a:gs>
                </a:gsLst>
                <a:lin ang="5400000"/>
              </a:gra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a-IR" sz="1800" spc="-1" strike="noStrike">
                    <a:solidFill>
                      <a:srgbClr val="000000"/>
                    </a:solidFill>
                    <a:latin typeface="Arial"/>
                    <a:cs typeface="B Zar"/>
                  </a:rPr>
                  <a:t>پرداخت بن</a:t>
                </a:r>
                <a:r>
                  <a:rPr b="0" lang="fa-IR" sz="1800" spc="-1" strike="noStrike">
                    <a:solidFill>
                      <a:srgbClr val="000000"/>
                    </a:solidFill>
                    <a:latin typeface="Arial"/>
                    <a:ea typeface="B Zar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a-IR" sz="1800" spc="-1" strike="noStrike">
                    <a:solidFill>
                      <a:srgbClr val="000000"/>
                    </a:solidFill>
                    <a:latin typeface="Arial"/>
                    <a:ea typeface="B Zar"/>
                  </a:rPr>
                  <a:t>(</a:t>
                </a:r>
                <a:r>
                  <a:rPr b="0" lang="fa-IR" sz="1800" spc="-1" strike="noStrike">
                    <a:solidFill>
                      <a:srgbClr val="000000"/>
                    </a:solidFill>
                    <a:latin typeface="Arial"/>
                    <a:cs typeface="B Zar"/>
                  </a:rPr>
                  <a:t>دو بار در سال</a:t>
                </a:r>
                <a:r>
                  <a:rPr b="0" lang="fa-IR" sz="1800" spc="-1" strike="noStrike">
                    <a:solidFill>
                      <a:srgbClr val="000000"/>
                    </a:solidFill>
                    <a:latin typeface="Arial"/>
                    <a:ea typeface="B Zar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Rectangle 7"/>
              <p:cNvSpPr/>
              <p:nvPr/>
            </p:nvSpPr>
            <p:spPr>
              <a:xfrm>
                <a:off x="1985760" y="2948040"/>
                <a:ext cx="1670040" cy="1523880"/>
              </a:xfrm>
              <a:prstGeom prst="rect">
                <a:avLst/>
              </a:prstGeom>
              <a:gradFill rotWithShape="0">
                <a:gsLst>
                  <a:gs pos="0">
                    <a:srgbClr val="9b9b9b"/>
                  </a:gs>
                  <a:gs pos="100000">
                    <a:srgbClr val="797979"/>
                  </a:gs>
                </a:gsLst>
                <a:lin ang="5400000"/>
              </a:gra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a-IR" sz="1800" spc="-1" strike="noStrike">
                    <a:solidFill>
                      <a:srgbClr val="000000"/>
                    </a:solidFill>
                    <a:latin typeface="Arial"/>
                    <a:cs typeface="B Zar"/>
                  </a:rPr>
                  <a:t>جبران خدمت ماهانه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Rectangle 8"/>
              <p:cNvSpPr/>
              <p:nvPr/>
            </p:nvSpPr>
            <p:spPr>
              <a:xfrm>
                <a:off x="3656160" y="3967200"/>
                <a:ext cx="1671480" cy="5047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a-IR" sz="1800" spc="-1" strike="noStrike">
                    <a:solidFill>
                      <a:srgbClr val="000000"/>
                    </a:solidFill>
                    <a:latin typeface="Arial"/>
                    <a:ea typeface="B Zar"/>
                  </a:rPr>
                  <a:t>% 2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Rectangle 9"/>
              <p:cNvSpPr/>
              <p:nvPr/>
            </p:nvSpPr>
            <p:spPr>
              <a:xfrm>
                <a:off x="3656160" y="4470480"/>
                <a:ext cx="1681200" cy="5047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Rectangle 10"/>
              <p:cNvSpPr/>
              <p:nvPr/>
            </p:nvSpPr>
            <p:spPr>
              <a:xfrm>
                <a:off x="3656160" y="2959200"/>
                <a:ext cx="1671480" cy="10126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a-IR" sz="1800" spc="-1" strike="noStrike">
                    <a:solidFill>
                      <a:srgbClr val="000000"/>
                    </a:solidFill>
                    <a:latin typeface="Arial"/>
                    <a:ea typeface="B Zar"/>
                  </a:rPr>
                  <a:t>% 8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Rectangle 11"/>
              <p:cNvSpPr/>
              <p:nvPr/>
            </p:nvSpPr>
            <p:spPr>
              <a:xfrm>
                <a:off x="5327640" y="4473720"/>
                <a:ext cx="1671480" cy="5061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a-IR" sz="1800" spc="-1" strike="noStrike">
                    <a:solidFill>
                      <a:srgbClr val="000000"/>
                    </a:solidFill>
                    <a:latin typeface="Arial"/>
                    <a:ea typeface="B Zar"/>
                  </a:rPr>
                  <a:t>% 2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Rectangle 12"/>
              <p:cNvSpPr/>
              <p:nvPr/>
            </p:nvSpPr>
            <p:spPr>
              <a:xfrm>
                <a:off x="5327640" y="2967120"/>
                <a:ext cx="1671480" cy="15159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a-IR" sz="1800" spc="-1" strike="noStrike">
                    <a:solidFill>
                      <a:srgbClr val="000000"/>
                    </a:solidFill>
                    <a:latin typeface="Arial"/>
                    <a:ea typeface="B Zar"/>
                  </a:rPr>
                  <a:t>% 7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Rectangle 13"/>
              <p:cNvSpPr/>
              <p:nvPr/>
            </p:nvSpPr>
            <p:spPr>
              <a:xfrm>
                <a:off x="3656160" y="1946160"/>
                <a:ext cx="1671480" cy="1011240"/>
              </a:xfrm>
              <a:prstGeom prst="rect">
                <a:avLst/>
              </a:prstGeom>
              <a:gradFill rotWithShape="0">
                <a:gsLst>
                  <a:gs pos="0">
                    <a:srgbClr val="9b9b9b"/>
                  </a:gs>
                  <a:gs pos="100000">
                    <a:srgbClr val="797979"/>
                  </a:gs>
                </a:gsLst>
                <a:lin ang="5400000"/>
              </a:gra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a-IR" sz="1800" spc="-1" strike="noStrike">
                    <a:solidFill>
                      <a:srgbClr val="000000"/>
                    </a:solidFill>
                    <a:latin typeface="Arial"/>
                    <a:cs typeface="B Zar"/>
                  </a:rPr>
                  <a:t>نسبت تقریبی در جبران</a:t>
                </a:r>
                <a:r>
                  <a:rPr b="0" lang="fa-IR" sz="1800" spc="-1" strike="noStrike">
                    <a:solidFill>
                      <a:srgbClr val="000000"/>
                    </a:solidFill>
                    <a:latin typeface="Arial"/>
                    <a:ea typeface="B Zar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a-IR" sz="1800" spc="-1" strike="noStrike">
                    <a:solidFill>
                      <a:srgbClr val="000000"/>
                    </a:solidFill>
                    <a:latin typeface="Arial"/>
                    <a:cs typeface="B Zar"/>
                  </a:rPr>
                  <a:t>خدمت ماهانه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Rectangle 14"/>
              <p:cNvSpPr/>
              <p:nvPr/>
            </p:nvSpPr>
            <p:spPr>
              <a:xfrm>
                <a:off x="5332680" y="1940040"/>
                <a:ext cx="1671480" cy="1023840"/>
              </a:xfrm>
              <a:prstGeom prst="rect">
                <a:avLst/>
              </a:prstGeom>
              <a:gradFill rotWithShape="0">
                <a:gsLst>
                  <a:gs pos="0">
                    <a:srgbClr val="9b9b9b"/>
                  </a:gs>
                  <a:gs pos="100000">
                    <a:srgbClr val="797979"/>
                  </a:gs>
                </a:gsLst>
                <a:lin ang="5400000"/>
              </a:gra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a-IR" sz="1800" spc="-1" strike="noStrike">
                    <a:solidFill>
                      <a:srgbClr val="000000"/>
                    </a:solidFill>
                    <a:latin typeface="Arial"/>
                    <a:cs typeface="B Zar"/>
                  </a:rPr>
                  <a:t>نسبت تقریبی در جبران</a:t>
                </a:r>
                <a:r>
                  <a:rPr b="0" lang="fa-IR" sz="1800" spc="-1" strike="noStrike">
                    <a:solidFill>
                      <a:srgbClr val="000000"/>
                    </a:solidFill>
                    <a:latin typeface="Arial"/>
                    <a:ea typeface="B Zar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a-IR" sz="1800" spc="-1" strike="noStrike">
                    <a:solidFill>
                      <a:srgbClr val="000000"/>
                    </a:solidFill>
                    <a:latin typeface="Arial"/>
                    <a:cs typeface="B Zar"/>
                  </a:rPr>
                  <a:t>خدمت سالانه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Straight Connector 18"/>
              <p:cNvSpPr/>
              <p:nvPr/>
            </p:nvSpPr>
            <p:spPr>
              <a:xfrm flipH="1">
                <a:off x="3666960" y="4475160"/>
                <a:ext cx="1655640" cy="500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6" name="Straight Connector 28"/>
            <p:cNvSpPr/>
            <p:nvPr/>
          </p:nvSpPr>
          <p:spPr>
            <a:xfrm>
              <a:off x="6994800" y="2965320"/>
              <a:ext cx="9360" cy="15811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Straight Connector 15"/>
          <p:cNvSpPr/>
          <p:nvPr/>
        </p:nvSpPr>
        <p:spPr>
          <a:xfrm flipH="1">
            <a:off x="5322960" y="2948040"/>
            <a:ext cx="9360" cy="20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traight Connector 22"/>
          <p:cNvSpPr/>
          <p:nvPr/>
        </p:nvSpPr>
        <p:spPr>
          <a:xfrm>
            <a:off x="5332320" y="4484520"/>
            <a:ext cx="1671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7030a0"/>
                </a:solidFill>
                <a:latin typeface="Arial"/>
                <a:cs typeface="B Zar"/>
              </a:rPr>
              <a:t>مقایسه جبران خدمت ماهانه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1187280" y="2305080"/>
            <a:ext cx="6193080" cy="3860640"/>
            <a:chOff x="1187280" y="2305080"/>
            <a:chExt cx="6193080" cy="3860640"/>
          </a:xfrm>
        </p:grpSpPr>
        <p:sp>
          <p:nvSpPr>
            <p:cNvPr id="211" name="Rectangle 4"/>
            <p:cNvSpPr/>
            <p:nvPr/>
          </p:nvSpPr>
          <p:spPr>
            <a:xfrm>
              <a:off x="1187280" y="2305080"/>
              <a:ext cx="2476440" cy="1625400"/>
            </a:xfrm>
            <a:prstGeom prst="rect">
              <a:avLst/>
            </a:prstGeom>
            <a:gradFill rotWithShape="0">
              <a:gsLst>
                <a:gs pos="0">
                  <a:srgbClr val="9b9b9b"/>
                </a:gs>
                <a:gs pos="100000">
                  <a:srgbClr val="797979"/>
                </a:gs>
              </a:gsLst>
              <a:lin ang="5400000"/>
            </a:gra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a-IR" sz="1800" spc="-1" strike="noStrike">
                  <a:solidFill>
                    <a:srgbClr val="000000"/>
                  </a:solidFill>
                  <a:latin typeface="Arial"/>
                  <a:cs typeface="B Zar"/>
                </a:rPr>
                <a:t>بخش قرارداد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Rectangle 5"/>
            <p:cNvSpPr/>
            <p:nvPr/>
          </p:nvSpPr>
          <p:spPr>
            <a:xfrm>
              <a:off x="4903920" y="2305080"/>
              <a:ext cx="2476440" cy="1625400"/>
            </a:xfrm>
            <a:prstGeom prst="rect">
              <a:avLst/>
            </a:prstGeom>
            <a:gradFill rotWithShape="0">
              <a:gsLst>
                <a:gs pos="0">
                  <a:srgbClr val="9b9b9b"/>
                </a:gs>
                <a:gs pos="100000">
                  <a:srgbClr val="797979"/>
                </a:gs>
              </a:gsLst>
              <a:lin ang="5400000"/>
            </a:gra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a-IR" sz="1800" spc="-1" strike="noStrike">
                  <a:solidFill>
                    <a:srgbClr val="000000"/>
                  </a:solidFill>
                  <a:latin typeface="Arial"/>
                  <a:cs typeface="B Zar"/>
                </a:rPr>
                <a:t>بخش رسم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Rectangle 6"/>
            <p:cNvSpPr/>
            <p:nvPr/>
          </p:nvSpPr>
          <p:spPr>
            <a:xfrm>
              <a:off x="1187280" y="4540320"/>
              <a:ext cx="2476440" cy="1625400"/>
            </a:xfrm>
            <a:prstGeom prst="rect">
              <a:avLst/>
            </a:prstGeom>
            <a:gradFill rotWithShape="0">
              <a:gsLst>
                <a:gs pos="0">
                  <a:srgbClr val="9b9b9b"/>
                </a:gs>
                <a:gs pos="100000">
                  <a:srgbClr val="797979"/>
                </a:gs>
              </a:gsLst>
              <a:lin ang="5400000"/>
            </a:gra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a-IR" sz="1800" spc="-1" strike="noStrike">
                  <a:solidFill>
                    <a:srgbClr val="000000"/>
                  </a:solidFill>
                  <a:latin typeface="Arial"/>
                  <a:cs typeface="B Zar"/>
                </a:rPr>
                <a:t>سازمان ها</a:t>
              </a:r>
              <a:r>
                <a:rPr b="0" lang="fa-IR" sz="1800" spc="-1" strike="noStrike">
                  <a:solidFill>
                    <a:srgbClr val="000000"/>
                  </a:solidFill>
                  <a:latin typeface="Arial"/>
                  <a:ea typeface="B Zar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a-IR" sz="1800" spc="-1" strike="noStrike">
                  <a:solidFill>
                    <a:srgbClr val="000000"/>
                  </a:solidFill>
                  <a:latin typeface="Arial"/>
                  <a:cs typeface="B Zar"/>
                </a:rPr>
                <a:t>و شرکت ها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Rectangle 7"/>
            <p:cNvSpPr/>
            <p:nvPr/>
          </p:nvSpPr>
          <p:spPr>
            <a:xfrm>
              <a:off x="4903920" y="4540320"/>
              <a:ext cx="2476440" cy="1625400"/>
            </a:xfrm>
            <a:prstGeom prst="rect">
              <a:avLst/>
            </a:prstGeom>
            <a:gradFill rotWithShape="0">
              <a:gsLst>
                <a:gs pos="0">
                  <a:srgbClr val="9b9b9b"/>
                </a:gs>
                <a:gs pos="100000">
                  <a:srgbClr val="797979"/>
                </a:gs>
              </a:gsLst>
              <a:lin ang="5400000"/>
            </a:gra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a-IR" sz="1800" spc="-1" strike="noStrike">
                  <a:solidFill>
                    <a:srgbClr val="000000"/>
                  </a:solidFill>
                  <a:latin typeface="Arial"/>
                  <a:cs typeface="B Zar"/>
                </a:rPr>
                <a:t>مناطق</a:t>
              </a:r>
              <a:r>
                <a:rPr b="0" lang="fa-IR" sz="1800" spc="-1" strike="noStrike">
                  <a:solidFill>
                    <a:srgbClr val="000000"/>
                  </a:solidFill>
                  <a:latin typeface="Arial"/>
                  <a:ea typeface="B Zar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a-IR" sz="1800" spc="-1" strike="noStrike">
                  <a:solidFill>
                    <a:srgbClr val="000000"/>
                  </a:solidFill>
                  <a:latin typeface="Arial"/>
                  <a:cs typeface="B Zar"/>
                </a:rPr>
                <a:t>واحد های ستاد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Chevron 8"/>
            <p:cNvSpPr/>
            <p:nvPr/>
          </p:nvSpPr>
          <p:spPr>
            <a:xfrm>
              <a:off x="3868560" y="2841480"/>
              <a:ext cx="830160" cy="549000"/>
            </a:xfrm>
            <a:custGeom>
              <a:avLst/>
              <a:gdLst>
                <a:gd name="textAreaLeft" fmla="*/ 0 w 830160"/>
                <a:gd name="textAreaRight" fmla="*/ 830520 w 830160"/>
                <a:gd name="textAreaTop" fmla="*/ 0 h 549000"/>
                <a:gd name="textAreaBottom" fmla="*/ 549360 h 549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807" y="0"/>
                  </a:lnTo>
                  <a:lnTo>
                    <a:pt x="21600" y="10800"/>
                  </a:lnTo>
                  <a:lnTo>
                    <a:pt x="5807" y="21600"/>
                  </a:lnTo>
                  <a:lnTo>
                    <a:pt x="0" y="21600"/>
                  </a:lnTo>
                  <a:lnTo>
                    <a:pt x="15793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9b9b9b"/>
                </a:gs>
                <a:gs pos="100000">
                  <a:srgbClr val="797979"/>
                </a:gs>
              </a:gsLst>
              <a:lin ang="5400000"/>
            </a:gra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Chevron 9"/>
            <p:cNvSpPr/>
            <p:nvPr/>
          </p:nvSpPr>
          <p:spPr>
            <a:xfrm>
              <a:off x="3865320" y="5076720"/>
              <a:ext cx="830160" cy="549000"/>
            </a:xfrm>
            <a:custGeom>
              <a:avLst/>
              <a:gdLst>
                <a:gd name="textAreaLeft" fmla="*/ 0 w 830160"/>
                <a:gd name="textAreaRight" fmla="*/ 830520 w 830160"/>
                <a:gd name="textAreaTop" fmla="*/ 0 h 549000"/>
                <a:gd name="textAreaBottom" fmla="*/ 549360 h 549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807" y="0"/>
                  </a:lnTo>
                  <a:lnTo>
                    <a:pt x="21600" y="10800"/>
                  </a:lnTo>
                  <a:lnTo>
                    <a:pt x="5807" y="21600"/>
                  </a:lnTo>
                  <a:lnTo>
                    <a:pt x="0" y="21600"/>
                  </a:lnTo>
                  <a:lnTo>
                    <a:pt x="15793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9b9b9b"/>
                </a:gs>
                <a:gs pos="100000">
                  <a:srgbClr val="797979"/>
                </a:gs>
              </a:gsLst>
              <a:lin ang="5400000"/>
            </a:gra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1" descr=""/>
          <p:cNvPicPr/>
          <p:nvPr/>
        </p:nvPicPr>
        <p:blipFill>
          <a:blip r:embed="rId1"/>
          <a:stretch/>
        </p:blipFill>
        <p:spPr>
          <a:xfrm>
            <a:off x="0" y="9360"/>
            <a:ext cx="9144000" cy="658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7030a0"/>
                </a:solidFill>
                <a:latin typeface="Arial"/>
                <a:cs typeface="B Zar"/>
              </a:rPr>
              <a:t>فوق العاده ها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724360" y="2852280"/>
            <a:ext cx="2748240" cy="35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 rtl="1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0000"/>
                </a:solidFill>
                <a:latin typeface="Arial"/>
                <a:ea typeface="B Yekan"/>
              </a:rPr>
              <a:t>1</a:t>
            </a:r>
            <a:r>
              <a:rPr b="0" lang="fa-IR" sz="2000" spc="-1" strike="noStrike">
                <a:solidFill>
                  <a:srgbClr val="000000"/>
                </a:solidFill>
                <a:latin typeface="Arial"/>
                <a:ea typeface="B Yekan"/>
              </a:rPr>
              <a:t>-کمک هزینه زندگ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0000"/>
                </a:solidFill>
                <a:latin typeface="Arial"/>
                <a:ea typeface="B Yekan"/>
              </a:rPr>
              <a:t>2</a:t>
            </a:r>
            <a:r>
              <a:rPr b="0" lang="fa-IR" sz="2000" spc="-1" strike="noStrike">
                <a:solidFill>
                  <a:srgbClr val="000000"/>
                </a:solidFill>
                <a:latin typeface="Arial"/>
                <a:ea typeface="B Yekan"/>
              </a:rPr>
              <a:t>-شرایط محیط کا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0000"/>
                </a:solidFill>
                <a:latin typeface="Arial"/>
                <a:ea typeface="B Yekan"/>
              </a:rPr>
              <a:t>3</a:t>
            </a:r>
            <a:r>
              <a:rPr b="0" lang="fa-IR" sz="2000" spc="-1" strike="noStrike">
                <a:solidFill>
                  <a:srgbClr val="000000"/>
                </a:solidFill>
                <a:latin typeface="Arial"/>
                <a:ea typeface="B Yekan"/>
              </a:rPr>
              <a:t>-حق مسئولی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0000"/>
                </a:solidFill>
                <a:latin typeface="Arial"/>
                <a:ea typeface="B Yekan"/>
              </a:rPr>
              <a:t>4</a:t>
            </a:r>
            <a:r>
              <a:rPr b="0" lang="fa-IR" sz="2000" spc="-1" strike="noStrike">
                <a:solidFill>
                  <a:srgbClr val="000000"/>
                </a:solidFill>
                <a:latin typeface="Arial"/>
                <a:ea typeface="B Yekan"/>
              </a:rPr>
              <a:t>-اضافه کار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0000"/>
                </a:solidFill>
                <a:latin typeface="Arial"/>
                <a:ea typeface="B Yekan"/>
              </a:rPr>
              <a:t>5</a:t>
            </a:r>
            <a:r>
              <a:rPr b="0" lang="fa-IR" sz="2000" spc="-1" strike="noStrike">
                <a:solidFill>
                  <a:srgbClr val="000000"/>
                </a:solidFill>
                <a:latin typeface="Arial"/>
                <a:ea typeface="B Yekan"/>
              </a:rPr>
              <a:t>-مزایای غیر نقد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3"/>
          <p:cNvSpPr/>
          <p:nvPr/>
        </p:nvSpPr>
        <p:spPr>
          <a:xfrm>
            <a:off x="5549760" y="1700280"/>
            <a:ext cx="3137040" cy="86364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B Zar"/>
              </a:rPr>
              <a:t>گروه بندی فوق العاده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B Zar"/>
              </a:rPr>
              <a:t>در کشور ژاپ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4"/>
          <p:cNvSpPr/>
          <p:nvPr/>
        </p:nvSpPr>
        <p:spPr>
          <a:xfrm>
            <a:off x="457200" y="1628640"/>
            <a:ext cx="3754440" cy="86364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B Zar"/>
              </a:rPr>
              <a:t>گروه بندی فوق العاده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B Zar"/>
              </a:rPr>
              <a:t>در شهرداری ها و دول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Content Placeholder 2"/>
          <p:cNvSpPr/>
          <p:nvPr/>
        </p:nvSpPr>
        <p:spPr>
          <a:xfrm>
            <a:off x="395280" y="2422440"/>
            <a:ext cx="3825720" cy="35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 algn="r" rtl="1">
              <a:lnSpc>
                <a:spcPct val="1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600" spc="-1" strike="noStrike">
                <a:solidFill>
                  <a:srgbClr val="000000"/>
                </a:solidFill>
                <a:latin typeface="Arial"/>
                <a:ea typeface="B Yekan"/>
              </a:rPr>
              <a:t>1</a:t>
            </a:r>
            <a:r>
              <a:rPr b="0" lang="fa-IR" sz="1600" spc="-1" strike="noStrike">
                <a:solidFill>
                  <a:srgbClr val="000000"/>
                </a:solidFill>
                <a:latin typeface="Arial"/>
                <a:ea typeface="B Yekan"/>
              </a:rPr>
              <a:t>- فوق العاده شغ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600" spc="-1" strike="noStrike">
                <a:solidFill>
                  <a:srgbClr val="000000"/>
                </a:solidFill>
                <a:latin typeface="Arial"/>
                <a:ea typeface="B Yekan"/>
              </a:rPr>
              <a:t>2</a:t>
            </a:r>
            <a:r>
              <a:rPr b="0" lang="fa-IR" sz="1600" spc="-1" strike="noStrike">
                <a:solidFill>
                  <a:srgbClr val="000000"/>
                </a:solidFill>
                <a:latin typeface="Arial"/>
                <a:ea typeface="B Yekan"/>
              </a:rPr>
              <a:t>- فوق العاده های دستگاه های نظارت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600" spc="-1" strike="noStrike">
                <a:solidFill>
                  <a:srgbClr val="000000"/>
                </a:solidFill>
                <a:latin typeface="Arial"/>
                <a:ea typeface="B Yekan"/>
              </a:rPr>
              <a:t>3</a:t>
            </a:r>
            <a:r>
              <a:rPr b="0" lang="fa-IR" sz="1600" spc="-1" strike="noStrike">
                <a:solidFill>
                  <a:srgbClr val="000000"/>
                </a:solidFill>
                <a:latin typeface="Arial"/>
                <a:ea typeface="B Yekan"/>
              </a:rPr>
              <a:t>- فوق العاده شرایط محیط کار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600" spc="-1" strike="noStrike">
                <a:solidFill>
                  <a:srgbClr val="000000"/>
                </a:solidFill>
                <a:latin typeface="Arial"/>
                <a:ea typeface="B Yekan"/>
              </a:rPr>
              <a:t>4</a:t>
            </a:r>
            <a:r>
              <a:rPr b="0" lang="fa-IR" sz="1600" spc="-1" strike="noStrike">
                <a:solidFill>
                  <a:srgbClr val="000000"/>
                </a:solidFill>
                <a:latin typeface="Arial"/>
                <a:ea typeface="B Yekan"/>
              </a:rPr>
              <a:t>- فوق العاده جذب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600" spc="-1" strike="noStrike">
                <a:solidFill>
                  <a:srgbClr val="000000"/>
                </a:solidFill>
                <a:latin typeface="Arial"/>
                <a:ea typeface="B Yekan"/>
              </a:rPr>
              <a:t>5</a:t>
            </a:r>
            <a:r>
              <a:rPr b="0" lang="fa-IR" sz="1600" spc="-1" strike="noStrike">
                <a:solidFill>
                  <a:srgbClr val="000000"/>
                </a:solidFill>
                <a:latin typeface="Arial"/>
                <a:ea typeface="B Yekan"/>
              </a:rPr>
              <a:t>- فوق العاده ویژه کارشناسی ارشد، خبره، عال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600" spc="-1" strike="noStrike">
                <a:solidFill>
                  <a:srgbClr val="000000"/>
                </a:solidFill>
                <a:latin typeface="Arial"/>
                <a:ea typeface="B Yekan"/>
              </a:rPr>
              <a:t>6</a:t>
            </a:r>
            <a:r>
              <a:rPr b="0" lang="fa-IR" sz="1600" spc="-1" strike="noStrike">
                <a:solidFill>
                  <a:srgbClr val="000000"/>
                </a:solidFill>
                <a:latin typeface="Arial"/>
                <a:ea typeface="B Yekan"/>
              </a:rPr>
              <a:t>- فوق العاده اضافه کار ساعت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600" spc="-1" strike="noStrike">
                <a:solidFill>
                  <a:srgbClr val="000000"/>
                </a:solidFill>
                <a:latin typeface="Arial"/>
                <a:ea typeface="B Yekan"/>
              </a:rPr>
              <a:t>7</a:t>
            </a:r>
            <a:r>
              <a:rPr b="0" lang="fa-IR" sz="1600" spc="-1" strike="noStrike">
                <a:solidFill>
                  <a:srgbClr val="000000"/>
                </a:solidFill>
                <a:latin typeface="Arial"/>
                <a:ea typeface="B Yekan"/>
              </a:rPr>
              <a:t>- فوق العاده تعطیل کاری (ایام تعطیل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600" spc="-1" strike="noStrike">
                <a:solidFill>
                  <a:srgbClr val="000000"/>
                </a:solidFill>
                <a:latin typeface="Arial"/>
                <a:ea typeface="B Yekan"/>
              </a:rPr>
              <a:t>8</a:t>
            </a:r>
            <a:r>
              <a:rPr b="0" lang="fa-IR" sz="1600" spc="-1" strike="noStrike">
                <a:solidFill>
                  <a:srgbClr val="000000"/>
                </a:solidFill>
                <a:latin typeface="Arial"/>
                <a:ea typeface="B Yekan"/>
              </a:rPr>
              <a:t>- شبکار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600" spc="-1" strike="noStrike">
                <a:solidFill>
                  <a:srgbClr val="000000"/>
                </a:solidFill>
                <a:latin typeface="Arial"/>
                <a:ea typeface="B Yekan"/>
              </a:rPr>
              <a:t>9</a:t>
            </a:r>
            <a:r>
              <a:rPr b="0" lang="fa-IR" sz="1600" spc="-1" strike="noStrike">
                <a:solidFill>
                  <a:srgbClr val="000000"/>
                </a:solidFill>
                <a:latin typeface="Arial"/>
                <a:ea typeface="B Yekan"/>
              </a:rPr>
              <a:t>- مزایای غیر نقد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7030a0"/>
                </a:solidFill>
                <a:latin typeface="Arial"/>
                <a:cs typeface="B Zar"/>
              </a:rPr>
              <a:t>فوق العاده ها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364000" y="2852640"/>
            <a:ext cx="332280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 rtl="1">
              <a:lnSpc>
                <a:spcPct val="13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200" spc="-1" strike="noStrike">
                <a:solidFill>
                  <a:srgbClr val="000000"/>
                </a:solidFill>
                <a:latin typeface="Arial"/>
                <a:ea typeface="B Yekan"/>
              </a:rPr>
              <a:t>1</a:t>
            </a:r>
            <a:r>
              <a:rPr b="0" lang="fa-IR" sz="2200" spc="-1" strike="noStrike">
                <a:solidFill>
                  <a:srgbClr val="000000"/>
                </a:solidFill>
                <a:latin typeface="Arial"/>
                <a:ea typeface="B Yekan"/>
              </a:rPr>
              <a:t>-حق عائله مند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3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200" spc="-1" strike="noStrike">
                <a:solidFill>
                  <a:srgbClr val="000000"/>
                </a:solidFill>
                <a:latin typeface="Arial"/>
                <a:ea typeface="B Yekan"/>
              </a:rPr>
              <a:t>*همسر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3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200" spc="-1" strike="noStrike">
                <a:solidFill>
                  <a:srgbClr val="000000"/>
                </a:solidFill>
                <a:latin typeface="Arial"/>
                <a:ea typeface="B Yekan"/>
              </a:rPr>
              <a:t>*فرزند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3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200" spc="-1" strike="noStrike">
                <a:solidFill>
                  <a:srgbClr val="000000"/>
                </a:solidFill>
                <a:latin typeface="Arial"/>
                <a:ea typeface="B Yekan"/>
              </a:rPr>
              <a:t>2</a:t>
            </a:r>
            <a:r>
              <a:rPr b="0" lang="fa-IR" sz="2200" spc="-1" strike="noStrike">
                <a:solidFill>
                  <a:srgbClr val="000000"/>
                </a:solidFill>
                <a:latin typeface="Arial"/>
                <a:ea typeface="B Yekan"/>
              </a:rPr>
              <a:t>-حق مسکن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3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200" spc="-1" strike="noStrike">
                <a:solidFill>
                  <a:srgbClr val="000000"/>
                </a:solidFill>
                <a:latin typeface="Arial"/>
                <a:ea typeface="B Yekan"/>
              </a:rPr>
              <a:t>3</a:t>
            </a:r>
            <a:r>
              <a:rPr b="0" lang="fa-IR" sz="2200" spc="-1" strike="noStrike">
                <a:solidFill>
                  <a:srgbClr val="000000"/>
                </a:solidFill>
                <a:latin typeface="Arial"/>
                <a:ea typeface="B Yekan"/>
              </a:rPr>
              <a:t>-هزینه ایاب و ذهاب (به نسبت فاصله متفاوت است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3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3"/>
          <p:cNvSpPr/>
          <p:nvPr/>
        </p:nvSpPr>
        <p:spPr>
          <a:xfrm>
            <a:off x="5572080" y="1996920"/>
            <a:ext cx="2906640" cy="65268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B Zar"/>
              </a:rPr>
              <a:t>کمک هزینه های زندگی در کشور ژاپ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4"/>
          <p:cNvSpPr/>
          <p:nvPr/>
        </p:nvSpPr>
        <p:spPr>
          <a:xfrm>
            <a:off x="936720" y="1989000"/>
            <a:ext cx="2906640" cy="65268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B Zar"/>
              </a:rPr>
              <a:t>کمک هزینه های زندگی در شهرداری ها و دول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Content Placeholder 2"/>
          <p:cNvSpPr/>
          <p:nvPr/>
        </p:nvSpPr>
        <p:spPr>
          <a:xfrm>
            <a:off x="141120" y="2708280"/>
            <a:ext cx="4422960" cy="36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algn="r" rtl="1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  <a:ea typeface="B Yekan"/>
              </a:rPr>
              <a:t>1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  <a:ea typeface="B Yekan"/>
              </a:rPr>
              <a:t>- کمک هزینه عائله مندی (آقایان و بانوان، سرپرست خانوارواجد شرایط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  <a:ea typeface="B Yekan"/>
              </a:rPr>
              <a:t>2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  <a:ea typeface="B Yekan"/>
              </a:rPr>
              <a:t>- کمک هزینه اولاد (آقایان و بانوان، سرپرست خانوارواجد شرایط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  <a:ea typeface="B Yekan"/>
              </a:rPr>
              <a:t>3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  <a:ea typeface="B Yekan"/>
              </a:rPr>
              <a:t>- کمک هزینه مسک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  <a:ea typeface="B Yekan"/>
              </a:rPr>
              <a:t>4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  <a:ea typeface="B Yekan"/>
              </a:rPr>
              <a:t>- ایاب و ذهاب (نقدی برای برخی از مدیران ، غیرنقدی با سرویس عمومی برای کارکنان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  <a:ea typeface="B Yekan"/>
              </a:rPr>
              <a:t>5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  <a:ea typeface="B Yekan"/>
              </a:rPr>
              <a:t>- تلفن همراه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7030a0"/>
                </a:solidFill>
                <a:latin typeface="Arial"/>
                <a:cs typeface="B Zar"/>
              </a:rPr>
              <a:t>فوق العاده ها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-360" y="2746440"/>
            <a:ext cx="9396360" cy="14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  <a:cs typeface="B Yekan"/>
              </a:rPr>
              <a:t>حق عائله مندی +   فوق العاده مدیریت +  حقوق مبن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  <a:ea typeface="B Yekan"/>
              </a:rPr>
              <a:t>*   ضریب به نسبت مسافت (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  <a:ea typeface="B Yekan"/>
              </a:rPr>
              <a:t>3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  <a:ea typeface="B Yekan"/>
              </a:rPr>
              <a:t> – 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  <a:ea typeface="B Yekan"/>
              </a:rPr>
              <a:t>20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  <a:ea typeface="B Yekan"/>
              </a:rPr>
              <a:t> درصد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3"/>
          <p:cNvSpPr/>
          <p:nvPr/>
        </p:nvSpPr>
        <p:spPr>
          <a:xfrm>
            <a:off x="2484360" y="2060640"/>
            <a:ext cx="5138640" cy="4698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B Zar"/>
              </a:rPr>
              <a:t>فوق العاده شرایط محیط کار در کشور ژاپ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4"/>
          <p:cNvSpPr/>
          <p:nvPr/>
        </p:nvSpPr>
        <p:spPr>
          <a:xfrm>
            <a:off x="2484360" y="4365720"/>
            <a:ext cx="5426280" cy="39672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ea typeface="B Zar"/>
              </a:rPr>
              <a:t> فوق العاده شرایط محیط کار در شهرداری ها و دول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Content Placeholder 2"/>
          <p:cNvSpPr/>
          <p:nvPr/>
        </p:nvSpPr>
        <p:spPr>
          <a:xfrm>
            <a:off x="250920" y="5157720"/>
            <a:ext cx="8713800" cy="14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algn="ctr" rtl="1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0000"/>
                </a:solidFill>
                <a:latin typeface="Arial"/>
                <a:cs typeface="B Yekan"/>
              </a:rPr>
              <a:t>فوق العاده شرایط محیط کار </a:t>
            </a:r>
            <a:r>
              <a:rPr b="0" lang="fa-IR" sz="2000" spc="-1" strike="noStrike">
                <a:solidFill>
                  <a:srgbClr val="000000"/>
                </a:solidFill>
                <a:latin typeface="Arial"/>
                <a:ea typeface="B Zar"/>
              </a:rPr>
              <a:t>=</a:t>
            </a:r>
            <a:r>
              <a:rPr b="0" lang="fa-IR" sz="2000" spc="-1" strike="noStrike">
                <a:solidFill>
                  <a:srgbClr val="000000"/>
                </a:solidFill>
                <a:latin typeface="Arial"/>
                <a:ea typeface="B Yekan"/>
              </a:rPr>
              <a:t>(حقوق مبنا+ افزایش سنواتی+ فوق العاده شغل + تفاوت حداقل حقوق)* ضریب بر مبنای مرتبه شغلی (بر مبنای مراتب پست در تصدی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2"/>
          <p:cNvSpPr/>
          <p:nvPr/>
        </p:nvSpPr>
        <p:spPr>
          <a:xfrm>
            <a:off x="3276720" y="628560"/>
            <a:ext cx="5346720" cy="16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fa-IR" sz="3600" spc="-1" strike="noStrike">
                <a:solidFill>
                  <a:srgbClr val="7030a0"/>
                </a:solidFill>
                <a:latin typeface="Arial"/>
                <a:cs typeface="B Titr"/>
              </a:rPr>
              <a:t>حضرت امام علی (علیه السلام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3"/>
          <p:cNvSpPr/>
          <p:nvPr/>
        </p:nvSpPr>
        <p:spPr>
          <a:xfrm>
            <a:off x="611280" y="2060640"/>
            <a:ext cx="8067600" cy="41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57040" indent="-257040" algn="ctr" rtl="1">
              <a:lnSpc>
                <a:spcPct val="150000"/>
              </a:lnSpc>
              <a:spcBef>
                <a:spcPts val="751"/>
              </a:spcBef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br>
              <a:rPr sz="1400"/>
            </a:br>
            <a:r>
              <a:rPr b="1" lang="fa-IR" sz="4400" spc="-1" strike="noStrike">
                <a:solidFill>
                  <a:srgbClr val="000000"/>
                </a:solidFill>
                <a:latin typeface="Arial"/>
                <a:cs typeface="B Badr"/>
              </a:rPr>
              <a:t>ارزش رای هر انسانی وابسته به مقدار تجاربی است که در خزانه ی فکر خود اندوخته است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774520" y="507960"/>
            <a:ext cx="2994120" cy="9907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7030a0"/>
                </a:solidFill>
                <a:latin typeface="Arial"/>
                <a:cs typeface="B Zar"/>
              </a:rPr>
              <a:t>فوق العاده ها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263160" y="2543040"/>
            <a:ext cx="8412120" cy="34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0000"/>
                </a:solidFill>
                <a:latin typeface="Arial"/>
                <a:cs typeface="B Zar"/>
              </a:rPr>
              <a:t>پاداش دوبار در سال (اول و اخر سال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0000"/>
                </a:solidFill>
                <a:latin typeface="Arial"/>
                <a:cs typeface="B Zar"/>
              </a:rPr>
              <a:t>حق عائله مندی +حقوق * ضری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0000"/>
                </a:solidFill>
                <a:latin typeface="Arial"/>
                <a:cs typeface="B Zar"/>
              </a:rPr>
              <a:t>کاران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0000"/>
                </a:solidFill>
                <a:latin typeface="Arial"/>
                <a:cs typeface="B Zar"/>
              </a:rPr>
              <a:t>سالی دوبار،برطبق عملکر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0000"/>
                </a:solidFill>
                <a:latin typeface="Arial"/>
                <a:cs typeface="B Zar"/>
              </a:rPr>
              <a:t>حقوق + شرایط محیط کار * ضریب عملکر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3"/>
          <p:cNvSpPr/>
          <p:nvPr/>
        </p:nvSpPr>
        <p:spPr>
          <a:xfrm>
            <a:off x="5769000" y="1941480"/>
            <a:ext cx="2906640" cy="39708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B Zar"/>
              </a:rPr>
              <a:t>پاداش در کشور ژاپ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4"/>
          <p:cNvSpPr/>
          <p:nvPr/>
        </p:nvSpPr>
        <p:spPr>
          <a:xfrm>
            <a:off x="262080" y="3475080"/>
            <a:ext cx="806400" cy="9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  <a:cs typeface="B Zar"/>
              </a:rPr>
              <a:t>ارزیابی عملکرد در دوره قب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8" name="Group 17"/>
          <p:cNvGrpSpPr/>
          <p:nvPr/>
        </p:nvGrpSpPr>
        <p:grpSpPr>
          <a:xfrm>
            <a:off x="1068480" y="3141720"/>
            <a:ext cx="4079880" cy="1946160"/>
            <a:chOff x="1068480" y="3141720"/>
            <a:chExt cx="4079880" cy="1946160"/>
          </a:xfrm>
        </p:grpSpPr>
        <p:grpSp>
          <p:nvGrpSpPr>
            <p:cNvPr id="239" name="Group 16"/>
            <p:cNvGrpSpPr/>
            <p:nvPr/>
          </p:nvGrpSpPr>
          <p:grpSpPr>
            <a:xfrm>
              <a:off x="1068480" y="3141720"/>
              <a:ext cx="4079880" cy="1946160"/>
              <a:chOff x="1068480" y="3141720"/>
              <a:chExt cx="4079880" cy="1946160"/>
            </a:xfrm>
          </p:grpSpPr>
          <p:grpSp>
            <p:nvGrpSpPr>
              <p:cNvPr id="240" name="Group 10"/>
              <p:cNvGrpSpPr/>
              <p:nvPr/>
            </p:nvGrpSpPr>
            <p:grpSpPr>
              <a:xfrm>
                <a:off x="1068480" y="3141720"/>
                <a:ext cx="4079880" cy="1946160"/>
                <a:chOff x="1068480" y="3141720"/>
                <a:chExt cx="4079880" cy="1946160"/>
              </a:xfrm>
            </p:grpSpPr>
            <p:sp>
              <p:nvSpPr>
                <p:cNvPr id="241" name="Rectangle 5"/>
                <p:cNvSpPr/>
                <p:nvPr/>
              </p:nvSpPr>
              <p:spPr>
                <a:xfrm>
                  <a:off x="1068480" y="3141720"/>
                  <a:ext cx="961920" cy="890640"/>
                </a:xfrm>
                <a:prstGeom prst="rect">
                  <a:avLst/>
                </a:prstGeom>
                <a:gradFill rotWithShape="0">
                  <a:gsLst>
                    <a:gs pos="0">
                      <a:srgbClr val="9b9b9b"/>
                    </a:gs>
                    <a:gs pos="100000">
                      <a:srgbClr val="797979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  <a:ea typeface="B Zar"/>
                    </a:rPr>
                    <a:t>A or S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" name="Rectangle 6"/>
                <p:cNvSpPr/>
                <p:nvPr/>
              </p:nvSpPr>
              <p:spPr>
                <a:xfrm>
                  <a:off x="1068480" y="3998880"/>
                  <a:ext cx="961920" cy="466560"/>
                </a:xfrm>
                <a:prstGeom prst="rect">
                  <a:avLst/>
                </a:prstGeom>
                <a:gradFill rotWithShape="0">
                  <a:gsLst>
                    <a:gs pos="0">
                      <a:srgbClr val="9b9b9b"/>
                    </a:gs>
                    <a:gs pos="100000">
                      <a:srgbClr val="797979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  <a:ea typeface="B Zar"/>
                    </a:rPr>
                    <a:t>B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3" name="Rectangle 7"/>
                <p:cNvSpPr/>
                <p:nvPr/>
              </p:nvSpPr>
              <p:spPr>
                <a:xfrm>
                  <a:off x="1068480" y="4456080"/>
                  <a:ext cx="961920" cy="466560"/>
                </a:xfrm>
                <a:prstGeom prst="rect">
                  <a:avLst/>
                </a:prstGeom>
                <a:gradFill rotWithShape="0">
                  <a:gsLst>
                    <a:gs pos="0">
                      <a:srgbClr val="9b9b9b"/>
                    </a:gs>
                    <a:gs pos="100000">
                      <a:srgbClr val="797979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  <a:ea typeface="B Zar"/>
                    </a:rPr>
                    <a:t>C or D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44" name="Group 9"/>
                <p:cNvGrpSpPr/>
                <p:nvPr/>
              </p:nvGrpSpPr>
              <p:grpSpPr>
                <a:xfrm>
                  <a:off x="2271600" y="3141720"/>
                  <a:ext cx="2876760" cy="1946160"/>
                  <a:chOff x="2271600" y="3141720"/>
                  <a:chExt cx="2876760" cy="1946160"/>
                </a:xfrm>
              </p:grpSpPr>
              <p:sp>
                <p:nvSpPr>
                  <p:cNvPr id="245" name="Rectangle 11"/>
                  <p:cNvSpPr/>
                  <p:nvPr/>
                </p:nvSpPr>
                <p:spPr>
                  <a:xfrm>
                    <a:off x="2271600" y="3141720"/>
                    <a:ext cx="1438560" cy="5508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9b9b9b"/>
                      </a:gs>
                      <a:gs pos="100000">
                        <a:srgbClr val="797979"/>
                      </a:gs>
                    </a:gsLst>
                    <a:lin ang="5400000"/>
                  </a:gra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a-IR" sz="1800" spc="-1" strike="noStrike">
                        <a:solidFill>
                          <a:srgbClr val="000000"/>
                        </a:solidFill>
                        <a:latin typeface="Arial"/>
                        <a:cs typeface="B Zar"/>
                      </a:rPr>
                      <a:t>فراتر از انتظار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" name="Rectangle 12"/>
                  <p:cNvSpPr/>
                  <p:nvPr/>
                </p:nvSpPr>
                <p:spPr>
                  <a:xfrm>
                    <a:off x="2271600" y="3994200"/>
                    <a:ext cx="1438560" cy="4665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9b9b9b"/>
                      </a:gs>
                      <a:gs pos="100000">
                        <a:srgbClr val="797979"/>
                      </a:gs>
                    </a:gsLst>
                    <a:lin ang="5400000"/>
                  </a:gra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a-IR" sz="1800" spc="-1" strike="noStrike">
                        <a:solidFill>
                          <a:srgbClr val="000000"/>
                        </a:solidFill>
                        <a:latin typeface="Arial"/>
                        <a:cs typeface="B Zar"/>
                      </a:rPr>
                      <a:t>خوب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Rectangle 18"/>
                  <p:cNvSpPr/>
                  <p:nvPr/>
                </p:nvSpPr>
                <p:spPr>
                  <a:xfrm>
                    <a:off x="2271600" y="3632040"/>
                    <a:ext cx="1438560" cy="3682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9b9b9b"/>
                      </a:gs>
                      <a:gs pos="100000">
                        <a:srgbClr val="797979"/>
                      </a:gs>
                    </a:gsLst>
                    <a:lin ang="5400000"/>
                  </a:gra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a-IR" sz="1800" spc="-1" strike="noStrike">
                        <a:solidFill>
                          <a:srgbClr val="000000"/>
                        </a:solidFill>
                        <a:latin typeface="Arial"/>
                        <a:cs typeface="B Zar"/>
                      </a:rPr>
                      <a:t>عالی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8" name="Rectangle 19"/>
                  <p:cNvSpPr/>
                  <p:nvPr/>
                </p:nvSpPr>
                <p:spPr>
                  <a:xfrm>
                    <a:off x="2271600" y="4470480"/>
                    <a:ext cx="1438560" cy="3096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9b9b9b"/>
                      </a:gs>
                      <a:gs pos="100000">
                        <a:srgbClr val="797979"/>
                      </a:gs>
                    </a:gsLst>
                    <a:lin ang="5400000"/>
                  </a:gra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a-IR" sz="1800" spc="-1" strike="noStrike">
                        <a:solidFill>
                          <a:srgbClr val="000000"/>
                        </a:solidFill>
                        <a:latin typeface="Arial"/>
                        <a:cs typeface="B Zar"/>
                      </a:rPr>
                      <a:t>بد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" name="Rectangle 20"/>
                  <p:cNvSpPr/>
                  <p:nvPr/>
                </p:nvSpPr>
                <p:spPr>
                  <a:xfrm>
                    <a:off x="2271600" y="4776840"/>
                    <a:ext cx="1438560" cy="3110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9b9b9b"/>
                      </a:gs>
                      <a:gs pos="100000">
                        <a:srgbClr val="797979"/>
                      </a:gs>
                    </a:gsLst>
                    <a:lin ang="5400000"/>
                  </a:gra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a-IR" sz="1800" spc="-1" strike="noStrike">
                        <a:solidFill>
                          <a:srgbClr val="000000"/>
                        </a:solidFill>
                        <a:latin typeface="Arial"/>
                        <a:cs typeface="B Zar"/>
                      </a:rPr>
                      <a:t>سرانه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0" name="Group 8"/>
                  <p:cNvGrpSpPr/>
                  <p:nvPr/>
                </p:nvGrpSpPr>
                <p:grpSpPr>
                  <a:xfrm>
                    <a:off x="3710160" y="3141720"/>
                    <a:ext cx="1438200" cy="1946160"/>
                    <a:chOff x="3710160" y="3141720"/>
                    <a:chExt cx="1438200" cy="1946160"/>
                  </a:xfrm>
                </p:grpSpPr>
                <p:sp>
                  <p:nvSpPr>
                    <p:cNvPr id="251" name="Rectangle 21"/>
                    <p:cNvSpPr/>
                    <p:nvPr/>
                  </p:nvSpPr>
                  <p:spPr>
                    <a:xfrm>
                      <a:off x="3710160" y="3141720"/>
                      <a:ext cx="1438200" cy="55080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9b9b9b"/>
                        </a:gs>
                        <a:gs pos="100000">
                          <a:srgbClr val="797979"/>
                        </a:gs>
                      </a:gsLst>
                      <a:lin ang="5400000"/>
                    </a:gradFill>
                    <a:ln w="64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000000"/>
                          </a:solidFill>
                          <a:latin typeface="Arial"/>
                          <a:ea typeface="B Zar"/>
                        </a:rPr>
                        <a:t>1,5-0,9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2" name="Rectangle 22"/>
                    <p:cNvSpPr/>
                    <p:nvPr/>
                  </p:nvSpPr>
                  <p:spPr>
                    <a:xfrm>
                      <a:off x="3710160" y="3994200"/>
                      <a:ext cx="1438200" cy="46656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9b9b9b"/>
                        </a:gs>
                        <a:gs pos="100000">
                          <a:srgbClr val="797979"/>
                        </a:gs>
                      </a:gsLst>
                      <a:lin ang="5400000"/>
                    </a:gradFill>
                    <a:ln w="64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000000"/>
                          </a:solidFill>
                          <a:latin typeface="Arial"/>
                          <a:ea typeface="B Zar"/>
                        </a:rPr>
                        <a:t>0,7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Rectangle 23"/>
                    <p:cNvSpPr/>
                    <p:nvPr/>
                  </p:nvSpPr>
                  <p:spPr>
                    <a:xfrm>
                      <a:off x="3710160" y="3632040"/>
                      <a:ext cx="1438200" cy="36828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9b9b9b"/>
                        </a:gs>
                        <a:gs pos="100000">
                          <a:srgbClr val="797979"/>
                        </a:gs>
                      </a:gsLst>
                      <a:lin ang="5400000"/>
                    </a:gradFill>
                    <a:ln w="64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000000"/>
                          </a:solidFill>
                          <a:latin typeface="Arial"/>
                          <a:ea typeface="B Zar"/>
                        </a:rPr>
                        <a:t>0,93-0,8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4" name="Rectangle 24"/>
                    <p:cNvSpPr/>
                    <p:nvPr/>
                  </p:nvSpPr>
                  <p:spPr>
                    <a:xfrm>
                      <a:off x="3710160" y="4470480"/>
                      <a:ext cx="1438200" cy="30960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9b9b9b"/>
                        </a:gs>
                        <a:gs pos="100000">
                          <a:srgbClr val="797979"/>
                        </a:gs>
                      </a:gsLst>
                      <a:lin ang="5400000"/>
                    </a:gradFill>
                    <a:ln w="64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B Zar"/>
                        </a:rPr>
                        <a:t>Below  </a:t>
                      </a:r>
                      <a:r>
                        <a:rPr b="0" lang="fa-IR" sz="1800" spc="-1" strike="noStrike">
                          <a:solidFill>
                            <a:srgbClr val="000000"/>
                          </a:solidFill>
                          <a:latin typeface="Arial"/>
                          <a:ea typeface="B Zar"/>
                        </a:rPr>
                        <a:t>0,7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5" name="Rectangle 25"/>
                    <p:cNvSpPr/>
                    <p:nvPr/>
                  </p:nvSpPr>
                  <p:spPr>
                    <a:xfrm>
                      <a:off x="3710160" y="4776840"/>
                      <a:ext cx="1438200" cy="31104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9b9b9b"/>
                        </a:gs>
                        <a:gs pos="100000">
                          <a:srgbClr val="797979"/>
                        </a:gs>
                      </a:gsLst>
                      <a:lin ang="5400000"/>
                    </a:gradFill>
                    <a:ln w="64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000000"/>
                          </a:solidFill>
                          <a:latin typeface="Arial"/>
                          <a:ea typeface="B Zar"/>
                        </a:rPr>
                        <a:t>0,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cxnSp>
            <p:nvCxnSpPr>
              <p:cNvPr id="256" name="Straight Arrow Connector 27"/>
              <p:cNvCxnSpPr/>
              <p:nvPr/>
            </p:nvCxnSpPr>
            <p:spPr>
              <a:xfrm flipV="1">
                <a:off x="2025360" y="3379320"/>
                <a:ext cx="424440" cy="148320"/>
              </a:xfrm>
              <a:prstGeom prst="straightConnector1">
                <a:avLst/>
              </a:prstGeom>
              <a:ln w="648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257" name="Straight Arrow Connector 29"/>
              <p:cNvCxnSpPr/>
              <p:nvPr/>
            </p:nvCxnSpPr>
            <p:spPr>
              <a:xfrm>
                <a:off x="2025360" y="3546360"/>
                <a:ext cx="424440" cy="227520"/>
              </a:xfrm>
              <a:prstGeom prst="straightConnector1">
                <a:avLst/>
              </a:prstGeom>
              <a:ln w="648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258" name="Straight Arrow Connector 31"/>
              <p:cNvCxnSpPr/>
              <p:nvPr/>
            </p:nvCxnSpPr>
            <p:spPr>
              <a:xfrm>
                <a:off x="1933560" y="3789000"/>
                <a:ext cx="406800" cy="356040"/>
              </a:xfrm>
              <a:prstGeom prst="straightConnector1">
                <a:avLst/>
              </a:prstGeom>
              <a:ln w="648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cxnSp>
          <p:nvCxnSpPr>
            <p:cNvPr id="259" name="Straight Arrow Connector 33"/>
            <p:cNvCxnSpPr/>
            <p:nvPr/>
          </p:nvCxnSpPr>
          <p:spPr>
            <a:xfrm flipV="1">
              <a:off x="2041200" y="4204800"/>
              <a:ext cx="417960" cy="165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0" name="Straight Arrow Connector 35"/>
            <p:cNvCxnSpPr/>
            <p:nvPr/>
          </p:nvCxnSpPr>
          <p:spPr>
            <a:xfrm flipV="1">
              <a:off x="2023560" y="4593960"/>
              <a:ext cx="424440" cy="100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61" name="Rectangle 13"/>
          <p:cNvSpPr/>
          <p:nvPr/>
        </p:nvSpPr>
        <p:spPr>
          <a:xfrm>
            <a:off x="596520" y="2470320"/>
            <a:ext cx="183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  <a:cs typeface="B Zar"/>
              </a:rPr>
              <a:t>شرایط محیط کا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2774520" y="507960"/>
            <a:ext cx="2994120" cy="9907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7030a0"/>
                </a:solidFill>
                <a:latin typeface="Arial"/>
                <a:cs typeface="B Zar"/>
              </a:rPr>
              <a:t>فوق العاده ها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263160" y="2781000"/>
            <a:ext cx="8412120" cy="34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0000"/>
                </a:solidFill>
                <a:latin typeface="Arial"/>
                <a:ea typeface="B Zar"/>
              </a:rPr>
              <a:t>*دوبار در سال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0000"/>
                </a:solidFill>
                <a:latin typeface="Arial"/>
                <a:cs typeface="B Zar"/>
              </a:rPr>
              <a:t>شش ماهه اول </a:t>
            </a:r>
            <a:r>
              <a:rPr b="0" lang="fa-IR" sz="2000" spc="-1" strike="noStrike">
                <a:solidFill>
                  <a:srgbClr val="000000"/>
                </a:solidFill>
                <a:latin typeface="Arial"/>
                <a:ea typeface="B Zar"/>
              </a:rPr>
              <a:t>1394/6/3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0000"/>
                </a:solidFill>
                <a:latin typeface="Arial"/>
                <a:cs typeface="B Zar"/>
              </a:rPr>
              <a:t>شش ماهه دوم </a:t>
            </a:r>
            <a:r>
              <a:rPr b="0" lang="fa-IR" sz="2000" spc="-1" strike="noStrike">
                <a:solidFill>
                  <a:srgbClr val="000000"/>
                </a:solidFill>
                <a:latin typeface="Arial"/>
                <a:ea typeface="B Zar"/>
              </a:rPr>
              <a:t>1394/12/2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0000"/>
                </a:solidFill>
                <a:latin typeface="Arial"/>
                <a:cs typeface="B Zar"/>
              </a:rPr>
              <a:t>عیدی پایان سال (مصوبه هیأت وزیران </a:t>
            </a:r>
            <a:r>
              <a:rPr b="0" lang="fa-IR" sz="2000" spc="-1" strike="noStrike">
                <a:solidFill>
                  <a:srgbClr val="000000"/>
                </a:solidFill>
                <a:latin typeface="Arial"/>
                <a:ea typeface="B Zar"/>
              </a:rPr>
              <a:t>5/000/000</a:t>
            </a:r>
            <a:r>
              <a:rPr b="0" lang="fa-IR" sz="2000" spc="-1" strike="noStrike">
                <a:solidFill>
                  <a:srgbClr val="000000"/>
                </a:solidFill>
                <a:latin typeface="Arial"/>
                <a:ea typeface="B Zar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0000"/>
                </a:solidFill>
                <a:latin typeface="Arial"/>
                <a:cs typeface="B Zar"/>
              </a:rPr>
              <a:t>نیم درصد از درآمد که دراختیار مدیر است به صورت سهمیه ای به اداره تخصیص داده می شو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0000"/>
                </a:solidFill>
                <a:latin typeface="Arial"/>
                <a:cs typeface="B Zar"/>
              </a:rPr>
              <a:t>کارانه (بهره وری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0000"/>
                </a:solidFill>
                <a:latin typeface="Arial"/>
                <a:ea typeface="B Zar"/>
              </a:rPr>
              <a:t>         دوبار در سال بر اساس سرانه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3"/>
          <p:cNvSpPr/>
          <p:nvPr/>
        </p:nvSpPr>
        <p:spPr>
          <a:xfrm>
            <a:off x="5219640" y="2060640"/>
            <a:ext cx="3456000" cy="39672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B Zar"/>
              </a:rPr>
              <a:t>پاداش در شهرداری ها و دول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 txBox="1"/>
          <p:nvPr/>
        </p:nvSpPr>
        <p:spPr>
          <a:xfrm>
            <a:off x="179280" y="1855800"/>
            <a:ext cx="907272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7000"/>
          </a:bodyPr>
          <a:p>
            <a:pPr marL="691200" indent="-332640" algn="just" rtl="1">
              <a:spcBef>
                <a:spcPts val="9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000000"/>
                </a:solidFill>
                <a:latin typeface="Arial"/>
                <a:cs typeface="B Zar"/>
              </a:rPr>
              <a:t>حقوق معلمین بالاست. حدود </a:t>
            </a:r>
            <a:r>
              <a:rPr b="0" lang="fa-IR" sz="3600" spc="-1" strike="noStrike">
                <a:solidFill>
                  <a:srgbClr val="000000"/>
                </a:solidFill>
                <a:latin typeface="Arial"/>
                <a:ea typeface="B Zar"/>
              </a:rPr>
              <a:t>7500</a:t>
            </a:r>
            <a:r>
              <a:rPr b="0" lang="fa-IR" sz="3600" spc="-1" strike="noStrike">
                <a:solidFill>
                  <a:srgbClr val="000000"/>
                </a:solidFill>
                <a:latin typeface="Arial"/>
                <a:ea typeface="B Zar"/>
              </a:rPr>
              <a:t> دلار ماهان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91200" indent="-332640" algn="just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91200" indent="-332640" algn="just" rtl="1">
              <a:spcBef>
                <a:spcPts val="9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000000"/>
                </a:solidFill>
                <a:latin typeface="Arial"/>
                <a:cs typeface="B Zar"/>
              </a:rPr>
              <a:t>کارگر نظافت و رفتگر را مهندس بهداشت می نامند، ماهانه حدود </a:t>
            </a:r>
            <a:r>
              <a:rPr b="0" lang="fa-IR" sz="3600" spc="-1" strike="noStrike">
                <a:solidFill>
                  <a:srgbClr val="000000"/>
                </a:solidFill>
                <a:latin typeface="Arial"/>
                <a:ea typeface="B Zar"/>
              </a:rPr>
              <a:t>5000</a:t>
            </a:r>
            <a:r>
              <a:rPr b="0" lang="fa-IR" sz="3600" spc="-1" strike="noStrike">
                <a:solidFill>
                  <a:srgbClr val="000000"/>
                </a:solidFill>
                <a:latin typeface="Arial"/>
                <a:ea typeface="B Zar"/>
              </a:rPr>
              <a:t> الی </a:t>
            </a:r>
            <a:r>
              <a:rPr b="0" lang="fa-IR" sz="3600" spc="-1" strike="noStrike">
                <a:solidFill>
                  <a:srgbClr val="000000"/>
                </a:solidFill>
                <a:latin typeface="Arial"/>
                <a:ea typeface="B Zar"/>
              </a:rPr>
              <a:t>8000</a:t>
            </a:r>
            <a:r>
              <a:rPr b="0" lang="fa-IR" sz="3600" spc="-1" strike="noStrike">
                <a:solidFill>
                  <a:srgbClr val="000000"/>
                </a:solidFill>
                <a:latin typeface="Arial"/>
                <a:ea typeface="B Zar"/>
              </a:rPr>
              <a:t> دلار آمریکا حقوق می گیرند و برای ورود به این پیشه آزمون کتبی و شفاهی گرفته می شود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774520" y="507960"/>
            <a:ext cx="2994120" cy="9907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7030a0"/>
                </a:solidFill>
                <a:latin typeface="Arial"/>
                <a:cs typeface="B Zar"/>
              </a:rPr>
              <a:t>در ژاپ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 txBox="1"/>
          <p:nvPr/>
        </p:nvSpPr>
        <p:spPr>
          <a:xfrm>
            <a:off x="250560" y="2420640"/>
            <a:ext cx="8150040" cy="3438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marL="343080" indent="-343080" algn="ctr" rtl="1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2060"/>
                </a:solidFill>
                <a:latin typeface="Arial"/>
                <a:cs typeface="B Zar"/>
              </a:rPr>
              <a:t>کشور ژاپن هر ساله نظام جبران خدمت خود را بازنگری و مرور می کن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Content Placeholder 2"/>
          <p:cNvSpPr/>
          <p:nvPr/>
        </p:nvSpPr>
        <p:spPr>
          <a:xfrm>
            <a:off x="684360" y="4005360"/>
            <a:ext cx="7429320" cy="24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rmAutofit/>
          </a:bodyPr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2060"/>
                </a:solidFill>
                <a:latin typeface="Arial"/>
                <a:cs typeface="B Zar"/>
              </a:rPr>
              <a:t>ازسال </a:t>
            </a:r>
            <a:r>
              <a:rPr b="1" lang="fa-IR" sz="2400" spc="-1" strike="noStrike">
                <a:solidFill>
                  <a:srgbClr val="002060"/>
                </a:solidFill>
                <a:latin typeface="Arial"/>
                <a:ea typeface="B Zar"/>
              </a:rPr>
              <a:t>2006</a:t>
            </a:r>
            <a:r>
              <a:rPr b="1" lang="fa-IR" sz="2400" spc="-1" strike="noStrike">
                <a:solidFill>
                  <a:srgbClr val="002060"/>
                </a:solidFill>
                <a:latin typeface="Arial"/>
                <a:ea typeface="B Zar"/>
              </a:rPr>
              <a:t> تا </a:t>
            </a:r>
            <a:r>
              <a:rPr b="1" lang="fa-IR" sz="2400" spc="-1" strike="noStrike">
                <a:solidFill>
                  <a:srgbClr val="002060"/>
                </a:solidFill>
                <a:latin typeface="Arial"/>
                <a:ea typeface="B Zar"/>
              </a:rPr>
              <a:t>2010</a:t>
            </a:r>
            <a:r>
              <a:rPr b="1" lang="fa-IR" sz="2400" spc="-1" strike="noStrike">
                <a:solidFill>
                  <a:srgbClr val="002060"/>
                </a:solidFill>
                <a:latin typeface="Arial"/>
                <a:ea typeface="B Zar"/>
              </a:rPr>
              <a:t> ژاپن جبران خدمتش را اصلاح کرده است</a:t>
            </a:r>
            <a:r>
              <a:rPr b="1" lang="fa-IR" sz="2400" spc="-1" strike="noStrike">
                <a:solidFill>
                  <a:srgbClr val="002060"/>
                </a:solidFill>
                <a:latin typeface="Arial"/>
                <a:ea typeface="B Zar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866960" y="333000"/>
            <a:ext cx="5410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5400" spc="-1" strike="noStrike">
                <a:solidFill>
                  <a:srgbClr val="000000"/>
                </a:solidFill>
                <a:latin typeface="Arial"/>
                <a:cs typeface="B Zar"/>
              </a:rPr>
              <a:t>مسئله چهار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Content Placeholder 2"/>
          <p:cNvSpPr/>
          <p:nvPr/>
        </p:nvSpPr>
        <p:spPr>
          <a:xfrm>
            <a:off x="649440" y="2276640"/>
            <a:ext cx="7845120" cy="10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70000"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000" spc="-1" strike="noStrike">
                <a:solidFill>
                  <a:srgbClr val="c00000"/>
                </a:solidFill>
                <a:latin typeface="Arial"/>
                <a:cs typeface="B Titr"/>
              </a:rPr>
              <a:t>فقدان نظام مدیریت عملکر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000" spc="-1" strike="noStrike">
                <a:solidFill>
                  <a:srgbClr val="c00000"/>
                </a:solidFill>
                <a:latin typeface="Arial"/>
                <a:ea typeface="B Titr"/>
              </a:rPr>
              <a:t> و ضعف در نظام ارزیابی عملکر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4" descr=""/>
          <p:cNvPicPr/>
          <p:nvPr/>
        </p:nvPicPr>
        <p:blipFill>
          <a:blip r:embed="rId1"/>
          <a:stretch/>
        </p:blipFill>
        <p:spPr>
          <a:xfrm>
            <a:off x="-1440" y="6656400"/>
            <a:ext cx="841320" cy="201600"/>
          </a:xfrm>
          <a:prstGeom prst="rect">
            <a:avLst/>
          </a:prstGeom>
          <a:ln w="0">
            <a:noFill/>
          </a:ln>
        </p:spPr>
      </p:pic>
      <p:sp>
        <p:nvSpPr>
          <p:cNvPr id="272" name="TextBox 4"/>
          <p:cNvSpPr/>
          <p:nvPr/>
        </p:nvSpPr>
        <p:spPr>
          <a:xfrm>
            <a:off x="649440" y="3500280"/>
            <a:ext cx="6930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Zar"/>
              </a:rPr>
              <a:t>1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Zar"/>
              </a:rPr>
              <a:t>- عدم احصاء نیازهای آموزش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Zar"/>
              </a:rPr>
              <a:t>2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Zar"/>
              </a:rPr>
              <a:t>- عدم امکان تشخیص نیروی انسانی کارآمد از غیر کارآم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Zar"/>
              </a:rPr>
              <a:t>3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Zar"/>
              </a:rPr>
              <a:t>- سیستم پاداش دهی ناعادلان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Zar"/>
              </a:rPr>
              <a:t>4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Zar"/>
              </a:rPr>
              <a:t>- فقدان نظام مسیر شغل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00"/>
                </a:solidFill>
                <a:latin typeface="Arial"/>
                <a:cs typeface="B Zar"/>
              </a:rPr>
              <a:t>مدیریت عملکر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899640" y="2030400"/>
            <a:ext cx="7728120" cy="34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just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700" spc="-1" strike="noStrike">
                <a:solidFill>
                  <a:srgbClr val="000000"/>
                </a:solidFill>
                <a:latin typeface="Arial"/>
                <a:cs typeface="B Zar"/>
              </a:rPr>
              <a:t>مدیریت عملکرد فرآیندی سیستماتیک است که بر طرحریزی یا 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B Zar"/>
              </a:rPr>
              <a:t>planning</a:t>
            </a:r>
            <a:r>
              <a:rPr b="0" lang="fa-IR" sz="2700" spc="-1" strike="noStrike">
                <a:solidFill>
                  <a:srgbClr val="000000"/>
                </a:solidFill>
                <a:latin typeface="Arial"/>
                <a:ea typeface="B Zar"/>
              </a:rPr>
              <a:t> ، مربیگری یا 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B Zar"/>
              </a:rPr>
              <a:t>coaching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B Zar"/>
              </a:rPr>
              <a:t> </a:t>
            </a:r>
            <a:r>
              <a:rPr b="0" lang="fa-IR" sz="2700" spc="-1" strike="noStrike">
                <a:solidFill>
                  <a:srgbClr val="000000"/>
                </a:solidFill>
                <a:latin typeface="Arial"/>
                <a:ea typeface="B Zar"/>
              </a:rPr>
              <a:t> و بازنگری یا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B Zar"/>
              </a:rPr>
              <a:t>review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B Zar"/>
              </a:rPr>
              <a:t> </a:t>
            </a:r>
            <a:r>
              <a:rPr b="0" lang="fa-IR" sz="2700" spc="-1" strike="noStrike">
                <a:solidFill>
                  <a:srgbClr val="000000"/>
                </a:solidFill>
                <a:latin typeface="Arial"/>
                <a:ea typeface="B Zar"/>
              </a:rPr>
              <a:t> تاکید جدی دارد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AutoShape 9"/>
          <p:cNvSpPr/>
          <p:nvPr/>
        </p:nvSpPr>
        <p:spPr>
          <a:xfrm>
            <a:off x="3600360" y="4132440"/>
            <a:ext cx="1459080" cy="75564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bbe0e3"/>
              </a:gs>
              <a:gs pos="100000">
                <a:srgbClr val="57686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10"/>
          <p:cNvSpPr/>
          <p:nvPr/>
        </p:nvSpPr>
        <p:spPr>
          <a:xfrm>
            <a:off x="3961080" y="3770280"/>
            <a:ext cx="8071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Planning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11"/>
          <p:cNvSpPr/>
          <p:nvPr/>
        </p:nvSpPr>
        <p:spPr>
          <a:xfrm>
            <a:off x="4935240" y="4883040"/>
            <a:ext cx="8528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Coaching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12"/>
          <p:cNvSpPr/>
          <p:nvPr/>
        </p:nvSpPr>
        <p:spPr>
          <a:xfrm>
            <a:off x="3075480" y="4888080"/>
            <a:ext cx="7246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Review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Line 13"/>
          <p:cNvSpPr/>
          <p:nvPr/>
        </p:nvSpPr>
        <p:spPr>
          <a:xfrm>
            <a:off x="4518000" y="4076640"/>
            <a:ext cx="701640" cy="755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Line 14"/>
          <p:cNvSpPr/>
          <p:nvPr/>
        </p:nvSpPr>
        <p:spPr>
          <a:xfrm flipH="1">
            <a:off x="3708000" y="5049720"/>
            <a:ext cx="11876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Line 15"/>
          <p:cNvSpPr/>
          <p:nvPr/>
        </p:nvSpPr>
        <p:spPr>
          <a:xfrm flipV="1">
            <a:off x="3492360" y="4076280"/>
            <a:ext cx="701640" cy="755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00"/>
                </a:solidFill>
                <a:latin typeface="Arial"/>
                <a:cs typeface="B Zar"/>
              </a:rPr>
              <a:t>عوامل موثر بر عملکر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457200" y="2303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67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700" spc="-1" strike="noStrike">
                <a:solidFill>
                  <a:srgbClr val="000000"/>
                </a:solidFill>
                <a:latin typeface="Arial"/>
                <a:cs typeface="B Zar"/>
              </a:rPr>
              <a:t>ویژگیها و توانائیها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67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700" spc="-1" strike="noStrike">
                <a:solidFill>
                  <a:srgbClr val="000000"/>
                </a:solidFill>
                <a:latin typeface="Arial"/>
                <a:cs typeface="B Zar"/>
              </a:rPr>
              <a:t>مشخص بودن و مقبولیت نقش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67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700" spc="-1" strike="noStrike">
                <a:solidFill>
                  <a:srgbClr val="000000"/>
                </a:solidFill>
                <a:latin typeface="Arial"/>
                <a:cs typeface="B Zar"/>
              </a:rPr>
              <a:t>موقعیت مناسب برای عملکرد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00"/>
                </a:solidFill>
                <a:latin typeface="Arial"/>
                <a:cs typeface="B Zar"/>
              </a:rPr>
              <a:t>عوامل موثر بر عملکر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1941480" y="2187360"/>
            <a:ext cx="6686640" cy="15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67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a-IR" sz="2700" spc="-1" strike="noStrike" u="sng">
                <a:solidFill>
                  <a:srgbClr val="000000"/>
                </a:solidFill>
                <a:uFillTx/>
                <a:latin typeface="Arial"/>
                <a:cs typeface="B Zar"/>
              </a:rPr>
              <a:t>ویژگیها و توانائیها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67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700" spc="-1" strike="noStrike">
                <a:solidFill>
                  <a:srgbClr val="000000"/>
                </a:solidFill>
                <a:latin typeface="Arial"/>
                <a:cs typeface="B Zar"/>
              </a:rPr>
              <a:t>مشخص بودن و مقبولیت نقش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67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700" spc="-1" strike="noStrike">
                <a:solidFill>
                  <a:srgbClr val="000000"/>
                </a:solidFill>
                <a:latin typeface="Arial"/>
                <a:cs typeface="B Zar"/>
              </a:rPr>
              <a:t>موقعیت </a:t>
            </a:r>
            <a:r>
              <a:rPr b="0" lang="fa-IR" sz="2700" spc="-1" strike="noStrike">
                <a:solidFill>
                  <a:srgbClr val="000000"/>
                </a:solidFill>
                <a:latin typeface="Arial"/>
                <a:cs typeface="B Mitra"/>
              </a:rPr>
              <a:t>مناسب برای عملکرد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4"/>
          <p:cNvSpPr/>
          <p:nvPr/>
        </p:nvSpPr>
        <p:spPr>
          <a:xfrm>
            <a:off x="2125800" y="3948120"/>
            <a:ext cx="651024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700" spc="-1" strike="noStrike">
                <a:solidFill>
                  <a:srgbClr val="000000"/>
                </a:solidFill>
                <a:latin typeface="Times New Roman"/>
                <a:cs typeface="B Zar"/>
              </a:rPr>
              <a:t>دانش فردی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700" spc="-1" strike="noStrike">
                <a:solidFill>
                  <a:srgbClr val="000000"/>
                </a:solidFill>
                <a:latin typeface="Times New Roman"/>
                <a:cs typeface="B Zar"/>
              </a:rPr>
              <a:t>مهارتهای کاری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700" spc="-1" strike="noStrike">
                <a:solidFill>
                  <a:srgbClr val="000000"/>
                </a:solidFill>
                <a:latin typeface="Times New Roman"/>
                <a:cs typeface="B Zar"/>
              </a:rPr>
              <a:t>مهارتهای اجتماعی و ارتباطی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700" spc="-1" strike="noStrike">
                <a:solidFill>
                  <a:srgbClr val="000000"/>
                </a:solidFill>
                <a:latin typeface="Times New Roman"/>
                <a:cs typeface="B Zar"/>
              </a:rPr>
              <a:t>توانائی در رشد کاری و ارتقای خود محور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00"/>
                </a:solidFill>
                <a:latin typeface="Arial"/>
                <a:cs typeface="B Zar"/>
              </a:rPr>
              <a:t>عوامل موثر بر عملکر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1941480" y="2196720"/>
            <a:ext cx="6686640" cy="283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67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700" spc="-1" strike="noStrike">
                <a:solidFill>
                  <a:srgbClr val="000000"/>
                </a:solidFill>
                <a:latin typeface="Arial"/>
                <a:cs typeface="B Zar"/>
              </a:rPr>
              <a:t>ویژگیها و توانائیها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67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a-IR" sz="2700" spc="-1" strike="noStrike" u="sng">
                <a:solidFill>
                  <a:srgbClr val="000000"/>
                </a:solidFill>
                <a:uFillTx/>
                <a:latin typeface="Arial"/>
                <a:cs typeface="B Zar"/>
              </a:rPr>
              <a:t>مشخص بودن و مقبولیت نقش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67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700" spc="-1" strike="noStrike">
                <a:solidFill>
                  <a:srgbClr val="000000"/>
                </a:solidFill>
                <a:latin typeface="Arial"/>
                <a:cs typeface="B Zar"/>
              </a:rPr>
              <a:t>موقعیت مناسب برای عملکرد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4"/>
          <p:cNvSpPr/>
          <p:nvPr/>
        </p:nvSpPr>
        <p:spPr>
          <a:xfrm>
            <a:off x="2479680" y="3870360"/>
            <a:ext cx="6154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700" spc="-1" strike="noStrike">
                <a:solidFill>
                  <a:srgbClr val="000000"/>
                </a:solidFill>
                <a:latin typeface="Times New Roman"/>
                <a:cs typeface="B Zar"/>
              </a:rPr>
              <a:t>شناخت نیازها و الزامات کاری</a:t>
            </a:r>
            <a:r>
              <a:rPr b="0" lang="fa-IR" sz="2700" spc="-1" strike="noStrike">
                <a:solidFill>
                  <a:srgbClr val="000000"/>
                </a:solidFill>
                <a:latin typeface="Times New Roman"/>
                <a:ea typeface="B Zar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700" spc="-1" strike="noStrike">
                <a:solidFill>
                  <a:srgbClr val="000000"/>
                </a:solidFill>
                <a:latin typeface="Times New Roman"/>
                <a:cs typeface="B Zar"/>
              </a:rPr>
              <a:t>میزان وابستگی وتعلق خاطر</a:t>
            </a:r>
            <a:r>
              <a:rPr b="0" lang="fa-IR" sz="2700" spc="-1" strike="noStrike">
                <a:solidFill>
                  <a:srgbClr val="000000"/>
                </a:solidFill>
                <a:latin typeface="Times New Roman"/>
                <a:ea typeface="B Zar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700" spc="-1" strike="noStrike">
                <a:solidFill>
                  <a:srgbClr val="000000"/>
                </a:solidFill>
                <a:latin typeface="Times New Roman"/>
                <a:cs typeface="B Zar"/>
              </a:rPr>
              <a:t>میزان مقبولیت نقش در سازمان</a:t>
            </a:r>
            <a:r>
              <a:rPr b="0" lang="fa-IR" sz="2700" spc="-1" strike="noStrike">
                <a:solidFill>
                  <a:srgbClr val="000000"/>
                </a:solidFill>
                <a:latin typeface="Times New Roman"/>
                <a:ea typeface="B Zar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00"/>
                </a:solidFill>
                <a:latin typeface="Arial"/>
                <a:cs typeface="B Zar"/>
              </a:rPr>
              <a:t>عوامل موثر بر عملکر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1941480" y="2187360"/>
            <a:ext cx="6686640" cy="283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67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700" spc="-1" strike="noStrike">
                <a:solidFill>
                  <a:srgbClr val="000000"/>
                </a:solidFill>
                <a:latin typeface="Arial"/>
                <a:cs typeface="B Zar"/>
              </a:rPr>
              <a:t>ویژگیها و توانائیها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67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700" spc="-1" strike="noStrike">
                <a:solidFill>
                  <a:srgbClr val="000000"/>
                </a:solidFill>
                <a:latin typeface="Arial"/>
                <a:cs typeface="B Zar"/>
              </a:rPr>
              <a:t>مشخص بودن و مقبولیت نقش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67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a-IR" sz="2700" spc="-1" strike="noStrike" u="sng">
                <a:solidFill>
                  <a:srgbClr val="000000"/>
                </a:solidFill>
                <a:uFillTx/>
                <a:latin typeface="Arial"/>
                <a:cs typeface="B Zar"/>
              </a:rPr>
              <a:t>موقعیت مناسب برای عملکرد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4"/>
          <p:cNvSpPr/>
          <p:nvPr/>
        </p:nvSpPr>
        <p:spPr>
          <a:xfrm>
            <a:off x="2489040" y="3875040"/>
            <a:ext cx="6154920" cy="18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700" spc="-1" strike="noStrike">
                <a:solidFill>
                  <a:srgbClr val="000000"/>
                </a:solidFill>
                <a:latin typeface="Times New Roman"/>
                <a:cs typeface="B Zar"/>
              </a:rPr>
              <a:t>شرایط مساعد برای کار و عملکرد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700" spc="-1" strike="noStrike">
                <a:solidFill>
                  <a:srgbClr val="000000"/>
                </a:solidFill>
                <a:latin typeface="Times New Roman"/>
                <a:cs typeface="B Zar"/>
              </a:rPr>
              <a:t>محدودیتها و فشارهای تحمیلی از طرف سازمان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700" spc="-1" strike="noStrike">
                <a:solidFill>
                  <a:srgbClr val="000000"/>
                </a:solidFill>
                <a:latin typeface="Times New Roman"/>
                <a:cs typeface="B Zar"/>
              </a:rPr>
              <a:t>محیط انگیزشی و توجه به پاداش عملکردی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2"/>
          <p:cNvSpPr/>
          <p:nvPr/>
        </p:nvSpPr>
        <p:spPr>
          <a:xfrm>
            <a:off x="4140360" y="628560"/>
            <a:ext cx="4483080" cy="16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fa-IR" sz="3600" spc="-1" strike="noStrike">
                <a:solidFill>
                  <a:srgbClr val="7030a0"/>
                </a:solidFill>
                <a:latin typeface="Arial"/>
                <a:cs typeface="B Titr"/>
              </a:rPr>
              <a:t>گرایشات جدید در مدیریت</a:t>
            </a:r>
            <a:r>
              <a:rPr b="0" lang="fa-IR" sz="3600" spc="-1" strike="noStrike">
                <a:solidFill>
                  <a:srgbClr val="7030a0"/>
                </a:solidFill>
                <a:latin typeface="Arial"/>
                <a:ea typeface="B Titr"/>
              </a:rPr>
              <a:t>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395280" y="2133720"/>
            <a:ext cx="8067600" cy="41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57040" indent="-257040" algn="r" rtl="1">
              <a:lnSpc>
                <a:spcPct val="150000"/>
              </a:lnSpc>
              <a:spcBef>
                <a:spcPts val="751"/>
              </a:spcBef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1" lang="fa-IR" sz="2200" spc="-1" strike="noStrike">
                <a:solidFill>
                  <a:srgbClr val="000000"/>
                </a:solidFill>
                <a:latin typeface="Arial"/>
                <a:ea typeface="B Badr"/>
              </a:rPr>
              <a:t>1</a:t>
            </a:r>
            <a:r>
              <a:rPr b="1" lang="fa-IR" sz="2200" spc="-1" strike="noStrike">
                <a:solidFill>
                  <a:srgbClr val="000000"/>
                </a:solidFill>
                <a:latin typeface="Arial"/>
                <a:cs typeface="B Badr"/>
              </a:rPr>
              <a:t>ـ در هم ریختن مرزهای فعالیتها و سازمانها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 algn="r" rtl="1">
              <a:lnSpc>
                <a:spcPct val="150000"/>
              </a:lnSpc>
              <a:spcBef>
                <a:spcPts val="751"/>
              </a:spcBef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1" lang="fa-IR" sz="2200" spc="-1" strike="noStrike">
                <a:solidFill>
                  <a:srgbClr val="000000"/>
                </a:solidFill>
                <a:latin typeface="Arial"/>
                <a:ea typeface="B Badr"/>
              </a:rPr>
              <a:t>2</a:t>
            </a:r>
            <a:r>
              <a:rPr b="1" lang="fa-IR" sz="2200" spc="-1" strike="noStrike">
                <a:solidFill>
                  <a:srgbClr val="000000"/>
                </a:solidFill>
                <a:latin typeface="Arial"/>
                <a:cs typeface="B Badr"/>
              </a:rPr>
              <a:t>ـافزایش رقابت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 algn="r" rtl="1">
              <a:lnSpc>
                <a:spcPct val="150000"/>
              </a:lnSpc>
              <a:spcBef>
                <a:spcPts val="751"/>
              </a:spcBef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1" lang="fa-IR" sz="2200" spc="-1" strike="noStrike">
                <a:solidFill>
                  <a:srgbClr val="000000"/>
                </a:solidFill>
                <a:latin typeface="Arial"/>
                <a:ea typeface="B Badr"/>
              </a:rPr>
              <a:t>3</a:t>
            </a:r>
            <a:r>
              <a:rPr b="1" lang="fa-IR" sz="2200" spc="-1" strike="noStrike">
                <a:solidFill>
                  <a:srgbClr val="000000"/>
                </a:solidFill>
                <a:latin typeface="Arial"/>
                <a:cs typeface="B Badr"/>
              </a:rPr>
              <a:t>ـاتحاد جهانی تجارت /بازار جهانی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 algn="r" rtl="1">
              <a:lnSpc>
                <a:spcPct val="150000"/>
              </a:lnSpc>
              <a:spcBef>
                <a:spcPts val="751"/>
              </a:spcBef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1" lang="fa-IR" sz="2200" spc="-1" strike="noStrike">
                <a:solidFill>
                  <a:srgbClr val="000000"/>
                </a:solidFill>
                <a:latin typeface="Arial"/>
                <a:ea typeface="B Badr"/>
              </a:rPr>
              <a:t>4</a:t>
            </a:r>
            <a:r>
              <a:rPr b="1" lang="fa-IR" sz="2200" spc="-1" strike="noStrike">
                <a:solidFill>
                  <a:srgbClr val="000000"/>
                </a:solidFill>
                <a:latin typeface="Arial"/>
                <a:cs typeface="B Badr"/>
              </a:rPr>
              <a:t>ـ حرکت به سوی جوامع اطلاعاتی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 algn="r" rtl="1">
              <a:lnSpc>
                <a:spcPct val="150000"/>
              </a:lnSpc>
              <a:spcBef>
                <a:spcPts val="751"/>
              </a:spcBef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1" lang="fa-IR" sz="2200" spc="-1" strike="noStrike">
                <a:solidFill>
                  <a:srgbClr val="000000"/>
                </a:solidFill>
                <a:latin typeface="Arial"/>
                <a:ea typeface="B Badr"/>
              </a:rPr>
              <a:t>5</a:t>
            </a:r>
            <a:r>
              <a:rPr b="1" lang="fa-IR" sz="2200" spc="-1" strike="noStrike">
                <a:solidFill>
                  <a:srgbClr val="000000"/>
                </a:solidFill>
                <a:latin typeface="Arial"/>
                <a:cs typeface="B Badr"/>
              </a:rPr>
              <a:t>ـ افزایش پیچیدگی مدیریت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 algn="r" rtl="1">
              <a:lnSpc>
                <a:spcPct val="150000"/>
              </a:lnSpc>
              <a:spcBef>
                <a:spcPts val="751"/>
              </a:spcBef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1" lang="fa-IR" sz="2200" spc="-1" strike="noStrike">
                <a:solidFill>
                  <a:srgbClr val="000000"/>
                </a:solidFill>
                <a:latin typeface="Arial"/>
                <a:ea typeface="B Badr"/>
              </a:rPr>
              <a:t>6</a:t>
            </a:r>
            <a:r>
              <a:rPr b="1" lang="fa-IR" sz="2200" spc="-1" strike="noStrike">
                <a:solidFill>
                  <a:srgbClr val="000000"/>
                </a:solidFill>
                <a:latin typeface="Arial"/>
                <a:cs typeface="B Badr"/>
              </a:rPr>
              <a:t>ـ تشخیص اطلاعات به عنوان منبع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 algn="r" rtl="1">
              <a:lnSpc>
                <a:spcPct val="150000"/>
              </a:lnSpc>
              <a:spcBef>
                <a:spcPts val="751"/>
              </a:spcBef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1" lang="fa-IR" sz="2200" spc="-1" strike="noStrike">
                <a:solidFill>
                  <a:srgbClr val="000000"/>
                </a:solidFill>
                <a:latin typeface="Arial"/>
                <a:ea typeface="B Badr"/>
              </a:rPr>
              <a:t>7</a:t>
            </a:r>
            <a:r>
              <a:rPr b="1" lang="fa-IR" sz="2200" spc="-1" strike="noStrike">
                <a:solidFill>
                  <a:srgbClr val="000000"/>
                </a:solidFill>
                <a:latin typeface="Arial"/>
                <a:cs typeface="B Badr"/>
              </a:rPr>
              <a:t>ـ تغییر و مدیریت تغییر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3" name="Group 3"/>
          <p:cNvGrpSpPr/>
          <p:nvPr/>
        </p:nvGrpSpPr>
        <p:grpSpPr>
          <a:xfrm>
            <a:off x="1683720" y="3537000"/>
            <a:ext cx="1185120" cy="1037160"/>
            <a:chOff x="1683720" y="3537000"/>
            <a:chExt cx="1185120" cy="1037160"/>
          </a:xfrm>
        </p:grpSpPr>
        <p:sp>
          <p:nvSpPr>
            <p:cNvPr id="294" name="AutoShape 4"/>
            <p:cNvSpPr/>
            <p:nvPr/>
          </p:nvSpPr>
          <p:spPr>
            <a:xfrm>
              <a:off x="1709280" y="3537000"/>
              <a:ext cx="1081080" cy="1026720"/>
            </a:xfrm>
            <a:prstGeom prst="roundRect">
              <a:avLst>
                <a:gd name="adj" fmla="val 16667"/>
              </a:avLst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Text Box 5"/>
            <p:cNvSpPr/>
            <p:nvPr/>
          </p:nvSpPr>
          <p:spPr>
            <a:xfrm>
              <a:off x="1683720" y="3566520"/>
              <a:ext cx="118512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ffff"/>
                  </a:solidFill>
                  <a:latin typeface="Times New Roman"/>
                  <a:ea typeface="B Zar"/>
                </a:rPr>
                <a:t>Effort 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a-IR" sz="3000" spc="-1" strike="noStrike">
                  <a:solidFill>
                    <a:srgbClr val="ffffff"/>
                  </a:solidFill>
                  <a:latin typeface="Times New Roman"/>
                  <a:cs typeface="B Zar"/>
                </a:rPr>
                <a:t>تلاش</a:t>
              </a:r>
              <a:r>
                <a:rPr b="0" lang="fa-IR" sz="3000" spc="-1" strike="noStrike">
                  <a:solidFill>
                    <a:srgbClr val="ffffff"/>
                  </a:solidFill>
                  <a:latin typeface="Times New Roman"/>
                  <a:ea typeface="B Zar"/>
                </a:rPr>
                <a:t> 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" name="Group 6"/>
          <p:cNvGrpSpPr/>
          <p:nvPr/>
        </p:nvGrpSpPr>
        <p:grpSpPr>
          <a:xfrm>
            <a:off x="5813280" y="3537000"/>
            <a:ext cx="1621080" cy="1027080"/>
            <a:chOff x="5813280" y="3537000"/>
            <a:chExt cx="1621080" cy="1027080"/>
          </a:xfrm>
        </p:grpSpPr>
        <p:sp>
          <p:nvSpPr>
            <p:cNvPr id="297" name="AutoShape 7"/>
            <p:cNvSpPr/>
            <p:nvPr/>
          </p:nvSpPr>
          <p:spPr>
            <a:xfrm>
              <a:off x="5813280" y="3537000"/>
              <a:ext cx="1621080" cy="1027080"/>
            </a:xfrm>
            <a:prstGeom prst="roundRect">
              <a:avLst>
                <a:gd name="adj" fmla="val 16667"/>
              </a:avLst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Text Box 8"/>
            <p:cNvSpPr/>
            <p:nvPr/>
          </p:nvSpPr>
          <p:spPr>
            <a:xfrm>
              <a:off x="5821200" y="3537000"/>
              <a:ext cx="161280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ffff"/>
                  </a:solidFill>
                  <a:latin typeface="Times New Roman"/>
                  <a:ea typeface="B Zar"/>
                </a:rPr>
                <a:t>efficacy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a-IR" sz="3000" spc="-1" strike="noStrike">
                  <a:solidFill>
                    <a:srgbClr val="ffffff"/>
                  </a:solidFill>
                  <a:latin typeface="Times New Roman"/>
                  <a:cs typeface="B Zar"/>
                </a:rPr>
                <a:t>بازده</a:t>
              </a:r>
              <a:r>
                <a:rPr b="0" lang="fa-IR" sz="3000" spc="-1" strike="noStrike">
                  <a:solidFill>
                    <a:srgbClr val="ffffff"/>
                  </a:solidFill>
                  <a:latin typeface="Times New Roman"/>
                  <a:ea typeface="B Zar"/>
                </a:rPr>
                <a:t> 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9" name="AutoShape 9"/>
          <p:cNvSpPr/>
          <p:nvPr/>
        </p:nvSpPr>
        <p:spPr>
          <a:xfrm>
            <a:off x="2789280" y="3860640"/>
            <a:ext cx="487440" cy="271800"/>
          </a:xfrm>
          <a:prstGeom prst="rightArrow">
            <a:avLst>
              <a:gd name="adj1" fmla="val 50000"/>
              <a:gd name="adj2" fmla="val 44992"/>
            </a:avLst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0" name="Group 10"/>
          <p:cNvGrpSpPr/>
          <p:nvPr/>
        </p:nvGrpSpPr>
        <p:grpSpPr>
          <a:xfrm>
            <a:off x="3236040" y="3537000"/>
            <a:ext cx="2221200" cy="1027080"/>
            <a:chOff x="3236040" y="3537000"/>
            <a:chExt cx="2221200" cy="1027080"/>
          </a:xfrm>
        </p:grpSpPr>
        <p:sp>
          <p:nvSpPr>
            <p:cNvPr id="301" name="AutoShape 11"/>
            <p:cNvSpPr/>
            <p:nvPr/>
          </p:nvSpPr>
          <p:spPr>
            <a:xfrm>
              <a:off x="3276360" y="3537000"/>
              <a:ext cx="2051280" cy="1027080"/>
            </a:xfrm>
            <a:prstGeom prst="roundRect">
              <a:avLst>
                <a:gd name="adj" fmla="val 16667"/>
              </a:avLst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Text Box 12"/>
            <p:cNvSpPr/>
            <p:nvPr/>
          </p:nvSpPr>
          <p:spPr>
            <a:xfrm>
              <a:off x="3236040" y="3537000"/>
              <a:ext cx="222120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ffff"/>
                  </a:solidFill>
                  <a:latin typeface="Times New Roman"/>
                  <a:ea typeface="B Zar"/>
                </a:rPr>
                <a:t>Performance 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a-IR" sz="3000" spc="-1" strike="noStrike">
                  <a:solidFill>
                    <a:srgbClr val="ffffff"/>
                  </a:solidFill>
                  <a:latin typeface="Times New Roman"/>
                  <a:cs typeface="B Zar"/>
                </a:rPr>
                <a:t>عملکرد</a:t>
              </a:r>
              <a:r>
                <a:rPr b="0" lang="fa-IR" sz="3000" spc="-1" strike="noStrike">
                  <a:solidFill>
                    <a:srgbClr val="ffffff"/>
                  </a:solidFill>
                  <a:latin typeface="Times New Roman"/>
                  <a:ea typeface="B Zar"/>
                </a:rPr>
                <a:t> 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3" name="AutoShape 13"/>
          <p:cNvSpPr/>
          <p:nvPr/>
        </p:nvSpPr>
        <p:spPr>
          <a:xfrm>
            <a:off x="5327640" y="3860640"/>
            <a:ext cx="487440" cy="271800"/>
          </a:xfrm>
          <a:prstGeom prst="rightArrow">
            <a:avLst>
              <a:gd name="adj1" fmla="val 50000"/>
              <a:gd name="adj2" fmla="val 44992"/>
            </a:avLst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11280" y="396360"/>
            <a:ext cx="8353440" cy="1047960"/>
          </a:xfrm>
          <a:prstGeom prst="rect">
            <a:avLst/>
          </a:prstGeom>
          <a:solidFill>
            <a:srgbClr val="8ac6c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66"/>
                </a:solidFill>
                <a:latin typeface="Arial"/>
                <a:cs typeface="B Mitra"/>
              </a:rPr>
              <a:t>کار مورد نظر با چه احتمالی شما را به تلاش وا می دارد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5" name="Group 3"/>
          <p:cNvGrpSpPr/>
          <p:nvPr/>
        </p:nvGrpSpPr>
        <p:grpSpPr>
          <a:xfrm>
            <a:off x="1683720" y="3537000"/>
            <a:ext cx="1185120" cy="1037160"/>
            <a:chOff x="1683720" y="3537000"/>
            <a:chExt cx="1185120" cy="1037160"/>
          </a:xfrm>
        </p:grpSpPr>
        <p:sp>
          <p:nvSpPr>
            <p:cNvPr id="306" name="AutoShape 4"/>
            <p:cNvSpPr/>
            <p:nvPr/>
          </p:nvSpPr>
          <p:spPr>
            <a:xfrm>
              <a:off x="1709280" y="3537000"/>
              <a:ext cx="1081080" cy="1026720"/>
            </a:xfrm>
            <a:prstGeom prst="roundRect">
              <a:avLst>
                <a:gd name="adj" fmla="val 16667"/>
              </a:avLst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Text Box 5"/>
            <p:cNvSpPr/>
            <p:nvPr/>
          </p:nvSpPr>
          <p:spPr>
            <a:xfrm>
              <a:off x="1683720" y="3566520"/>
              <a:ext cx="118512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ffff"/>
                  </a:solidFill>
                  <a:latin typeface="Times New Roman"/>
                  <a:ea typeface="B Zar"/>
                </a:rPr>
                <a:t>Effort 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a-IR" sz="3000" spc="-1" strike="noStrike">
                  <a:solidFill>
                    <a:srgbClr val="ffffff"/>
                  </a:solidFill>
                  <a:latin typeface="Times New Roman"/>
                  <a:cs typeface="B Zar"/>
                </a:rPr>
                <a:t>تلاش</a:t>
              </a:r>
              <a:r>
                <a:rPr b="0" lang="fa-IR" sz="3000" spc="-1" strike="noStrike">
                  <a:solidFill>
                    <a:srgbClr val="ffffff"/>
                  </a:solidFill>
                  <a:latin typeface="Times New Roman"/>
                  <a:ea typeface="B Zar"/>
                </a:rPr>
                <a:t> 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8" name="Group 6"/>
          <p:cNvGrpSpPr/>
          <p:nvPr/>
        </p:nvGrpSpPr>
        <p:grpSpPr>
          <a:xfrm>
            <a:off x="5813280" y="3537000"/>
            <a:ext cx="1621080" cy="1027080"/>
            <a:chOff x="5813280" y="3537000"/>
            <a:chExt cx="1621080" cy="1027080"/>
          </a:xfrm>
        </p:grpSpPr>
        <p:sp>
          <p:nvSpPr>
            <p:cNvPr id="309" name="AutoShape 7"/>
            <p:cNvSpPr/>
            <p:nvPr/>
          </p:nvSpPr>
          <p:spPr>
            <a:xfrm>
              <a:off x="5813280" y="3537000"/>
              <a:ext cx="1621080" cy="1027080"/>
            </a:xfrm>
            <a:prstGeom prst="roundRect">
              <a:avLst>
                <a:gd name="adj" fmla="val 16667"/>
              </a:avLst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Text Box 8"/>
            <p:cNvSpPr/>
            <p:nvPr/>
          </p:nvSpPr>
          <p:spPr>
            <a:xfrm>
              <a:off x="5821200" y="3537000"/>
              <a:ext cx="153900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ffff"/>
                  </a:solidFill>
                  <a:latin typeface="Times New Roman"/>
                  <a:ea typeface="B Zar"/>
                </a:rPr>
                <a:t>efficacy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a-IR" sz="3000" spc="-1" strike="noStrike">
                  <a:solidFill>
                    <a:srgbClr val="ffffff"/>
                  </a:solidFill>
                  <a:latin typeface="Times New Roman"/>
                  <a:cs typeface="B Zar"/>
                </a:rPr>
                <a:t>بازده</a:t>
              </a:r>
              <a:r>
                <a:rPr b="0" lang="fa-IR" sz="3000" spc="-1" strike="noStrike">
                  <a:solidFill>
                    <a:srgbClr val="ffffff"/>
                  </a:solidFill>
                  <a:latin typeface="Times New Roman"/>
                  <a:ea typeface="B Zar"/>
                </a:rPr>
                <a:t> 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1" name="AutoShape 9"/>
          <p:cNvSpPr/>
          <p:nvPr/>
        </p:nvSpPr>
        <p:spPr>
          <a:xfrm>
            <a:off x="2789280" y="3860640"/>
            <a:ext cx="487440" cy="271800"/>
          </a:xfrm>
          <a:prstGeom prst="rightArrow">
            <a:avLst>
              <a:gd name="adj1" fmla="val 50000"/>
              <a:gd name="adj2" fmla="val 44992"/>
            </a:avLst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2" name="Group 10"/>
          <p:cNvGrpSpPr/>
          <p:nvPr/>
        </p:nvGrpSpPr>
        <p:grpSpPr>
          <a:xfrm>
            <a:off x="3236040" y="3537000"/>
            <a:ext cx="2221200" cy="1027080"/>
            <a:chOff x="3236040" y="3537000"/>
            <a:chExt cx="2221200" cy="1027080"/>
          </a:xfrm>
        </p:grpSpPr>
        <p:sp>
          <p:nvSpPr>
            <p:cNvPr id="313" name="AutoShape 11"/>
            <p:cNvSpPr/>
            <p:nvPr/>
          </p:nvSpPr>
          <p:spPr>
            <a:xfrm>
              <a:off x="3276360" y="3537000"/>
              <a:ext cx="2051280" cy="1027080"/>
            </a:xfrm>
            <a:prstGeom prst="roundRect">
              <a:avLst>
                <a:gd name="adj" fmla="val 16667"/>
              </a:avLst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Text Box 12"/>
            <p:cNvSpPr/>
            <p:nvPr/>
          </p:nvSpPr>
          <p:spPr>
            <a:xfrm>
              <a:off x="3236040" y="3537000"/>
              <a:ext cx="222120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ffff"/>
                  </a:solidFill>
                  <a:latin typeface="Times New Roman"/>
                  <a:ea typeface="B Zar"/>
                </a:rPr>
                <a:t>Performance 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a-IR" sz="3000" spc="-1" strike="noStrike">
                  <a:solidFill>
                    <a:srgbClr val="ffffff"/>
                  </a:solidFill>
                  <a:latin typeface="Times New Roman"/>
                  <a:cs typeface="B Zar"/>
                </a:rPr>
                <a:t>عملکرد</a:t>
              </a:r>
              <a:r>
                <a:rPr b="0" lang="fa-IR" sz="3000" spc="-1" strike="noStrike">
                  <a:solidFill>
                    <a:srgbClr val="ffffff"/>
                  </a:solidFill>
                  <a:latin typeface="Times New Roman"/>
                  <a:ea typeface="B Zar"/>
                </a:rPr>
                <a:t> 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AutoShape 13"/>
          <p:cNvSpPr/>
          <p:nvPr/>
        </p:nvSpPr>
        <p:spPr>
          <a:xfrm>
            <a:off x="5327640" y="3860640"/>
            <a:ext cx="487440" cy="271800"/>
          </a:xfrm>
          <a:prstGeom prst="rightArrow">
            <a:avLst>
              <a:gd name="adj1" fmla="val 50000"/>
              <a:gd name="adj2" fmla="val 44992"/>
            </a:avLst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14"/>
          <p:cNvSpPr/>
          <p:nvPr/>
        </p:nvSpPr>
        <p:spPr>
          <a:xfrm>
            <a:off x="1280160" y="2031840"/>
            <a:ext cx="453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B Zar"/>
              </a:rPr>
              <a:t>P1=</a:t>
            </a:r>
            <a:r>
              <a:rPr b="0" lang="fa-IR" sz="2400" spc="-1" strike="noStrike">
                <a:solidFill>
                  <a:srgbClr val="000000"/>
                </a:solidFill>
                <a:latin typeface="Times New Roman"/>
                <a:cs typeface="B Zar"/>
              </a:rPr>
              <a:t>احتمال تبدیل تلاش به عملکرد</a:t>
            </a:r>
            <a:r>
              <a:rPr b="0" lang="fa-IR" sz="2400" spc="-1" strike="noStrike">
                <a:solidFill>
                  <a:srgbClr val="000000"/>
                </a:solidFill>
                <a:latin typeface="Times New Roman"/>
                <a:ea typeface="B Zar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B Zar"/>
              </a:rPr>
              <a:t>P2=</a:t>
            </a:r>
            <a:r>
              <a:rPr b="0" lang="fa-IR" sz="2400" spc="-1" strike="noStrike">
                <a:solidFill>
                  <a:srgbClr val="000000"/>
                </a:solidFill>
                <a:latin typeface="Times New Roman"/>
                <a:cs typeface="B Zar"/>
              </a:rPr>
              <a:t>احتمال تبدیل عملکرد به بازده</a:t>
            </a:r>
            <a:r>
              <a:rPr b="0" lang="fa-IR" sz="2400" spc="-1" strike="noStrike">
                <a:solidFill>
                  <a:srgbClr val="000000"/>
                </a:solidFill>
                <a:latin typeface="Times New Roman"/>
                <a:ea typeface="B Zar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B Zar"/>
              </a:rPr>
              <a:t>V =</a:t>
            </a:r>
            <a:r>
              <a:rPr b="0" lang="fa-IR" sz="2400" spc="-1" strike="noStrike">
                <a:solidFill>
                  <a:srgbClr val="000000"/>
                </a:solidFill>
                <a:latin typeface="Times New Roman"/>
                <a:cs typeface="B Zar"/>
              </a:rPr>
              <a:t>ارزش بازده و پاداش برای فرد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B Zar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15"/>
          <p:cNvSpPr/>
          <p:nvPr/>
        </p:nvSpPr>
        <p:spPr>
          <a:xfrm>
            <a:off x="5584680" y="2038320"/>
            <a:ext cx="201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  <a:ea typeface="B Zar"/>
              </a:rPr>
              <a:t>P1= 0 to 1</a:t>
            </a:r>
            <a:r>
              <a:rPr b="0" lang="fa-IR" sz="2400" spc="-1" strike="noStrike">
                <a:solidFill>
                  <a:srgbClr val="262626"/>
                </a:solidFill>
                <a:latin typeface="Times New Roman"/>
                <a:ea typeface="B Zar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  <a:ea typeface="B Zar"/>
              </a:rPr>
              <a:t>P2= 0 to 1</a:t>
            </a:r>
            <a:r>
              <a:rPr b="0" lang="fa-IR" sz="2400" spc="-1" strike="noStrike">
                <a:solidFill>
                  <a:srgbClr val="262626"/>
                </a:solidFill>
                <a:latin typeface="Times New Roman"/>
                <a:ea typeface="B Zar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  <a:ea typeface="B Zar"/>
              </a:rPr>
              <a:t>V = -1 to +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16"/>
          <p:cNvSpPr/>
          <p:nvPr/>
        </p:nvSpPr>
        <p:spPr>
          <a:xfrm>
            <a:off x="1749600" y="4770360"/>
            <a:ext cx="1311120" cy="916920"/>
          </a:xfrm>
          <a:prstGeom prst="rect">
            <a:avLst/>
          </a:prstGeom>
          <a:solidFill>
            <a:srgbClr val="000066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B Zar"/>
              </a:rPr>
              <a:t>P1= 0.9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B Zar"/>
              </a:rPr>
              <a:t>P2= 0.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B Zar"/>
              </a:rPr>
              <a:t>V = +0.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17"/>
          <p:cNvSpPr/>
          <p:nvPr/>
        </p:nvSpPr>
        <p:spPr>
          <a:xfrm>
            <a:off x="3165480" y="4726080"/>
            <a:ext cx="3948120" cy="10080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  <a:ea typeface="B Zar"/>
              </a:rPr>
              <a:t>Effort = P1*P2*V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  <a:ea typeface="B Zar"/>
              </a:rPr>
              <a:t>Effort= 0.9*0.9*0.8=</a:t>
            </a:r>
            <a:r>
              <a:rPr b="0" lang="en-US" sz="3300" spc="-1" strike="noStrike">
                <a:solidFill>
                  <a:srgbClr val="ffffff"/>
                </a:solidFill>
                <a:latin typeface="Times New Roman"/>
                <a:ea typeface="B Zar"/>
              </a:rPr>
              <a:t> </a:t>
            </a:r>
            <a:r>
              <a:rPr b="0" lang="en-US" sz="3300" spc="-1" strike="noStrike">
                <a:solidFill>
                  <a:srgbClr val="ff0000"/>
                </a:solidFill>
                <a:latin typeface="Times New Roman"/>
                <a:ea typeface="B Zar"/>
              </a:rPr>
              <a:t>0.65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5" dur="2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5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6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8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0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2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0" name="Group 2"/>
          <p:cNvGrpSpPr/>
          <p:nvPr/>
        </p:nvGrpSpPr>
        <p:grpSpPr>
          <a:xfrm>
            <a:off x="1683720" y="3537000"/>
            <a:ext cx="1185120" cy="1037160"/>
            <a:chOff x="1683720" y="3537000"/>
            <a:chExt cx="1185120" cy="1037160"/>
          </a:xfrm>
        </p:grpSpPr>
        <p:sp>
          <p:nvSpPr>
            <p:cNvPr id="321" name="AutoShape 3"/>
            <p:cNvSpPr/>
            <p:nvPr/>
          </p:nvSpPr>
          <p:spPr>
            <a:xfrm>
              <a:off x="1709280" y="3537000"/>
              <a:ext cx="1081080" cy="1026720"/>
            </a:xfrm>
            <a:prstGeom prst="roundRect">
              <a:avLst>
                <a:gd name="adj" fmla="val 16667"/>
              </a:avLst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Text Box 4"/>
            <p:cNvSpPr/>
            <p:nvPr/>
          </p:nvSpPr>
          <p:spPr>
            <a:xfrm>
              <a:off x="1683720" y="3566520"/>
              <a:ext cx="118512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ffff"/>
                  </a:solidFill>
                  <a:latin typeface="Times New Roman"/>
                  <a:ea typeface="B Zar"/>
                </a:rPr>
                <a:t>Effort 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a-IR" sz="3000" spc="-1" strike="noStrike">
                  <a:solidFill>
                    <a:srgbClr val="ffffff"/>
                  </a:solidFill>
                  <a:latin typeface="Times New Roman"/>
                  <a:cs typeface="B Zar"/>
                </a:rPr>
                <a:t>تلاش</a:t>
              </a:r>
              <a:r>
                <a:rPr b="0" lang="fa-IR" sz="3000" spc="-1" strike="noStrike">
                  <a:solidFill>
                    <a:srgbClr val="ffffff"/>
                  </a:solidFill>
                  <a:latin typeface="Times New Roman"/>
                  <a:ea typeface="B Zar"/>
                </a:rPr>
                <a:t> 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3" name="Group 5"/>
          <p:cNvGrpSpPr/>
          <p:nvPr/>
        </p:nvGrpSpPr>
        <p:grpSpPr>
          <a:xfrm>
            <a:off x="5813280" y="3537000"/>
            <a:ext cx="1621080" cy="1027080"/>
            <a:chOff x="5813280" y="3537000"/>
            <a:chExt cx="1621080" cy="1027080"/>
          </a:xfrm>
        </p:grpSpPr>
        <p:sp>
          <p:nvSpPr>
            <p:cNvPr id="324" name="AutoShape 6"/>
            <p:cNvSpPr/>
            <p:nvPr/>
          </p:nvSpPr>
          <p:spPr>
            <a:xfrm>
              <a:off x="5813280" y="3537000"/>
              <a:ext cx="1621080" cy="1027080"/>
            </a:xfrm>
            <a:prstGeom prst="roundRect">
              <a:avLst>
                <a:gd name="adj" fmla="val 16667"/>
              </a:avLst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Text Box 7"/>
            <p:cNvSpPr/>
            <p:nvPr/>
          </p:nvSpPr>
          <p:spPr>
            <a:xfrm>
              <a:off x="5821200" y="3537000"/>
              <a:ext cx="161280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ffff"/>
                  </a:solidFill>
                  <a:latin typeface="Times New Roman"/>
                  <a:ea typeface="B Zar"/>
                </a:rPr>
                <a:t>efficacy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a-IR" sz="3000" spc="-1" strike="noStrike">
                  <a:solidFill>
                    <a:srgbClr val="ffffff"/>
                  </a:solidFill>
                  <a:latin typeface="Times New Roman"/>
                  <a:cs typeface="B Zar"/>
                </a:rPr>
                <a:t>بازده</a:t>
              </a:r>
              <a:r>
                <a:rPr b="0" lang="fa-IR" sz="3000" spc="-1" strike="noStrike">
                  <a:solidFill>
                    <a:srgbClr val="ffffff"/>
                  </a:solidFill>
                  <a:latin typeface="Times New Roman"/>
                  <a:ea typeface="B Zar"/>
                </a:rPr>
                <a:t> 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6" name="AutoShape 8"/>
          <p:cNvSpPr/>
          <p:nvPr/>
        </p:nvSpPr>
        <p:spPr>
          <a:xfrm>
            <a:off x="2789280" y="3860640"/>
            <a:ext cx="487440" cy="271800"/>
          </a:xfrm>
          <a:prstGeom prst="rightArrow">
            <a:avLst>
              <a:gd name="adj1" fmla="val 50000"/>
              <a:gd name="adj2" fmla="val 44992"/>
            </a:avLst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7" name="Group 9"/>
          <p:cNvGrpSpPr/>
          <p:nvPr/>
        </p:nvGrpSpPr>
        <p:grpSpPr>
          <a:xfrm>
            <a:off x="3236040" y="3537000"/>
            <a:ext cx="2221200" cy="1027080"/>
            <a:chOff x="3236040" y="3537000"/>
            <a:chExt cx="2221200" cy="1027080"/>
          </a:xfrm>
        </p:grpSpPr>
        <p:sp>
          <p:nvSpPr>
            <p:cNvPr id="328" name="AutoShape 10"/>
            <p:cNvSpPr/>
            <p:nvPr/>
          </p:nvSpPr>
          <p:spPr>
            <a:xfrm>
              <a:off x="3276360" y="3537000"/>
              <a:ext cx="2051280" cy="1027080"/>
            </a:xfrm>
            <a:prstGeom prst="roundRect">
              <a:avLst>
                <a:gd name="adj" fmla="val 16667"/>
              </a:avLst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Text Box 11"/>
            <p:cNvSpPr/>
            <p:nvPr/>
          </p:nvSpPr>
          <p:spPr>
            <a:xfrm>
              <a:off x="3236040" y="3537000"/>
              <a:ext cx="222120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ffff"/>
                  </a:solidFill>
                  <a:latin typeface="Times New Roman"/>
                  <a:ea typeface="B Zar"/>
                </a:rPr>
                <a:t>Performance 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a-IR" sz="3000" spc="-1" strike="noStrike">
                  <a:solidFill>
                    <a:srgbClr val="ffffff"/>
                  </a:solidFill>
                  <a:latin typeface="Times New Roman"/>
                  <a:cs typeface="B Zar"/>
                </a:rPr>
                <a:t>عملکرد</a:t>
              </a:r>
              <a:r>
                <a:rPr b="0" lang="fa-IR" sz="3000" spc="-1" strike="noStrike">
                  <a:solidFill>
                    <a:srgbClr val="ffffff"/>
                  </a:solidFill>
                  <a:latin typeface="Times New Roman"/>
                  <a:ea typeface="B Zar"/>
                </a:rPr>
                <a:t> 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0" name="AutoShape 12"/>
          <p:cNvSpPr/>
          <p:nvPr/>
        </p:nvSpPr>
        <p:spPr>
          <a:xfrm>
            <a:off x="5327640" y="3860640"/>
            <a:ext cx="487440" cy="271800"/>
          </a:xfrm>
          <a:prstGeom prst="rightArrow">
            <a:avLst>
              <a:gd name="adj1" fmla="val 50000"/>
              <a:gd name="adj2" fmla="val 44992"/>
            </a:avLst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13"/>
          <p:cNvSpPr/>
          <p:nvPr/>
        </p:nvSpPr>
        <p:spPr>
          <a:xfrm>
            <a:off x="1280160" y="1965240"/>
            <a:ext cx="453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9194d"/>
                </a:solidFill>
                <a:latin typeface="Times New Roman"/>
                <a:ea typeface="B Zar"/>
              </a:rPr>
              <a:t>P1=</a:t>
            </a:r>
            <a:r>
              <a:rPr b="0" lang="fa-IR" sz="2400" spc="-1" strike="noStrike">
                <a:solidFill>
                  <a:srgbClr val="19194d"/>
                </a:solidFill>
                <a:latin typeface="Times New Roman"/>
                <a:cs typeface="B Zar"/>
              </a:rPr>
              <a:t>احتمال تبدیل تلاش به عملکرد</a:t>
            </a:r>
            <a:r>
              <a:rPr b="0" lang="fa-IR" sz="2400" spc="-1" strike="noStrike">
                <a:solidFill>
                  <a:srgbClr val="19194d"/>
                </a:solidFill>
                <a:latin typeface="Times New Roman"/>
                <a:ea typeface="B Zar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9194d"/>
                </a:solidFill>
                <a:latin typeface="Times New Roman"/>
                <a:ea typeface="B Zar"/>
              </a:rPr>
              <a:t>P2=</a:t>
            </a:r>
            <a:r>
              <a:rPr b="0" lang="fa-IR" sz="2400" spc="-1" strike="noStrike">
                <a:solidFill>
                  <a:srgbClr val="19194d"/>
                </a:solidFill>
                <a:latin typeface="Times New Roman"/>
                <a:cs typeface="B Zar"/>
              </a:rPr>
              <a:t>احتمال تبدیل عملکرد به بازده</a:t>
            </a:r>
            <a:r>
              <a:rPr b="0" lang="fa-IR" sz="2400" spc="-1" strike="noStrike">
                <a:solidFill>
                  <a:srgbClr val="19194d"/>
                </a:solidFill>
                <a:latin typeface="Times New Roman"/>
                <a:ea typeface="B Zar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9194d"/>
                </a:solidFill>
                <a:latin typeface="Times New Roman"/>
                <a:ea typeface="B Zar"/>
              </a:rPr>
              <a:t>V =</a:t>
            </a:r>
            <a:r>
              <a:rPr b="0" lang="fa-IR" sz="2400" spc="-1" strike="noStrike">
                <a:solidFill>
                  <a:srgbClr val="19194d"/>
                </a:solidFill>
                <a:latin typeface="Times New Roman"/>
                <a:cs typeface="B Zar"/>
              </a:rPr>
              <a:t>ارزش بازده و پاداش برای فرد</a:t>
            </a:r>
            <a:r>
              <a:rPr b="0" lang="en-US" sz="2400" spc="-1" strike="noStrike">
                <a:solidFill>
                  <a:srgbClr val="19194d"/>
                </a:solidFill>
                <a:latin typeface="Times New Roman"/>
                <a:ea typeface="B Zar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14"/>
          <p:cNvSpPr/>
          <p:nvPr/>
        </p:nvSpPr>
        <p:spPr>
          <a:xfrm>
            <a:off x="5590080" y="1969920"/>
            <a:ext cx="169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9194d"/>
                </a:solidFill>
                <a:latin typeface="Times New Roman"/>
                <a:ea typeface="B Zar"/>
              </a:rPr>
              <a:t>P1= 0 to 1</a:t>
            </a:r>
            <a:r>
              <a:rPr b="0" lang="fa-IR" sz="2400" spc="-1" strike="noStrike">
                <a:solidFill>
                  <a:srgbClr val="19194d"/>
                </a:solidFill>
                <a:latin typeface="Times New Roman"/>
                <a:ea typeface="B Zar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9194d"/>
                </a:solidFill>
                <a:latin typeface="Times New Roman"/>
                <a:ea typeface="B Zar"/>
              </a:rPr>
              <a:t>P2= 0 to 1</a:t>
            </a:r>
            <a:r>
              <a:rPr b="0" lang="fa-IR" sz="2400" spc="-1" strike="noStrike">
                <a:solidFill>
                  <a:srgbClr val="19194d"/>
                </a:solidFill>
                <a:latin typeface="Times New Roman"/>
                <a:ea typeface="B Zar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9194d"/>
                </a:solidFill>
                <a:latin typeface="Times New Roman"/>
                <a:ea typeface="B Zar"/>
              </a:rPr>
              <a:t>V = -1 to +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15"/>
          <p:cNvSpPr/>
          <p:nvPr/>
        </p:nvSpPr>
        <p:spPr>
          <a:xfrm>
            <a:off x="1749600" y="4741920"/>
            <a:ext cx="1311120" cy="9169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B Zar"/>
              </a:rPr>
              <a:t>P1= 0.9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B Zar"/>
              </a:rPr>
              <a:t>P2= 0.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B Zar"/>
              </a:rPr>
              <a:t>V =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B Zar"/>
              </a:rPr>
              <a:t>+0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16"/>
          <p:cNvSpPr/>
          <p:nvPr/>
        </p:nvSpPr>
        <p:spPr>
          <a:xfrm>
            <a:off x="3165840" y="4726080"/>
            <a:ext cx="3928320" cy="10080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  <a:ea typeface="B Zar"/>
              </a:rPr>
              <a:t>Effort = P1*P2*V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  <a:ea typeface="B Zar"/>
              </a:rPr>
              <a:t>Effort= 0.9*0.9*0.1= </a:t>
            </a:r>
            <a:r>
              <a:rPr b="0" lang="en-US" sz="3300" spc="-1" strike="noStrike">
                <a:solidFill>
                  <a:srgbClr val="ff0000"/>
                </a:solidFill>
                <a:latin typeface="Times New Roman"/>
                <a:ea typeface="B Zar"/>
              </a:rPr>
              <a:t>0.08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2"/>
          <p:cNvSpPr/>
          <p:nvPr/>
        </p:nvSpPr>
        <p:spPr>
          <a:xfrm>
            <a:off x="684360" y="433440"/>
            <a:ext cx="7613640" cy="976320"/>
          </a:xfrm>
          <a:prstGeom prst="rect">
            <a:avLst/>
          </a:prstGeom>
          <a:solidFill>
            <a:srgbClr val="8ac6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algn="ct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a-IR" sz="3200" spc="-1" strike="noStrike">
                <a:solidFill>
                  <a:srgbClr val="000066"/>
                </a:solidFill>
                <a:latin typeface="Arial"/>
                <a:cs typeface="B Mitra"/>
              </a:rPr>
              <a:t>کار مورد نظر با چه احتمالی شما را به تلاش وا می دارد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6" name="Group 2"/>
          <p:cNvGrpSpPr/>
          <p:nvPr/>
        </p:nvGrpSpPr>
        <p:grpSpPr>
          <a:xfrm>
            <a:off x="1683720" y="3537000"/>
            <a:ext cx="1185120" cy="1037160"/>
            <a:chOff x="1683720" y="3537000"/>
            <a:chExt cx="1185120" cy="1037160"/>
          </a:xfrm>
        </p:grpSpPr>
        <p:sp>
          <p:nvSpPr>
            <p:cNvPr id="337" name="AutoShape 3"/>
            <p:cNvSpPr/>
            <p:nvPr/>
          </p:nvSpPr>
          <p:spPr>
            <a:xfrm>
              <a:off x="1709280" y="3537000"/>
              <a:ext cx="1081080" cy="1026720"/>
            </a:xfrm>
            <a:prstGeom prst="roundRect">
              <a:avLst>
                <a:gd name="adj" fmla="val 16667"/>
              </a:avLst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Text Box 4"/>
            <p:cNvSpPr/>
            <p:nvPr/>
          </p:nvSpPr>
          <p:spPr>
            <a:xfrm>
              <a:off x="1683720" y="3566520"/>
              <a:ext cx="118512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ffff"/>
                  </a:solidFill>
                  <a:latin typeface="Times New Roman"/>
                  <a:ea typeface="B Zar"/>
                </a:rPr>
                <a:t>Effort 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a-IR" sz="3000" spc="-1" strike="noStrike">
                  <a:solidFill>
                    <a:srgbClr val="ffffff"/>
                  </a:solidFill>
                  <a:latin typeface="Times New Roman"/>
                  <a:cs typeface="B Zar"/>
                </a:rPr>
                <a:t>تلاش</a:t>
              </a:r>
              <a:r>
                <a:rPr b="0" lang="fa-IR" sz="3000" spc="-1" strike="noStrike">
                  <a:solidFill>
                    <a:srgbClr val="ffffff"/>
                  </a:solidFill>
                  <a:latin typeface="Times New Roman"/>
                  <a:ea typeface="B Zar"/>
                </a:rPr>
                <a:t> 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9" name="Group 5"/>
          <p:cNvGrpSpPr/>
          <p:nvPr/>
        </p:nvGrpSpPr>
        <p:grpSpPr>
          <a:xfrm>
            <a:off x="5813280" y="3537000"/>
            <a:ext cx="1621080" cy="1027080"/>
            <a:chOff x="5813280" y="3537000"/>
            <a:chExt cx="1621080" cy="1027080"/>
          </a:xfrm>
        </p:grpSpPr>
        <p:sp>
          <p:nvSpPr>
            <p:cNvPr id="340" name="AutoShape 6"/>
            <p:cNvSpPr/>
            <p:nvPr/>
          </p:nvSpPr>
          <p:spPr>
            <a:xfrm>
              <a:off x="5813280" y="3537000"/>
              <a:ext cx="1621080" cy="1027080"/>
            </a:xfrm>
            <a:prstGeom prst="roundRect">
              <a:avLst>
                <a:gd name="adj" fmla="val 16667"/>
              </a:avLst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Text Box 7"/>
            <p:cNvSpPr/>
            <p:nvPr/>
          </p:nvSpPr>
          <p:spPr>
            <a:xfrm>
              <a:off x="5821200" y="3537000"/>
              <a:ext cx="153900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ffff"/>
                  </a:solidFill>
                  <a:latin typeface="Times New Roman"/>
                  <a:ea typeface="B Zar"/>
                </a:rPr>
                <a:t>efficacy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a-IR" sz="3000" spc="-1" strike="noStrike">
                  <a:solidFill>
                    <a:srgbClr val="ffffff"/>
                  </a:solidFill>
                  <a:latin typeface="Times New Roman"/>
                  <a:cs typeface="B Zar"/>
                </a:rPr>
                <a:t>بازده</a:t>
              </a:r>
              <a:r>
                <a:rPr b="0" lang="fa-IR" sz="3000" spc="-1" strike="noStrike">
                  <a:solidFill>
                    <a:srgbClr val="ffffff"/>
                  </a:solidFill>
                  <a:latin typeface="Times New Roman"/>
                  <a:ea typeface="B Zar"/>
                </a:rPr>
                <a:t> 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2" name="AutoShape 8"/>
          <p:cNvSpPr/>
          <p:nvPr/>
        </p:nvSpPr>
        <p:spPr>
          <a:xfrm>
            <a:off x="2789280" y="3860640"/>
            <a:ext cx="487440" cy="271800"/>
          </a:xfrm>
          <a:prstGeom prst="rightArrow">
            <a:avLst>
              <a:gd name="adj1" fmla="val 50000"/>
              <a:gd name="adj2" fmla="val 44992"/>
            </a:avLst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3" name="Group 9"/>
          <p:cNvGrpSpPr/>
          <p:nvPr/>
        </p:nvGrpSpPr>
        <p:grpSpPr>
          <a:xfrm>
            <a:off x="3236040" y="3537000"/>
            <a:ext cx="2221200" cy="1027080"/>
            <a:chOff x="3236040" y="3537000"/>
            <a:chExt cx="2221200" cy="1027080"/>
          </a:xfrm>
        </p:grpSpPr>
        <p:sp>
          <p:nvSpPr>
            <p:cNvPr id="344" name="AutoShape 10"/>
            <p:cNvSpPr/>
            <p:nvPr/>
          </p:nvSpPr>
          <p:spPr>
            <a:xfrm>
              <a:off x="3276360" y="3537000"/>
              <a:ext cx="2051280" cy="1027080"/>
            </a:xfrm>
            <a:prstGeom prst="roundRect">
              <a:avLst>
                <a:gd name="adj" fmla="val 16667"/>
              </a:avLst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Text Box 11"/>
            <p:cNvSpPr/>
            <p:nvPr/>
          </p:nvSpPr>
          <p:spPr>
            <a:xfrm>
              <a:off x="3236040" y="3537000"/>
              <a:ext cx="222120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ffff"/>
                  </a:solidFill>
                  <a:latin typeface="Times New Roman"/>
                  <a:ea typeface="B Zar"/>
                </a:rPr>
                <a:t>Performance 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a-IR" sz="3000" spc="-1" strike="noStrike">
                  <a:solidFill>
                    <a:srgbClr val="ffffff"/>
                  </a:solidFill>
                  <a:latin typeface="Times New Roman"/>
                  <a:cs typeface="B Zar"/>
                </a:rPr>
                <a:t>عملکرد</a:t>
              </a:r>
              <a:r>
                <a:rPr b="0" lang="fa-IR" sz="3000" spc="-1" strike="noStrike">
                  <a:solidFill>
                    <a:srgbClr val="ffffff"/>
                  </a:solidFill>
                  <a:latin typeface="Times New Roman"/>
                  <a:ea typeface="B Zar"/>
                </a:rPr>
                <a:t> 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6" name="AutoShape 12"/>
          <p:cNvSpPr/>
          <p:nvPr/>
        </p:nvSpPr>
        <p:spPr>
          <a:xfrm>
            <a:off x="5327640" y="3860640"/>
            <a:ext cx="487440" cy="271800"/>
          </a:xfrm>
          <a:prstGeom prst="rightArrow">
            <a:avLst>
              <a:gd name="adj1" fmla="val 50000"/>
              <a:gd name="adj2" fmla="val 44992"/>
            </a:avLst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13"/>
          <p:cNvSpPr/>
          <p:nvPr/>
        </p:nvSpPr>
        <p:spPr>
          <a:xfrm>
            <a:off x="1280160" y="1965240"/>
            <a:ext cx="453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  <a:ea typeface="B Zar"/>
              </a:rPr>
              <a:t>P1=</a:t>
            </a:r>
            <a:r>
              <a:rPr b="0" lang="fa-IR" sz="2400" spc="-1" strike="noStrike">
                <a:solidFill>
                  <a:srgbClr val="262626"/>
                </a:solidFill>
                <a:latin typeface="Times New Roman"/>
                <a:cs typeface="B Zar"/>
              </a:rPr>
              <a:t>احتمال تبدیل تلاش به عملکرد</a:t>
            </a:r>
            <a:r>
              <a:rPr b="0" lang="fa-IR" sz="2400" spc="-1" strike="noStrike">
                <a:solidFill>
                  <a:srgbClr val="262626"/>
                </a:solidFill>
                <a:latin typeface="Times New Roman"/>
                <a:ea typeface="B Zar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  <a:ea typeface="B Zar"/>
              </a:rPr>
              <a:t>P2=</a:t>
            </a:r>
            <a:r>
              <a:rPr b="0" lang="fa-IR" sz="2400" spc="-1" strike="noStrike">
                <a:solidFill>
                  <a:srgbClr val="262626"/>
                </a:solidFill>
                <a:latin typeface="Times New Roman"/>
                <a:cs typeface="B Zar"/>
              </a:rPr>
              <a:t>احتمال تبدیل عملکرد به بازده</a:t>
            </a:r>
            <a:r>
              <a:rPr b="0" lang="fa-IR" sz="2400" spc="-1" strike="noStrike">
                <a:solidFill>
                  <a:srgbClr val="262626"/>
                </a:solidFill>
                <a:latin typeface="Times New Roman"/>
                <a:ea typeface="B Zar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  <a:ea typeface="B Zar"/>
              </a:rPr>
              <a:t>V =</a:t>
            </a:r>
            <a:r>
              <a:rPr b="0" lang="fa-IR" sz="2400" spc="-1" strike="noStrike">
                <a:solidFill>
                  <a:srgbClr val="262626"/>
                </a:solidFill>
                <a:latin typeface="Times New Roman"/>
                <a:cs typeface="B Zar"/>
              </a:rPr>
              <a:t>ارزش بازده و پاداش برای فرد</a:t>
            </a:r>
            <a:r>
              <a:rPr b="0" lang="en-US" sz="2400" spc="-1" strike="noStrike">
                <a:solidFill>
                  <a:srgbClr val="262626"/>
                </a:solidFill>
                <a:latin typeface="Times New Roman"/>
                <a:ea typeface="B Zar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14"/>
          <p:cNvSpPr/>
          <p:nvPr/>
        </p:nvSpPr>
        <p:spPr>
          <a:xfrm>
            <a:off x="5584680" y="1969920"/>
            <a:ext cx="201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  <a:ea typeface="B Zar"/>
              </a:rPr>
              <a:t>P1= 0 to 1</a:t>
            </a:r>
            <a:r>
              <a:rPr b="0" lang="fa-IR" sz="2400" spc="-1" strike="noStrike">
                <a:solidFill>
                  <a:srgbClr val="262626"/>
                </a:solidFill>
                <a:latin typeface="Times New Roman"/>
                <a:ea typeface="B Zar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  <a:ea typeface="B Zar"/>
              </a:rPr>
              <a:t>P2= 0 to 1</a:t>
            </a:r>
            <a:r>
              <a:rPr b="0" lang="fa-IR" sz="2400" spc="-1" strike="noStrike">
                <a:solidFill>
                  <a:srgbClr val="262626"/>
                </a:solidFill>
                <a:latin typeface="Times New Roman"/>
                <a:ea typeface="B Zar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  <a:ea typeface="B Zar"/>
              </a:rPr>
              <a:t>V = -1 to +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15"/>
          <p:cNvSpPr/>
          <p:nvPr/>
        </p:nvSpPr>
        <p:spPr>
          <a:xfrm>
            <a:off x="1749600" y="4741920"/>
            <a:ext cx="1311120" cy="9169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1= 0.9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2= 0.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V =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-0.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16"/>
          <p:cNvSpPr/>
          <p:nvPr/>
        </p:nvSpPr>
        <p:spPr>
          <a:xfrm>
            <a:off x="3167280" y="4726080"/>
            <a:ext cx="4182840" cy="10080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  <a:ea typeface="B Zar"/>
              </a:rPr>
              <a:t>Effort = P1*P2*V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  <a:ea typeface="B Zar"/>
              </a:rPr>
              <a:t>Effort= 0.9*0.9*-0.8= </a:t>
            </a:r>
            <a:r>
              <a:rPr b="0" lang="en-US" sz="3300" spc="-1" strike="noStrike">
                <a:solidFill>
                  <a:srgbClr val="ff0000"/>
                </a:solidFill>
                <a:latin typeface="Times New Roman"/>
                <a:ea typeface="B Zar"/>
              </a:rPr>
              <a:t>-0.65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2"/>
          <p:cNvSpPr/>
          <p:nvPr/>
        </p:nvSpPr>
        <p:spPr>
          <a:xfrm>
            <a:off x="684360" y="433440"/>
            <a:ext cx="7613640" cy="976320"/>
          </a:xfrm>
          <a:prstGeom prst="rect">
            <a:avLst/>
          </a:prstGeom>
          <a:solidFill>
            <a:srgbClr val="8ac6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algn="ct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a-IR" sz="3200" spc="-1" strike="noStrike">
                <a:solidFill>
                  <a:srgbClr val="000066"/>
                </a:solidFill>
                <a:latin typeface="Arial"/>
                <a:cs typeface="B Mitra"/>
              </a:rPr>
              <a:t>کار مورد نظر با چه احتمالی شما را به تلاش وا می دارد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-1080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00"/>
                </a:solidFill>
                <a:latin typeface="Arial"/>
                <a:cs typeface="B Zar"/>
              </a:rPr>
              <a:t>فواید مدیریت عملکرد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45720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  <a:cs typeface="B Zar"/>
              </a:rPr>
              <a:t>تمرکز همه اجزای تشکیلاتی بر اهداف عملکر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  <a:cs typeface="B Zar"/>
              </a:rPr>
              <a:t>یکی از بهترین شیوه های گزارش دهی به مدیریت ارشد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  <a:cs typeface="B Zar"/>
              </a:rPr>
              <a:t>مشارکت مدیریت ، کارکنان و ذی نفعان در برنامه ریزی و اداره سازمان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  <a:cs typeface="B Zar"/>
              </a:rPr>
              <a:t>ارتباط منطقی بین عملکرد و بودجه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  <a:cs typeface="B Zar"/>
              </a:rPr>
              <a:t>تقویت روحیه عدالت و شایسته سالار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  <a:cs typeface="B Zar"/>
              </a:rPr>
              <a:t>پاسخگو سازی سازمان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  <a:cs typeface="B Zar"/>
              </a:rPr>
              <a:t>تقسیم مسئولیت بهبود عملکرد بین افراد و گروهها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Rectangle 3" descr=""/>
          <p:cNvPicPr/>
          <p:nvPr/>
        </p:nvPicPr>
        <p:blipFill>
          <a:blip r:embed="rId1"/>
          <a:stretch/>
        </p:blipFill>
        <p:spPr>
          <a:xfrm>
            <a:off x="1762200" y="2060640"/>
            <a:ext cx="568620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000000"/>
                </a:solidFill>
                <a:latin typeface="Arial"/>
                <a:cs typeface="B Titr"/>
              </a:rPr>
              <a:t>رویکردهای ارزیابی عملکر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25092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 fontScale="96000"/>
          </a:bodyPr>
          <a:p>
            <a:pPr marL="329040" indent="-329040" algn="r" rtl="1">
              <a:lnSpc>
                <a:spcPct val="2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000000"/>
                </a:solidFill>
                <a:latin typeface="Arial"/>
                <a:cs typeface="B Badr"/>
              </a:rPr>
              <a:t>ارزیابی ویژگیهای کارکنا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r" rtl="1">
              <a:lnSpc>
                <a:spcPct val="2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000000"/>
                </a:solidFill>
                <a:latin typeface="Arial"/>
                <a:ea typeface="B Badr"/>
              </a:rPr>
              <a:t> ارزیابی محصول و نتیجه عملکرد کارکنا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r" rtl="1">
              <a:lnSpc>
                <a:spcPct val="2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000000"/>
                </a:solidFill>
                <a:latin typeface="Arial"/>
                <a:ea typeface="B Badr"/>
              </a:rPr>
              <a:t> ارزیابی فرآیند کار کارکنا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Content Placeholder 3" descr=""/>
          <p:cNvPicPr/>
          <p:nvPr/>
        </p:nvPicPr>
        <p:blipFill>
          <a:blip r:embed="rId1"/>
          <a:stretch/>
        </p:blipFill>
        <p:spPr>
          <a:xfrm>
            <a:off x="208080" y="2475000"/>
            <a:ext cx="7667640" cy="3913200"/>
          </a:xfrm>
          <a:prstGeom prst="rect">
            <a:avLst/>
          </a:prstGeom>
          <a:ln w="0">
            <a:noFill/>
          </a:ln>
        </p:spPr>
      </p:pic>
      <p:sp>
        <p:nvSpPr>
          <p:cNvPr id="358" name="Isosceles Triangle 17"/>
          <p:cNvSpPr/>
          <p:nvPr/>
        </p:nvSpPr>
        <p:spPr>
          <a:xfrm rot="6598200">
            <a:off x="4546800" y="3991320"/>
            <a:ext cx="401400" cy="48276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89a4a7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Isosceles Triangle 16"/>
          <p:cNvSpPr/>
          <p:nvPr/>
        </p:nvSpPr>
        <p:spPr>
          <a:xfrm rot="1666800">
            <a:off x="4349880" y="3489480"/>
            <a:ext cx="336600" cy="47124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89a4a7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168200" y="579600"/>
            <a:ext cx="6570360" cy="52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7030a0"/>
                </a:solidFill>
                <a:latin typeface="Arial"/>
                <a:cs typeface="B Titr"/>
              </a:rPr>
              <a:t>ارزیابی کارکنان و </a:t>
            </a:r>
            <a:r>
              <a:rPr b="1" lang="en-US" sz="4400" spc="-1" strike="noStrike">
                <a:solidFill>
                  <a:srgbClr val="7030a0"/>
                </a:solidFill>
                <a:latin typeface="Arial"/>
                <a:ea typeface="B Titr"/>
              </a:rPr>
              <a:t>MB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1" name="Rectangular Callout 11" descr=""/>
          <p:cNvPicPr/>
          <p:nvPr/>
        </p:nvPicPr>
        <p:blipFill>
          <a:blip r:embed="rId2"/>
          <a:stretch/>
        </p:blipFill>
        <p:spPr>
          <a:xfrm>
            <a:off x="1427040" y="5711760"/>
            <a:ext cx="1700280" cy="652680"/>
          </a:xfrm>
          <a:prstGeom prst="rect">
            <a:avLst/>
          </a:prstGeom>
          <a:ln w="0">
            <a:noFill/>
          </a:ln>
        </p:spPr>
      </p:pic>
      <p:pic>
        <p:nvPicPr>
          <p:cNvPr id="362" name="Rectangular Callout 12" descr=""/>
          <p:cNvPicPr/>
          <p:nvPr/>
        </p:nvPicPr>
        <p:blipFill>
          <a:blip r:embed="rId3"/>
          <a:stretch/>
        </p:blipFill>
        <p:spPr>
          <a:xfrm>
            <a:off x="4906800" y="5657760"/>
            <a:ext cx="2043360" cy="712800"/>
          </a:xfrm>
          <a:prstGeom prst="rect">
            <a:avLst/>
          </a:prstGeom>
          <a:ln w="0">
            <a:noFill/>
          </a:ln>
        </p:spPr>
      </p:pic>
      <p:sp>
        <p:nvSpPr>
          <p:cNvPr id="363" name="Oval 13"/>
          <p:cNvSpPr/>
          <p:nvPr/>
        </p:nvSpPr>
        <p:spPr>
          <a:xfrm>
            <a:off x="3573360" y="3816360"/>
            <a:ext cx="1176480" cy="633240"/>
          </a:xfrm>
          <a:prstGeom prst="ellipse">
            <a:avLst/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  <a:cs typeface="B Badr"/>
              </a:rPr>
              <a:t>ملاقات حضور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4" name="Group 18"/>
          <p:cNvGrpSpPr/>
          <p:nvPr/>
        </p:nvGrpSpPr>
        <p:grpSpPr>
          <a:xfrm>
            <a:off x="2809800" y="1793880"/>
            <a:ext cx="5313240" cy="2128320"/>
            <a:chOff x="2809800" y="1793880"/>
            <a:chExt cx="5313240" cy="2128320"/>
          </a:xfrm>
        </p:grpSpPr>
        <p:sp>
          <p:nvSpPr>
            <p:cNvPr id="365" name="Down Arrow 4"/>
            <p:cNvSpPr/>
            <p:nvPr/>
          </p:nvSpPr>
          <p:spPr>
            <a:xfrm rot="2818800">
              <a:off x="5657400" y="3446280"/>
              <a:ext cx="257040" cy="453960"/>
            </a:xfrm>
            <a:prstGeom prst="downArrow">
              <a:avLst>
                <a:gd name="adj1" fmla="val 50000"/>
                <a:gd name="adj2" fmla="val 50023"/>
              </a:avLst>
            </a:prstGeom>
            <a:solidFill>
              <a:srgbClr val="bbe0e3"/>
            </a:solidFill>
            <a:ln w="1260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TextBox 5"/>
            <p:cNvSpPr/>
            <p:nvPr/>
          </p:nvSpPr>
          <p:spPr>
            <a:xfrm>
              <a:off x="5650560" y="3147480"/>
              <a:ext cx="1473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a-IR" sz="1800" spc="-1" strike="noStrike">
                  <a:solidFill>
                    <a:srgbClr val="000000"/>
                  </a:solidFill>
                  <a:latin typeface="Arial"/>
                  <a:cs typeface="B Zar"/>
                </a:rPr>
                <a:t>اهداف واحد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Down Arrow 6"/>
            <p:cNvSpPr/>
            <p:nvPr/>
          </p:nvSpPr>
          <p:spPr>
            <a:xfrm rot="2818800">
              <a:off x="6562440" y="2671560"/>
              <a:ext cx="257040" cy="453960"/>
            </a:xfrm>
            <a:prstGeom prst="downArrow">
              <a:avLst>
                <a:gd name="adj1" fmla="val 50000"/>
                <a:gd name="adj2" fmla="val 50023"/>
              </a:avLst>
            </a:prstGeom>
            <a:solidFill>
              <a:srgbClr val="bbe0e3"/>
            </a:solidFill>
            <a:ln w="1260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8" name="Group 15"/>
            <p:cNvGrpSpPr/>
            <p:nvPr/>
          </p:nvGrpSpPr>
          <p:grpSpPr>
            <a:xfrm>
              <a:off x="2809800" y="1793880"/>
              <a:ext cx="5313240" cy="947160"/>
              <a:chOff x="2809800" y="1793880"/>
              <a:chExt cx="5313240" cy="947160"/>
            </a:xfrm>
          </p:grpSpPr>
          <p:grpSp>
            <p:nvGrpSpPr>
              <p:cNvPr id="369" name="Group 14"/>
              <p:cNvGrpSpPr/>
              <p:nvPr/>
            </p:nvGrpSpPr>
            <p:grpSpPr>
              <a:xfrm>
                <a:off x="2809800" y="1793880"/>
                <a:ext cx="5313240" cy="947160"/>
                <a:chOff x="2809800" y="1793880"/>
                <a:chExt cx="5313240" cy="947160"/>
              </a:xfrm>
            </p:grpSpPr>
            <p:grpSp>
              <p:nvGrpSpPr>
                <p:cNvPr id="370" name="Group 2"/>
                <p:cNvGrpSpPr/>
                <p:nvPr/>
              </p:nvGrpSpPr>
              <p:grpSpPr>
                <a:xfrm>
                  <a:off x="4180680" y="1793880"/>
                  <a:ext cx="3942360" cy="947160"/>
                  <a:chOff x="4180680" y="1793880"/>
                  <a:chExt cx="3942360" cy="947160"/>
                </a:xfrm>
              </p:grpSpPr>
              <p:sp>
                <p:nvSpPr>
                  <p:cNvPr id="371" name="TextBox 7"/>
                  <p:cNvSpPr/>
                  <p:nvPr/>
                </p:nvSpPr>
                <p:spPr>
                  <a:xfrm>
                    <a:off x="6308640" y="2372760"/>
                    <a:ext cx="181440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a-IR" sz="1800" spc="-1" strike="noStrike">
                        <a:solidFill>
                          <a:srgbClr val="000000"/>
                        </a:solidFill>
                        <a:latin typeface="Arial"/>
                        <a:cs typeface="B Zar"/>
                      </a:rPr>
                      <a:t>مأموریت سازمان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2" name="TextBox 8"/>
                  <p:cNvSpPr/>
                  <p:nvPr/>
                </p:nvSpPr>
                <p:spPr>
                  <a:xfrm>
                    <a:off x="5346000" y="1861560"/>
                    <a:ext cx="87264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a-IR" sz="1800" spc="-1" strike="noStrike">
                        <a:solidFill>
                          <a:srgbClr val="000000"/>
                        </a:solidFill>
                        <a:latin typeface="Arial"/>
                        <a:cs typeface="B Zar"/>
                      </a:rPr>
                      <a:t>آموزش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3" name="TextBox 9"/>
                  <p:cNvSpPr/>
                  <p:nvPr/>
                </p:nvSpPr>
                <p:spPr>
                  <a:xfrm>
                    <a:off x="4180680" y="1793880"/>
                    <a:ext cx="712440" cy="64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a-IR" sz="1800" spc="-1" strike="noStrike">
                        <a:solidFill>
                          <a:srgbClr val="000000"/>
                        </a:solidFill>
                        <a:latin typeface="Arial"/>
                        <a:cs typeface="B Zar"/>
                      </a:rPr>
                      <a:t>ارتقاء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a-IR" sz="1800" spc="-1" strike="noStrike">
                        <a:solidFill>
                          <a:srgbClr val="000000"/>
                        </a:solidFill>
                        <a:latin typeface="Arial"/>
                        <a:cs typeface="B Zar"/>
                      </a:rPr>
                      <a:t>تنزل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74" name="TextBox 10"/>
                <p:cNvSpPr/>
                <p:nvPr/>
              </p:nvSpPr>
              <p:spPr>
                <a:xfrm>
                  <a:off x="2809800" y="1829880"/>
                  <a:ext cx="4183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a-IR" sz="1800" spc="-1" strike="noStrike">
                      <a:solidFill>
                        <a:srgbClr val="000000"/>
                      </a:solidFill>
                      <a:latin typeface="Arial"/>
                      <a:cs typeface="B Zar"/>
                    </a:rPr>
                    <a:t>بن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cxnSp>
            <p:nvCxnSpPr>
              <p:cNvPr id="375" name="Curved Connector 19"/>
              <p:cNvCxnSpPr/>
              <p:nvPr/>
            </p:nvCxnSpPr>
            <p:spPr>
              <a:xfrm flipV="1" rot="16200000">
                <a:off x="3026160" y="2194200"/>
                <a:ext cx="464400" cy="288000"/>
              </a:xfrm>
              <a:prstGeom prst="curvedConnector5">
                <a:avLst>
                  <a:gd name="adj1" fmla="val 49961"/>
                  <a:gd name="adj2" fmla="val 49937"/>
                  <a:gd name="adj3" fmla="val 49961"/>
                </a:avLst>
              </a:prstGeom>
              <a:ln w="6480">
                <a:solidFill>
                  <a:srgbClr val="bbe0e3"/>
                </a:solidFill>
                <a:miter/>
                <a:tailEnd len="med" type="triangle" w="med"/>
              </a:ln>
            </p:spPr>
          </p:cxnSp>
          <p:cxnSp>
            <p:nvCxnSpPr>
              <p:cNvPr id="376" name="Curved Connector 21"/>
              <p:cNvCxnSpPr>
                <a:endCxn id="373" idx="2"/>
              </p:cNvCxnSpPr>
              <p:nvPr/>
            </p:nvCxnSpPr>
            <p:spPr>
              <a:xfrm flipV="1">
                <a:off x="3401640" y="2439720"/>
                <a:ext cx="1135800" cy="119520"/>
              </a:xfrm>
              <a:prstGeom prst="curvedConnector2">
                <a:avLst/>
              </a:prstGeom>
              <a:ln w="6480">
                <a:solidFill>
                  <a:srgbClr val="bbe0e3"/>
                </a:solidFill>
                <a:miter/>
                <a:tailEnd len="med" type="triangle" w="med"/>
              </a:ln>
            </p:spPr>
          </p:cxnSp>
          <p:cxnSp>
            <p:nvCxnSpPr>
              <p:cNvPr id="377" name="Curved Connector 23"/>
              <p:cNvCxnSpPr>
                <a:endCxn id="372" idx="2"/>
              </p:cNvCxnSpPr>
              <p:nvPr/>
            </p:nvCxnSpPr>
            <p:spPr>
              <a:xfrm flipV="1">
                <a:off x="3382560" y="2229840"/>
                <a:ext cx="2399400" cy="370440"/>
              </a:xfrm>
              <a:prstGeom prst="curvedConnector2">
                <a:avLst/>
              </a:prstGeom>
              <a:ln w="6480">
                <a:solidFill>
                  <a:srgbClr val="bbe0e3"/>
                </a:solidFill>
                <a:miter/>
                <a:tailEnd len="med" type="triangle" w="med"/>
              </a:ln>
            </p:spPr>
          </p:cxn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186920" y="620280"/>
            <a:ext cx="6572520" cy="53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7030a0"/>
                </a:solidFill>
                <a:latin typeface="Arial"/>
                <a:cs typeface="B Titr"/>
              </a:rPr>
              <a:t>فرم  ارزیابی کارکنا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1186920" y="2862000"/>
            <a:ext cx="7426440" cy="25621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 fontScale="78000"/>
          </a:bodyPr>
          <a:p>
            <a:pPr marL="267480" indent="-267480" algn="ctr" rtl="1">
              <a:lnSpc>
                <a:spcPct val="2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  <a:cs typeface="B Zar"/>
              </a:rPr>
              <a:t>ارزیابی شایستگی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B Zar"/>
              </a:rPr>
              <a:t>Competency Evalu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 algn="r" rtl="1">
              <a:lnSpc>
                <a:spcPct val="2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  <a:ea typeface="B Zar"/>
              </a:rPr>
              <a:t> ارزیابی عملکرد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B Zar"/>
              </a:rPr>
              <a:t>Performance Evalu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B Zar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 algn="r" rtl="1">
              <a:lnSpc>
                <a:spcPct val="2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33cc"/>
                </a:solidFill>
                <a:latin typeface="Arial"/>
                <a:cs typeface="B Zar"/>
              </a:rPr>
              <a:t>اجزاء ارزیابی شایستگی در فر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611280" y="1844640"/>
            <a:ext cx="8075520" cy="23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5000"/>
          </a:bodyPr>
          <a:p>
            <a:pPr marL="291600" indent="-291600" algn="just" rtl="1">
              <a:spcBef>
                <a:spcPts val="700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a50021"/>
                </a:solidFill>
                <a:latin typeface="Arial"/>
                <a:cs typeface="B Zar"/>
              </a:rPr>
              <a:t>اخلاقیا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 algn="just" rtl="1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Zar"/>
              </a:rPr>
              <a:t>حس مسئولیت پذیری: 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  <a:cs typeface="B Zar"/>
              </a:rPr>
              <a:t>داشتن میزان بالای اخلاقیات و مسئولیت پذیری در قبال مسائل محول شده در بخش کاری به عنوان خدمتگزار کل جامع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 algn="just" rtl="1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Zar"/>
              </a:rPr>
              <a:t>انصاف: 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  <a:cs typeface="B Zar"/>
              </a:rPr>
              <a:t>رعایت قوانین خدمات عمومی و انجام مسئولیت ه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Content Placeholder 2"/>
          <p:cNvSpPr/>
          <p:nvPr/>
        </p:nvSpPr>
        <p:spPr>
          <a:xfrm>
            <a:off x="473040" y="4264200"/>
            <a:ext cx="8229600" cy="23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5000"/>
          </a:bodyPr>
          <a:p>
            <a:pPr marL="325800" indent="-325800" algn="just" rtl="1">
              <a:spcBef>
                <a:spcPts val="700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a50021"/>
                </a:solidFill>
                <a:latin typeface="Arial"/>
                <a:cs typeface="B Zar"/>
              </a:rPr>
              <a:t>دید و ابتکا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 rtl="1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Zar"/>
              </a:rPr>
              <a:t>درک بنیادی موقعیت: 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  <a:cs typeface="B Zar"/>
              </a:rPr>
              <a:t>درک دقیق موقعیت ادار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 rtl="1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Zar"/>
              </a:rPr>
              <a:t>اجرای سیاست های بنیادی: 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  <a:cs typeface="B Zar"/>
              </a:rPr>
              <a:t>مطالعه دقیق تغییرات در داخل و خارج از کشور و اجرای دقیق سیاست های اداره به همراه اولویت دادن به منافع کشور و شهروندا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00"/>
                </a:solidFill>
                <a:latin typeface="Arial"/>
                <a:cs typeface="B Zar"/>
              </a:rPr>
              <a:t>مسئله ی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Content Placeholder 2"/>
          <p:cNvSpPr/>
          <p:nvPr/>
        </p:nvSpPr>
        <p:spPr>
          <a:xfrm>
            <a:off x="649440" y="1816200"/>
            <a:ext cx="7845120" cy="10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2000"/>
          </a:bodyPr>
          <a:p>
            <a:pPr algn="just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000" spc="-1" strike="noStrike">
                <a:solidFill>
                  <a:srgbClr val="c00000"/>
                </a:solidFill>
                <a:latin typeface="Arial"/>
                <a:cs typeface="B Titr"/>
              </a:rPr>
              <a:t>فقدان و یا ضعف برنامه ریزی منابع انسان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4" descr=""/>
          <p:cNvPicPr/>
          <p:nvPr/>
        </p:nvPicPr>
        <p:blipFill>
          <a:blip r:embed="rId1"/>
          <a:stretch/>
        </p:blipFill>
        <p:spPr>
          <a:xfrm>
            <a:off x="-1440" y="6656400"/>
            <a:ext cx="841320" cy="201600"/>
          </a:xfrm>
          <a:prstGeom prst="rect">
            <a:avLst/>
          </a:prstGeom>
          <a:ln w="0">
            <a:noFill/>
          </a:ln>
        </p:spPr>
      </p:pic>
      <p:sp>
        <p:nvSpPr>
          <p:cNvPr id="95" name="TextBox 2"/>
          <p:cNvSpPr/>
          <p:nvPr/>
        </p:nvSpPr>
        <p:spPr>
          <a:xfrm>
            <a:off x="1835280" y="3254400"/>
            <a:ext cx="60181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Zar"/>
              </a:rPr>
              <a:t>1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Zar"/>
              </a:rPr>
              <a:t>- تراکم نیروی انسان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Zar"/>
              </a:rPr>
              <a:t>2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Zar"/>
              </a:rPr>
              <a:t>- کمبود نیروی انسان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Zar"/>
              </a:rPr>
              <a:t>3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Zar"/>
              </a:rPr>
              <a:t>- جابجایی های غیر منطق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Zar"/>
              </a:rPr>
              <a:t>4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Zar"/>
              </a:rPr>
              <a:t>- فقدان تخصص های مورد نیا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Zar"/>
              </a:rPr>
              <a:t>5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Zar"/>
              </a:rPr>
              <a:t>- فقدان مبنای علمی برای جذب نیروی انسان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33cc"/>
                </a:solidFill>
                <a:latin typeface="Arial"/>
                <a:cs typeface="B Zar"/>
              </a:rPr>
              <a:t>اجزاء ارزیابی شایستگی در فر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611280" y="1844640"/>
            <a:ext cx="8075520" cy="417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5000"/>
          </a:bodyPr>
          <a:p>
            <a:pPr marL="325800" indent="-325800" algn="just" rtl="1">
              <a:spcBef>
                <a:spcPts val="700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a50021"/>
                </a:solidFill>
                <a:latin typeface="Arial"/>
                <a:cs typeface="B Zar"/>
              </a:rPr>
              <a:t>قضاو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 rtl="1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Zar"/>
              </a:rPr>
              <a:t>انتخاب بهینه: 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  <a:cs typeface="B Zar"/>
              </a:rPr>
              <a:t>انتخاب بهینه از میان گزینه ها و استراتژی های ممکن با در نظر گرفتن حرکت از وضعیت موجود به وضعیت مطلو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 rtl="1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Zar"/>
              </a:rPr>
              <a:t>قضاوت به موقع: 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  <a:cs typeface="B Zar"/>
              </a:rPr>
              <a:t>انجام قضاوت با زمانبندی مناسب، با در نظر گرفتن اولویت مطالب و تأثیر بر روی کل فرآین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 rtl="1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Zar"/>
              </a:rPr>
              <a:t>مدیریت ریسک: 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  <a:cs typeface="B Zar"/>
              </a:rPr>
              <a:t>عکس العمل مناسب به تغییرات در مواقع اضطرار و بروز مشکلات در حداقل زمان ممک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33cc"/>
                </a:solidFill>
                <a:latin typeface="Arial"/>
                <a:cs typeface="B Zar"/>
              </a:rPr>
              <a:t>اجزاء ارزیابی شایستگی در فر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611280" y="1844640"/>
            <a:ext cx="8075520" cy="417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just" rtl="1">
              <a:spcBef>
                <a:spcPts val="700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a50021"/>
                </a:solidFill>
                <a:latin typeface="Arial"/>
                <a:cs typeface="B Zar"/>
              </a:rPr>
              <a:t>توضیح و هماهنگ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 rtl="1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Zar"/>
              </a:rPr>
              <a:t>ایجاد روابط مبتنی بر اعتماد: 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  <a:cs typeface="B Zar"/>
              </a:rPr>
              <a:t>برقراری روابط مبتنی بر اعتماد میان کارکنان داخل سازمان و با طرف های خارج از سازمان در جهت ایجاد وفا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 rtl="1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Zar"/>
              </a:rPr>
              <a:t>مذاکره و هماهنگی: 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  <a:cs typeface="B Zar"/>
              </a:rPr>
              <a:t>تبادل نظر و ایجاد هماهنگی در اهداف مهم در جهت تحقق سیاست های سازما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 rtl="1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Zar"/>
              </a:rPr>
              <a:t>توضیحات مناسب: 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  <a:cs typeface="B Zar"/>
              </a:rPr>
              <a:t>ارائه توضیحات مناسب در خصوص مسائل اجرایی حوزه فعالی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33cc"/>
                </a:solidFill>
                <a:latin typeface="Arial"/>
                <a:cs typeface="B Zar"/>
              </a:rPr>
              <a:t>اجزاء ارزیابی شایستگی در فر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611280" y="1844640"/>
            <a:ext cx="8075520" cy="417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just" rtl="1">
              <a:spcBef>
                <a:spcPts val="700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a50021"/>
                </a:solidFill>
                <a:latin typeface="Arial"/>
                <a:cs typeface="B Zar"/>
              </a:rPr>
              <a:t>مدیریت کا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 rtl="1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Zar"/>
              </a:rPr>
              <a:t>دوراندیشی: 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  <a:cs typeface="B Zar"/>
              </a:rPr>
              <a:t>پیشبرد امور با پیش بینی حوادث محتمل آینده و تأثیر آن بر اقداما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 rtl="1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Zar"/>
              </a:rPr>
              <a:t>مدیریت بهره وری: 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  <a:cs typeface="B Zar"/>
              </a:rPr>
              <a:t>بهره وری هم از بعد زمان و هم از بعد هزینه با در نظر گرفتن اهداف و سطح دستاوردهای مورد نیا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33cc"/>
                </a:solidFill>
                <a:latin typeface="Arial"/>
                <a:cs typeface="B Zar"/>
              </a:rPr>
              <a:t>اجزاء ارزیابی شایستگی در فر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611280" y="1844640"/>
            <a:ext cx="8075520" cy="417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9000"/>
          </a:bodyPr>
          <a:p>
            <a:pPr marL="305280" indent="-305280" algn="just" rtl="1">
              <a:spcBef>
                <a:spcPts val="700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a50021"/>
                </a:solidFill>
                <a:latin typeface="Arial"/>
                <a:cs typeface="B Zar"/>
              </a:rPr>
              <a:t>توسعه منابع انسانی و کنترل سازمان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just" rtl="1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Zar"/>
              </a:rPr>
              <a:t>تخصیص وظایف (تقسیم کار): 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  <a:cs typeface="B Zar"/>
              </a:rPr>
              <a:t>واگذاری مناسب امور در بخش با در نظر گرفتن اهمیت امور و نقش و توانایی کارکنا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just" rtl="1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Zar"/>
              </a:rPr>
              <a:t>مدیریت پیشرفت: 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  <a:cs typeface="B Zar"/>
              </a:rPr>
              <a:t>در میان گذاشتن اطلاعات، بدست آوردن روند امور کارکنان و دادن راهنمایی دقیق برای قادر ساختن آنها به دستیابی به نتایج مورد نیا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just" rtl="1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Zar"/>
              </a:rPr>
              <a:t>توسعه شایستگی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  <a:ea typeface="B Zar"/>
              </a:rPr>
              <a:t>: توجه به شرایط کارکنان و کمک به ظهور توانایی هایشان از طریق دادن راهنمایی های مناسب و تشویق آنها به رشد توانایی هایشا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0033cc"/>
                </a:solidFill>
                <a:latin typeface="Arial"/>
                <a:cs typeface="B Titr"/>
              </a:rPr>
              <a:t>اجزاء ارزیابی عملکرد در فر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Arial"/>
                <a:ea typeface="B Zar"/>
              </a:rPr>
              <a:t>1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  <a:ea typeface="B Zar"/>
              </a:rPr>
              <a:t>- عملکرد مبتنی بر اهداف و وظایف سازمان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  <a:ea typeface="B Zar"/>
              </a:rPr>
              <a:t>2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  <a:ea typeface="B Zar"/>
              </a:rPr>
              <a:t>- عملکرد فراتر از اهداف و وظایف سازمان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Arial"/>
                <a:ea typeface="B Zar"/>
              </a:rPr>
              <a:t>* در این بخش گزاره ها نسخه ای ندارد بلکه براساس نوع وظیفه و اهداف و نوع کارها و محتوای آنها متفاوت بوده و مورد ارزیابی قرار می گیرد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00"/>
                </a:solidFill>
                <a:latin typeface="Arial"/>
                <a:ea typeface="B Zar"/>
              </a:rPr>
              <a:t>1</a:t>
            </a:r>
            <a:r>
              <a:rPr b="0" lang="fa-IR" sz="4400" spc="-1" strike="noStrike">
                <a:solidFill>
                  <a:srgbClr val="000000"/>
                </a:solidFill>
                <a:latin typeface="Arial"/>
                <a:ea typeface="B Zar"/>
              </a:rPr>
              <a:t>- عملکرد مبتنی بر اهداف و وظایف سازمان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4" name="Content Placeholder 3" descr=""/>
          <p:cNvPicPr/>
          <p:nvPr/>
        </p:nvPicPr>
        <p:blipFill>
          <a:blip r:embed="rId1"/>
          <a:stretch/>
        </p:blipFill>
        <p:spPr>
          <a:xfrm>
            <a:off x="603360" y="2030400"/>
            <a:ext cx="8265960" cy="436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000000"/>
                </a:solidFill>
                <a:latin typeface="Arial"/>
                <a:ea typeface="B Zar"/>
              </a:rPr>
              <a:t>2</a:t>
            </a:r>
            <a:r>
              <a:rPr b="0" lang="fa-IR" sz="3600" spc="-1" strike="noStrike">
                <a:solidFill>
                  <a:srgbClr val="000000"/>
                </a:solidFill>
                <a:latin typeface="Arial"/>
                <a:ea typeface="B Zar"/>
              </a:rPr>
              <a:t>- عملکرد فراتر از اهداف و وظایف سازمان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6" name="Content Placeholder 3" descr=""/>
          <p:cNvPicPr/>
          <p:nvPr/>
        </p:nvPicPr>
        <p:blipFill>
          <a:blip r:embed="rId1"/>
          <a:stretch/>
        </p:blipFill>
        <p:spPr>
          <a:xfrm>
            <a:off x="480960" y="2414520"/>
            <a:ext cx="8261280" cy="387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763640" y="269640"/>
            <a:ext cx="5338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5400" spc="-1" strike="noStrike">
                <a:solidFill>
                  <a:srgbClr val="000000"/>
                </a:solidFill>
                <a:latin typeface="Arial"/>
                <a:cs typeface="B Zar"/>
              </a:rPr>
              <a:t>مسئله پنج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Content Placeholder 2"/>
          <p:cNvSpPr/>
          <p:nvPr/>
        </p:nvSpPr>
        <p:spPr>
          <a:xfrm>
            <a:off x="2484360" y="3213000"/>
            <a:ext cx="3672000" cy="104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93000"/>
          </a:bodyPr>
          <a:p>
            <a:pPr algn="just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6000" spc="-1" strike="noStrike">
                <a:solidFill>
                  <a:srgbClr val="c00000"/>
                </a:solidFill>
                <a:latin typeface="Arial"/>
                <a:cs typeface="B Titr"/>
              </a:rPr>
              <a:t>فساد ادار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Picture 4" descr=""/>
          <p:cNvPicPr/>
          <p:nvPr/>
        </p:nvPicPr>
        <p:blipFill>
          <a:blip r:embed="rId1"/>
          <a:stretch/>
        </p:blipFill>
        <p:spPr>
          <a:xfrm>
            <a:off x="-1440" y="6656400"/>
            <a:ext cx="841320" cy="20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87120" y="3438000"/>
            <a:ext cx="8948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70c0"/>
                </a:solidFill>
                <a:latin typeface="Arial"/>
                <a:cs typeface="B Zar"/>
              </a:rPr>
              <a:t>اخلاقیات ، شفافیت و پیشگیری از فساد ادار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TextBox 3"/>
          <p:cNvSpPr/>
          <p:nvPr/>
        </p:nvSpPr>
        <p:spPr>
          <a:xfrm>
            <a:off x="1231200" y="2781360"/>
            <a:ext cx="6159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000000"/>
                </a:solidFill>
                <a:latin typeface="Arial"/>
                <a:cs typeface="B Titr"/>
              </a:rPr>
              <a:t>چگونه فساد ریشه کن می شود</a:t>
            </a:r>
            <a:r>
              <a:rPr b="0" lang="fa-IR" sz="3600" spc="-1" strike="noStrike">
                <a:solidFill>
                  <a:srgbClr val="000000"/>
                </a:solidFill>
                <a:latin typeface="Arial"/>
                <a:ea typeface="B Titr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000000"/>
                </a:solidFill>
                <a:latin typeface="Arial"/>
                <a:cs typeface="B Titr"/>
              </a:rPr>
              <a:t>هدف غیرممکن!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00"/>
                </a:solidFill>
                <a:latin typeface="Arial"/>
                <a:cs typeface="B Zar"/>
              </a:rPr>
              <a:t>برنامه ریزی منابع انسان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82760" y="2371680"/>
            <a:ext cx="8229600" cy="23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  <a:cs typeface="B Badr"/>
              </a:rPr>
              <a:t>فرآیندی است که به وسیله آن سازمان معین می کند که برای نیل به اهداف خود چه تعداد افراد (کارمند- کارگر) با چه نوع تخصص و مهارت هایی برای چه مشاغلی و در چه زمانی نیاز دارد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Content Placeholder 2"/>
          <p:cNvSpPr/>
          <p:nvPr/>
        </p:nvSpPr>
        <p:spPr>
          <a:xfrm>
            <a:off x="457200" y="3357720"/>
            <a:ext cx="8229600" cy="23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just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c00000"/>
                </a:solidFill>
                <a:latin typeface="Arial"/>
                <a:cs typeface="B Titr"/>
              </a:rPr>
              <a:t>انتخاب مناسبترین فرد برای مناسبترین کار در مناسبترین زما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"/>
          <p:cNvPicPr/>
          <p:nvPr/>
        </p:nvPicPr>
        <p:blipFill>
          <a:blip r:embed="rId1"/>
          <a:stretch/>
        </p:blipFill>
        <p:spPr>
          <a:xfrm>
            <a:off x="-1440" y="6656400"/>
            <a:ext cx="841320" cy="20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Arial"/>
                <a:cs typeface="B Zar"/>
              </a:rPr>
              <a:t>چرا این هدف غیرممکن است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45720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  <a:cs typeface="B Badr"/>
              </a:rPr>
              <a:t>ریشه کن شدن فساد یک هدف سخت است که به نظر می رسد رسیدن به آن غیر ممکن است. (بعد مفهومی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  <a:cs typeface="B Badr"/>
              </a:rPr>
              <a:t>زمانی که شما سعی می کنید به این هدف برسید در یک موقعیت سخت قرار می گیرید. (بعد عملی یا اجرایی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  <a:cs typeface="B Badr"/>
              </a:rPr>
              <a:t>اما به عنوان امر مؤثر در آینده که این هدف موجب می شود مدیریت سازمان بهبود یابد، شهامت پیدا می کنیم که این وظیفه چالشی را به انجام برسانی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3059280" y="404280"/>
            <a:ext cx="3456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000000"/>
                </a:solidFill>
                <a:latin typeface="Arial"/>
                <a:cs typeface="B Zar"/>
              </a:rPr>
              <a:t>منشور اخلاقی دولت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2"/>
          <p:cNvSpPr/>
          <p:nvPr/>
        </p:nvSpPr>
        <p:spPr>
          <a:xfrm>
            <a:off x="108000" y="2143080"/>
            <a:ext cx="889308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0000"/>
                </a:solidFill>
                <a:latin typeface="Arial"/>
                <a:ea typeface="B Zar"/>
              </a:rPr>
              <a:t>1</a:t>
            </a:r>
            <a:r>
              <a:rPr b="0" lang="fa-IR" sz="2000" spc="-1" strike="noStrike">
                <a:solidFill>
                  <a:srgbClr val="000000"/>
                </a:solidFill>
                <a:latin typeface="Arial"/>
                <a:ea typeface="B Zar"/>
              </a:rPr>
              <a:t>- خداوند را در همه حالات ناظر بر اعمال و رفتار خویش و مسئولیت را امانتی الهی بدان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0000"/>
                </a:solidFill>
                <a:latin typeface="Arial"/>
                <a:ea typeface="B Zar"/>
              </a:rPr>
              <a:t>2</a:t>
            </a:r>
            <a:r>
              <a:rPr b="0" lang="fa-IR" sz="2000" spc="-1" strike="noStrike">
                <a:solidFill>
                  <a:srgbClr val="000000"/>
                </a:solidFill>
                <a:latin typeface="Arial"/>
                <a:ea typeface="B Zar"/>
              </a:rPr>
              <a:t>- همه آحاد مردم ایران را از همه اقوام و مذاهب الهی و بدون توجه به تفاوت‌های فردی، جنسیتی و گروهی، محترم بشمارم و از حقوق، حریم خصوصی، حیثیت و شرافت آنان پاسداری کنم و در استفاده از تمام سرمایه‌های انسانی کشور بکوش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0000"/>
                </a:solidFill>
                <a:latin typeface="Arial"/>
                <a:ea typeface="B Zar"/>
              </a:rPr>
              <a:t>3</a:t>
            </a:r>
            <a:r>
              <a:rPr b="0" lang="fa-IR" sz="2000" spc="-1" strike="noStrike">
                <a:solidFill>
                  <a:srgbClr val="000000"/>
                </a:solidFill>
                <a:latin typeface="Arial"/>
                <a:ea typeface="B Zar"/>
              </a:rPr>
              <a:t>- هدف اول من تامین مصالح پایدار نظام جمهوری اسلامی ایران باشد و در صورتی که بین منافع فردی حزبی، سازمانی، قومی و حرفه‌ای من با مصالح ملی تضادی باشد، از منافع خود بگذرم و مصالح ملی را مبنای تصمیم قرار دهم؛ در تمام تصمیمات و اقدامات خود، سیاست‌های کلی نظام (ابلاغ شده توسط مقام معظم رهبری)، برنامه‌های توسعه، قوانین و اولویت‌های اعلام شده از طرف رییس‌جمهور را مد نظر قرار ده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0000"/>
                </a:solidFill>
                <a:latin typeface="Arial"/>
                <a:ea typeface="B Zar"/>
              </a:rPr>
              <a:t>4</a:t>
            </a:r>
            <a:r>
              <a:rPr b="0" lang="fa-IR" sz="2000" spc="-1" strike="noStrike">
                <a:solidFill>
                  <a:srgbClr val="000000"/>
                </a:solidFill>
                <a:latin typeface="Arial"/>
                <a:ea typeface="B Zar"/>
              </a:rPr>
              <a:t>- اندیشه‌ام در مدار اعتدال، تصمیماتم بر مبنای تدبیر و رفتارم در چارچوب قانون باشد و از تندروی، شتاب‌زدگی و خودسری بپرهیز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0000"/>
                </a:solidFill>
                <a:latin typeface="Arial"/>
                <a:ea typeface="B Zar"/>
              </a:rPr>
              <a:t>5</a:t>
            </a:r>
            <a:r>
              <a:rPr b="0" lang="fa-IR" sz="2000" spc="-1" strike="noStrike">
                <a:solidFill>
                  <a:srgbClr val="000000"/>
                </a:solidFill>
                <a:latin typeface="Arial"/>
                <a:ea typeface="B Zar"/>
              </a:rPr>
              <a:t>- همواره از دروغ بپرهیزم؛ به شعور و افکار عمومی احترام بگذارم؛ از دست‌کاری در اطلاعات و یا ارایه اطلاعات به گونه‌ای که موجب فریب دیگران به ویژه مسئولان عالی نظام شود به شدت پرهیز کنم؛ به عنوان امین نظام جمهوری اسلامی، اطلاعات و اسرار نظام را حفظ نمایم؛ چه در زمان مسئولیت و چه بعد از آن رازدار باش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59280" y="404280"/>
            <a:ext cx="3456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000000"/>
                </a:solidFill>
                <a:latin typeface="Arial"/>
                <a:cs typeface="B Zar"/>
              </a:rPr>
              <a:t>منشور اخلاقی دولت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3"/>
          <p:cNvSpPr/>
          <p:nvPr/>
        </p:nvSpPr>
        <p:spPr>
          <a:xfrm>
            <a:off x="250920" y="2060640"/>
            <a:ext cx="8712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0000"/>
                </a:solidFill>
                <a:latin typeface="Arial"/>
                <a:ea typeface="B Zar"/>
              </a:rPr>
              <a:t>6</a:t>
            </a:r>
            <a:r>
              <a:rPr b="0" lang="fa-IR" sz="2000" spc="-1" strike="noStrike">
                <a:solidFill>
                  <a:srgbClr val="000000"/>
                </a:solidFill>
                <a:latin typeface="Arial"/>
                <a:ea typeface="B Zar"/>
              </a:rPr>
              <a:t>- در تمام تصمیمات و اقدامات خود جویا و پذیرای نقد و نظر دیگران باشم، مسئولیت خطاهای خود را بپذیرم؛ برای دیدگاه مخالف و انتقاد، ارزش قائل باشم و خود را مقید به گزارش‌دهی منظم به رییس‌جمهور و مردم بدان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0000"/>
                </a:solidFill>
                <a:latin typeface="Arial"/>
                <a:ea typeface="B Zar"/>
              </a:rPr>
              <a:t>7</a:t>
            </a:r>
            <a:r>
              <a:rPr b="0" lang="fa-IR" sz="2000" spc="-1" strike="noStrike">
                <a:solidFill>
                  <a:srgbClr val="000000"/>
                </a:solidFill>
                <a:latin typeface="Arial"/>
                <a:ea typeface="B Zar"/>
              </a:rPr>
              <a:t>- نگاه و هدف خود را به سازمان تحت مدیریت خود محدود نکنم، بلکه تعاملات بین سازمانی و هم‌افزایی های فراسازمانی را مدنظر قرار دهم. در این راه به ویژه با وزارت‌خانه‌های هم‌گروه، فراتر از منافع سازمانی و با هدف دستیابی به اهداف ملی همکاری مؤثر داشته باش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0000"/>
                </a:solidFill>
                <a:latin typeface="Arial"/>
                <a:ea typeface="B Zar"/>
              </a:rPr>
              <a:t>8</a:t>
            </a:r>
            <a:r>
              <a:rPr b="0" lang="fa-IR" sz="2000" spc="-1" strike="noStrike">
                <a:solidFill>
                  <a:srgbClr val="000000"/>
                </a:solidFill>
                <a:latin typeface="Arial"/>
                <a:ea typeface="B Zar"/>
              </a:rPr>
              <a:t>- مبنای واگذاری مناصب را شایستگی، راستگویی و درستکاری قرار دهم و نزدیکان سببی و نسبی من در انتصابات از هیچ امتیاز و تقدمی برخوردار نباشن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0000"/>
                </a:solidFill>
                <a:latin typeface="Arial"/>
                <a:ea typeface="B Zar"/>
              </a:rPr>
              <a:t>9</a:t>
            </a:r>
            <a:r>
              <a:rPr b="0" lang="fa-IR" sz="2000" spc="-1" strike="noStrike">
                <a:solidFill>
                  <a:srgbClr val="000000"/>
                </a:solidFill>
                <a:latin typeface="Arial"/>
                <a:ea typeface="B Zar"/>
              </a:rPr>
              <a:t>- مدیران زیردست خود را برای پذیرش مسئولیت‌های بزرگتر و بلند رتبه‌تر آماده کنم و کارکنان خود را به مثابه سرمایه‌ای بپندارم که بهره‌وری و بالندگی آن‌ها بر عهده من است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59280" y="404280"/>
            <a:ext cx="3456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000000"/>
                </a:solidFill>
                <a:latin typeface="Arial"/>
                <a:cs typeface="B Zar"/>
              </a:rPr>
              <a:t>منشور اخلاقی دولت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tangle 3"/>
          <p:cNvSpPr/>
          <p:nvPr/>
        </p:nvSpPr>
        <p:spPr>
          <a:xfrm>
            <a:off x="34920" y="2287440"/>
            <a:ext cx="903780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0000"/>
                </a:solidFill>
                <a:latin typeface="Arial"/>
                <a:ea typeface="B Zar"/>
              </a:rPr>
              <a:t>10</a:t>
            </a:r>
            <a:r>
              <a:rPr b="0" lang="fa-IR" sz="2000" spc="-1" strike="noStrike">
                <a:solidFill>
                  <a:srgbClr val="000000"/>
                </a:solidFill>
                <a:latin typeface="Arial"/>
                <a:ea typeface="B Zar"/>
              </a:rPr>
              <a:t>- نظرات تخصصی مدیران قبلی، کارمندان، منتقدان و مشاوران مستقل خود را جویا شوم و به آن توجه ویژه کن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0000"/>
                </a:solidFill>
                <a:latin typeface="Arial"/>
                <a:ea typeface="B Zar"/>
              </a:rPr>
              <a:t>11</a:t>
            </a:r>
            <a:r>
              <a:rPr b="0" lang="fa-IR" sz="2000" spc="-1" strike="noStrike">
                <a:solidFill>
                  <a:srgbClr val="000000"/>
                </a:solidFill>
                <a:latin typeface="Arial"/>
                <a:ea typeface="B Zar"/>
              </a:rPr>
              <a:t>- حق مردم در دسترسی به اطلاعات را پاس دارم، شفافیت اطلاعاتی را مبنای عمل قرار دهم؛ در ارایه اطلاعات به آنان و تعامل با رسانه‌ها فعالانه و با رویکرد مثبت عمل کنم و در این مسیر با نظام اطلاع‌رسانی دولت هماهنگ عمل کن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0000"/>
                </a:solidFill>
                <a:latin typeface="Arial"/>
                <a:ea typeface="B Zar"/>
              </a:rPr>
              <a:t>12</a:t>
            </a:r>
            <a:r>
              <a:rPr b="0" lang="fa-IR" sz="2000" spc="-1" strike="noStrike">
                <a:solidFill>
                  <a:srgbClr val="000000"/>
                </a:solidFill>
                <a:latin typeface="Arial"/>
                <a:ea typeface="B Zar"/>
              </a:rPr>
              <a:t>- سرمایه‌های هستی چون انرژی، محیط زیست و نیروی انسانی را سرمایه‌های تمام بشر دانسته، در حفظ، کاربرد درست و بهسازی آنها کوشش کنم و این سرمایه را همچون میراثی بپندارم که از گذشتگان به ما رسیده است و چون امانتی بپندارم که باید به آیندگان برسانی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0000"/>
                </a:solidFill>
                <a:latin typeface="Arial"/>
                <a:ea typeface="B Zar"/>
              </a:rPr>
              <a:t>13</a:t>
            </a:r>
            <a:r>
              <a:rPr b="0" lang="fa-IR" sz="2000" spc="-1" strike="noStrike">
                <a:solidFill>
                  <a:srgbClr val="000000"/>
                </a:solidFill>
                <a:latin typeface="Arial"/>
                <a:ea typeface="B Zar"/>
              </a:rPr>
              <a:t>- هر گاه به این جمع‌بندی برسم که توان لازم برای انجام مسئولیت را از دست داده‌ام مراتب را به رییس‌جمهور اعلام کنم و زمانی که می‌خواهم سازمان تحت مدیریت خود را تحویل مسئول بعدی دهم، تمام اطلاعات و تجربیات خویش را به جانشین خود منتقل کن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0000"/>
                </a:solidFill>
                <a:latin typeface="Arial"/>
                <a:cs typeface="B Zar"/>
              </a:rPr>
              <a:t>من در پیشگاه قرآن کریم و در برابر رییس‌جمهوری اسلامی ایران به خداوند قادر متعال سوگند می‌خورم که همواره در دوران مسئولیت خود به منشور اخلاقی دولت «تدبیر و امید» متعهد باشم و همه توان خود را در راه ایفای وظیفه‌ام بکار گیر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39680" y="333000"/>
            <a:ext cx="8578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Zar"/>
              </a:rPr>
              <a:t>نمونه ای از ساختار کدهای رفتاری و اخلاقی ژاپن و آلمان و دانمار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45720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98960" indent="-498960" algn="r" rtl="1">
              <a:spcBef>
                <a:spcPts val="64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600" spc="-1" strike="noStrike">
                <a:solidFill>
                  <a:srgbClr val="000000"/>
                </a:solidFill>
                <a:latin typeface="Arial"/>
                <a:cs typeface="B Badr"/>
              </a:rPr>
              <a:t>رعایت قوانین و مقررات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8960" indent="-498960" algn="r" rtl="1">
              <a:spcBef>
                <a:spcPts val="64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600" spc="-1" strike="noStrike">
                <a:solidFill>
                  <a:srgbClr val="000000"/>
                </a:solidFill>
                <a:latin typeface="Arial"/>
                <a:cs typeface="B Badr"/>
              </a:rPr>
              <a:t>حفظ اسرار سازمان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8960" indent="-498960" algn="r" rtl="1">
              <a:spcBef>
                <a:spcPts val="64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600" spc="-1" strike="noStrike">
                <a:solidFill>
                  <a:srgbClr val="000000"/>
                </a:solidFill>
                <a:latin typeface="Arial"/>
                <a:cs typeface="B Badr"/>
              </a:rPr>
              <a:t>عدم فعالیت سیاسی در محیط های ادار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8960" indent="-498960" algn="r" rtl="1">
              <a:spcBef>
                <a:spcPts val="64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600" spc="-1" strike="noStrike">
                <a:solidFill>
                  <a:srgbClr val="000000"/>
                </a:solidFill>
                <a:latin typeface="Arial"/>
                <a:cs typeface="B Badr"/>
              </a:rPr>
              <a:t>عدم فعالیت تجاری در محیط های ادار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8960" indent="-498960" algn="r" rtl="1">
              <a:spcBef>
                <a:spcPts val="64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600" spc="-1" strike="noStrike">
                <a:solidFill>
                  <a:srgbClr val="000000"/>
                </a:solidFill>
                <a:latin typeface="Arial"/>
                <a:cs typeface="B Badr"/>
              </a:rPr>
              <a:t>بی اعتبار نکردن خدمات عمومی و دولت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8960" indent="-498960" algn="r" rtl="1">
              <a:spcBef>
                <a:spcPts val="64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600" spc="-1" strike="noStrike">
                <a:solidFill>
                  <a:srgbClr val="000000"/>
                </a:solidFill>
                <a:latin typeface="Arial"/>
                <a:cs typeface="B Badr"/>
              </a:rPr>
              <a:t>عدم دریافت هدیه، پول، مهمان نوازی، خدمات رایگان از مردم و احزاب و..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8960" indent="-498960" algn="r" rtl="1">
              <a:spcBef>
                <a:spcPts val="64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600" spc="-1" strike="noStrike">
                <a:solidFill>
                  <a:srgbClr val="000000"/>
                </a:solidFill>
                <a:latin typeface="Arial"/>
                <a:cs typeface="B Badr"/>
              </a:rPr>
              <a:t>عدم نشر کتب شخصی با هزینه دولت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8960" indent="-498960" algn="r" rtl="1">
              <a:spcBef>
                <a:spcPts val="64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600" spc="-1" strike="noStrike">
                <a:solidFill>
                  <a:srgbClr val="000000"/>
                </a:solidFill>
                <a:latin typeface="Arial"/>
                <a:cs typeface="B Badr"/>
              </a:rPr>
              <a:t>دریافت و پرداخت رشوه جرم محسوب می گردد. (براساس قانون های قضایی کشور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7030a0"/>
                </a:solidFill>
                <a:latin typeface="Arial"/>
                <a:cs typeface="B Zar"/>
              </a:rPr>
              <a:t>شما چه فردی هستید؟</a:t>
            </a:r>
            <a:br>
              <a:rPr sz="3200"/>
            </a:br>
            <a:r>
              <a:rPr b="0" lang="fa-IR" sz="3200" spc="-1" strike="noStrike">
                <a:solidFill>
                  <a:srgbClr val="000000"/>
                </a:solidFill>
                <a:latin typeface="Arial"/>
                <a:cs typeface="B Zar"/>
              </a:rPr>
              <a:t>جواب سؤالات را با بلی و خیر پاسخ دهید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  <a:ea typeface="B Zar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45720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468000" indent="-468000" algn="r" rtl="1">
              <a:spcBef>
                <a:spcPts val="64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600" spc="-1" strike="noStrike">
                <a:solidFill>
                  <a:srgbClr val="000000"/>
                </a:solidFill>
                <a:latin typeface="Arial"/>
                <a:cs typeface="B Badr"/>
              </a:rPr>
              <a:t>وقتی مشاهده میکنید خانم مسنی با کیفی سنگین، قصد دارد از پله ها بالا برود، آیا شما به قدری مهربان هستید که در حمل کیف به او کمک کنید؟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68000" indent="-468000" algn="r" rtl="1">
              <a:spcBef>
                <a:spcPts val="64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600" spc="-1" strike="noStrike">
                <a:solidFill>
                  <a:srgbClr val="000000"/>
                </a:solidFill>
                <a:latin typeface="Arial"/>
                <a:cs typeface="B Badr"/>
              </a:rPr>
              <a:t>شما فکر می کنید انسان شایسته ای هستید؟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68000" indent="-468000" algn="r" rtl="1">
              <a:spcBef>
                <a:spcPts val="64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600" spc="-1" strike="noStrike">
                <a:solidFill>
                  <a:srgbClr val="000000"/>
                </a:solidFill>
                <a:latin typeface="Arial"/>
                <a:cs typeface="B Badr"/>
              </a:rPr>
              <a:t>شما فکر می کنید انسان پرکاری هستید؟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68000" indent="-468000" algn="r" rtl="1">
              <a:spcBef>
                <a:spcPts val="64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600" spc="-1" strike="noStrike">
                <a:solidFill>
                  <a:srgbClr val="000000"/>
                </a:solidFill>
                <a:latin typeface="Arial"/>
                <a:cs typeface="B Badr"/>
              </a:rPr>
              <a:t>آیا شما تمایل دارید از زندگی شخصی و خصوصی تان لذت ببرید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68000" indent="-468000" algn="r" rtl="1">
              <a:spcBef>
                <a:spcPts val="64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600" spc="-1" strike="noStrike">
                <a:solidFill>
                  <a:srgbClr val="000000"/>
                </a:solidFill>
                <a:latin typeface="Arial"/>
                <a:cs typeface="B Badr"/>
              </a:rPr>
              <a:t>اگر همکار شما به شمایک هدیه کوچک بدهد آیا شما هم دوست دارید یک چیزی به او هدیه بدهید؟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68000" indent="-468000" algn="r" rtl="1">
              <a:spcBef>
                <a:spcPts val="64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600" spc="-1" strike="noStrike">
                <a:solidFill>
                  <a:srgbClr val="000000"/>
                </a:solidFill>
                <a:latin typeface="Arial"/>
                <a:cs typeface="B Badr"/>
              </a:rPr>
              <a:t>آیا شما فردی خوشبین هستید به جای بدبین بودن؟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68000" indent="-468000" algn="r" rtl="1">
              <a:spcBef>
                <a:spcPts val="64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600" spc="-1" strike="noStrike">
                <a:solidFill>
                  <a:srgbClr val="000000"/>
                </a:solidFill>
                <a:latin typeface="Arial"/>
                <a:cs typeface="B Badr"/>
              </a:rPr>
              <a:t>آیا شما فکر می کنید نتایج بیشتر از روش ها مهم اند؟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7030a0"/>
                </a:solidFill>
                <a:latin typeface="Arial"/>
                <a:cs typeface="B Zar"/>
              </a:rPr>
              <a:t>شما چه فردی هستید؟</a:t>
            </a:r>
            <a:br>
              <a:rPr sz="3200"/>
            </a:br>
            <a:r>
              <a:rPr b="0" lang="fa-IR" sz="3200" spc="-1" strike="noStrike">
                <a:solidFill>
                  <a:srgbClr val="000000"/>
                </a:solidFill>
                <a:latin typeface="Arial"/>
                <a:cs typeface="B Zar"/>
              </a:rPr>
              <a:t>جواب سؤالات را با بلی و خیر پاسخ دهید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  <a:ea typeface="B Zar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45720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r" rtl="1">
              <a:spcBef>
                <a:spcPts val="649"/>
              </a:spcBef>
              <a:buClr>
                <a:srgbClr val="000000"/>
              </a:buClr>
              <a:buFont typeface="Arial"/>
              <a:buAutoNum type="arabicParenR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600" spc="-1" strike="noStrike">
                <a:solidFill>
                  <a:srgbClr val="000000"/>
                </a:solidFill>
                <a:latin typeface="Arial"/>
                <a:cs typeface="B Badr"/>
              </a:rPr>
              <a:t>آیا شما تا به حال یک وسیله لوکس و گران قیمت مثل یک ماشین یا ساعت مارک دار خریده اید؟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r" rtl="1">
              <a:spcBef>
                <a:spcPts val="649"/>
              </a:spcBef>
              <a:buClr>
                <a:srgbClr val="000000"/>
              </a:buClr>
              <a:buFont typeface="Arial"/>
              <a:buAutoNum type="arabicParenR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600" spc="-1" strike="noStrike">
                <a:solidFill>
                  <a:srgbClr val="000000"/>
                </a:solidFill>
                <a:latin typeface="Arial"/>
                <a:cs typeface="B Badr"/>
              </a:rPr>
              <a:t>آیا شما وقتی یکی از دوستانتان درخواستی دارد که معمولاً برای دیگران انجام نمی دهید توانایی « نه » گفتن را دارید؟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r" rtl="1">
              <a:spcBef>
                <a:spcPts val="649"/>
              </a:spcBef>
              <a:buClr>
                <a:srgbClr val="000000"/>
              </a:buClr>
              <a:buFont typeface="Arial"/>
              <a:buAutoNum type="arabicParenR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600" spc="-1" strike="noStrike">
                <a:solidFill>
                  <a:srgbClr val="000000"/>
                </a:solidFill>
                <a:latin typeface="Arial"/>
                <a:cs typeface="B Badr"/>
              </a:rPr>
              <a:t>آیا تا به حال در جواب اینکه چند سال دارید، دروغ گفته اید؟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 txBox="1"/>
          <p:nvPr/>
        </p:nvSpPr>
        <p:spPr>
          <a:xfrm>
            <a:off x="179280" y="2205000"/>
            <a:ext cx="8374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  <a:ea typeface="B Badr"/>
              </a:rPr>
              <a:t>* اگربیشترین «بله» را گفته باشید، شما بیشتر در معرض فساد قرار دارید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  <a:ea typeface="B Badr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0000"/>
                </a:solidFill>
                <a:latin typeface="Arial"/>
                <a:ea typeface="B Badr"/>
              </a:rPr>
              <a:t>          «مدخل ها و معرض هایی برای بروز فساد اداری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 txBox="1"/>
          <p:nvPr/>
        </p:nvSpPr>
        <p:spPr>
          <a:xfrm>
            <a:off x="32400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algn="just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600" spc="-1" strike="noStrike">
                <a:solidFill>
                  <a:srgbClr val="000000"/>
                </a:solidFill>
                <a:latin typeface="Arial"/>
                <a:cs typeface="B Badr"/>
              </a:rPr>
              <a:t>یکی از گزینه های زیر را با دقت و تفکر به دلیل آن انتخاب کنید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600" spc="-1" strike="noStrike">
                <a:solidFill>
                  <a:srgbClr val="000000"/>
                </a:solidFill>
                <a:latin typeface="Arial"/>
                <a:ea typeface="B Badr"/>
              </a:rPr>
              <a:t>1</a:t>
            </a:r>
            <a:r>
              <a:rPr b="0" lang="fa-IR" sz="2600" spc="-1" strike="noStrike">
                <a:solidFill>
                  <a:srgbClr val="000000"/>
                </a:solidFill>
                <a:latin typeface="Arial"/>
                <a:ea typeface="B Badr"/>
              </a:rPr>
              <a:t>- وقتی که شما در حال قدم زدن در خیابان هستید چراغ عابر پیاده مقابل شما قرمز می شود. شما می ایستید ، به اطراف نگاه می کنید و مشاهده می کنید خودرویی حرکت نمی کند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600" spc="-1" strike="noStrike">
                <a:solidFill>
                  <a:srgbClr val="000000"/>
                </a:solidFill>
                <a:latin typeface="Arial"/>
                <a:cs typeface="B Badr"/>
              </a:rPr>
              <a:t>الف) منتظر می مانید تا چراغ راهنمایی عابر پیاده سبز شود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600" spc="-1" strike="noStrike">
                <a:solidFill>
                  <a:srgbClr val="000000"/>
                </a:solidFill>
                <a:latin typeface="Arial"/>
                <a:cs typeface="B Badr"/>
              </a:rPr>
              <a:t>ب) دیگران در حال عبور از چراغ قرمز هستند و شما نیز این کار را می کنید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600" spc="-1" strike="noStrike">
                <a:solidFill>
                  <a:srgbClr val="000000"/>
                </a:solidFill>
                <a:latin typeface="Arial"/>
                <a:cs typeface="B Badr"/>
              </a:rPr>
              <a:t>ج) شما عبور می کنید حتی وقتی دیگران ایستاده باشند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c00000"/>
                </a:solidFill>
                <a:latin typeface="Arabic Typesetting"/>
                <a:cs typeface="Arabic Typesetting"/>
              </a:rPr>
              <a:t>شما چه کاری انجام می دهید وقتی</a:t>
            </a:r>
            <a:r>
              <a:rPr b="1" lang="fa-IR" sz="4400" spc="-1" strike="noStrike">
                <a:solidFill>
                  <a:srgbClr val="c00000"/>
                </a:solidFill>
                <a:latin typeface="Arabic Typesetting"/>
                <a:ea typeface="Arabic Typesetting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 txBox="1"/>
          <p:nvPr/>
        </p:nvSpPr>
        <p:spPr>
          <a:xfrm>
            <a:off x="45720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600" spc="-1" strike="noStrike">
                <a:solidFill>
                  <a:srgbClr val="000000"/>
                </a:solidFill>
                <a:latin typeface="Arial"/>
                <a:ea typeface="B Badr"/>
              </a:rPr>
              <a:t>2</a:t>
            </a:r>
            <a:r>
              <a:rPr b="0" lang="fa-IR" sz="2600" spc="-1" strike="noStrike">
                <a:solidFill>
                  <a:srgbClr val="000000"/>
                </a:solidFill>
                <a:latin typeface="Arial"/>
                <a:ea typeface="B Badr"/>
              </a:rPr>
              <a:t>- شما با </a:t>
            </a:r>
            <a:r>
              <a:rPr b="0" lang="fa-IR" sz="2600" spc="-1" strike="noStrike">
                <a:solidFill>
                  <a:srgbClr val="000000"/>
                </a:solidFill>
                <a:latin typeface="Arial"/>
                <a:ea typeface="B Badr"/>
              </a:rPr>
              <a:t>9</a:t>
            </a:r>
            <a:r>
              <a:rPr b="0" lang="fa-IR" sz="2600" spc="-1" strike="noStrike">
                <a:solidFill>
                  <a:srgbClr val="000000"/>
                </a:solidFill>
                <a:latin typeface="Arial"/>
                <a:ea typeface="B Badr"/>
              </a:rPr>
              <a:t> نفر از همکارانتان (</a:t>
            </a:r>
            <a:r>
              <a:rPr b="0" lang="fa-IR" sz="2600" spc="-1" strike="noStrike">
                <a:solidFill>
                  <a:srgbClr val="000000"/>
                </a:solidFill>
                <a:latin typeface="Arial"/>
                <a:ea typeface="B Badr"/>
              </a:rPr>
              <a:t>10</a:t>
            </a:r>
            <a:r>
              <a:rPr b="0" lang="fa-IR" sz="2600" spc="-1" strike="noStrike">
                <a:solidFill>
                  <a:srgbClr val="000000"/>
                </a:solidFill>
                <a:latin typeface="Arial"/>
                <a:ea typeface="B Badr"/>
              </a:rPr>
              <a:t> نفر) همگی بیمار شده اید و اگر دارو مصرف نکنید خواهید مرد. اما در کل </a:t>
            </a:r>
            <a:r>
              <a:rPr b="0" lang="fa-IR" sz="2600" spc="-1" strike="noStrike">
                <a:solidFill>
                  <a:srgbClr val="000000"/>
                </a:solidFill>
                <a:latin typeface="Arial"/>
                <a:ea typeface="B Badr"/>
              </a:rPr>
              <a:t>9</a:t>
            </a:r>
            <a:r>
              <a:rPr b="0" lang="fa-IR" sz="2600" spc="-1" strike="noStrike">
                <a:solidFill>
                  <a:srgbClr val="000000"/>
                </a:solidFill>
                <a:latin typeface="Arial"/>
                <a:ea typeface="B Badr"/>
              </a:rPr>
              <a:t> قرص وجود دارد و قرص ها در دست شماست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600" spc="-1" strike="noStrike">
                <a:solidFill>
                  <a:srgbClr val="000000"/>
                </a:solidFill>
                <a:latin typeface="Arial"/>
                <a:cs typeface="B Badr"/>
              </a:rPr>
              <a:t>الف) شما قرص نمی خورید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600" spc="-1" strike="noStrike">
                <a:solidFill>
                  <a:srgbClr val="000000"/>
                </a:solidFill>
                <a:latin typeface="Arial"/>
                <a:cs typeface="B Badr"/>
              </a:rPr>
              <a:t>ب) داوطلب شدن یک نفر برای نخوردن قر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600" spc="-1" strike="noStrike">
                <a:solidFill>
                  <a:srgbClr val="000000"/>
                </a:solidFill>
                <a:latin typeface="Arial"/>
                <a:cs typeface="B Badr"/>
              </a:rPr>
              <a:t>ج) پیشنهاد برای تصمیم گیری گروهی برای انتخاب یک نفر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600" spc="-1" strike="noStrike">
                <a:solidFill>
                  <a:srgbClr val="000000"/>
                </a:solidFill>
                <a:latin typeface="Arial"/>
                <a:cs typeface="B Badr"/>
              </a:rPr>
              <a:t>د) قرعه کشی کنید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c00000"/>
                </a:solidFill>
                <a:latin typeface="Arabic Typesetting"/>
                <a:cs typeface="Arabic Typesetting"/>
              </a:rPr>
              <a:t>شما چه کاری انجام می دهید وقتی</a:t>
            </a:r>
            <a:r>
              <a:rPr b="1" lang="fa-IR" sz="4400" spc="-1" strike="noStrike">
                <a:solidFill>
                  <a:srgbClr val="c00000"/>
                </a:solidFill>
                <a:latin typeface="Arabic Typesetting"/>
                <a:ea typeface="Arabic Typesetting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00"/>
                </a:solidFill>
                <a:latin typeface="Arial"/>
                <a:cs typeface="B Zar"/>
              </a:rPr>
              <a:t>فرآیند و مراحل برنامه ریزی منابع انسان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  <a:ea typeface="B Badr"/>
              </a:rPr>
              <a:t>1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  <a:ea typeface="B Badr"/>
              </a:rPr>
              <a:t>- تجزیه تحلیل وضع موجود و پیش بینی احتیاجات آیند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  <a:ea typeface="B Badr"/>
              </a:rPr>
              <a:t>2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  <a:ea typeface="B Badr"/>
              </a:rPr>
              <a:t>- تعیین اهداف، مأموریت ها و خط مشی های پرسنل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  <a:ea typeface="B Badr"/>
              </a:rPr>
              <a:t>3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  <a:ea typeface="B Badr"/>
              </a:rPr>
              <a:t>- برنامه ریزی نیروی انسان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  <a:ea typeface="B Badr"/>
              </a:rPr>
              <a:t>4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  <a:ea typeface="B Badr"/>
              </a:rPr>
              <a:t>- برنامه ریزی نحوه کنترل و ارزیاب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4" descr=""/>
          <p:cNvPicPr/>
          <p:nvPr/>
        </p:nvPicPr>
        <p:blipFill>
          <a:blip r:embed="rId1"/>
          <a:stretch/>
        </p:blipFill>
        <p:spPr>
          <a:xfrm>
            <a:off x="0" y="6656400"/>
            <a:ext cx="841320" cy="20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 txBox="1"/>
          <p:nvPr/>
        </p:nvSpPr>
        <p:spPr>
          <a:xfrm>
            <a:off x="45720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 rtl="1">
              <a:lnSpc>
                <a:spcPct val="15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600" spc="-1" strike="noStrike">
                <a:solidFill>
                  <a:srgbClr val="000000"/>
                </a:solidFill>
                <a:latin typeface="Arial"/>
                <a:ea typeface="B Badr"/>
              </a:rPr>
              <a:t>3</a:t>
            </a:r>
            <a:r>
              <a:rPr b="0" lang="fa-IR" sz="2600" spc="-1" strike="noStrike">
                <a:solidFill>
                  <a:srgbClr val="000000"/>
                </a:solidFill>
                <a:latin typeface="Arial"/>
                <a:ea typeface="B Badr"/>
              </a:rPr>
              <a:t>- پدر شما یک کار غیرقانونی انجام می دهد که کسی غیر از شما متوجه نشده است. او حداقل </a:t>
            </a:r>
            <a:r>
              <a:rPr b="0" lang="fa-IR" sz="2600" spc="-1" strike="noStrike">
                <a:solidFill>
                  <a:srgbClr val="000000"/>
                </a:solidFill>
                <a:latin typeface="Arial"/>
                <a:ea typeface="B Badr"/>
              </a:rPr>
              <a:t>5</a:t>
            </a:r>
            <a:r>
              <a:rPr b="0" lang="fa-IR" sz="2600" spc="-1" strike="noStrike">
                <a:solidFill>
                  <a:srgbClr val="000000"/>
                </a:solidFill>
                <a:latin typeface="Arial"/>
                <a:ea typeface="B Badr"/>
              </a:rPr>
              <a:t> سال به زندان خواهد رفت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5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600" spc="-1" strike="noStrike">
                <a:solidFill>
                  <a:srgbClr val="000000"/>
                </a:solidFill>
                <a:latin typeface="Arial"/>
                <a:cs typeface="B Badr"/>
              </a:rPr>
              <a:t>الف) کار او را به پلیس گزارش می دهید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5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600" spc="-1" strike="noStrike">
                <a:solidFill>
                  <a:srgbClr val="000000"/>
                </a:solidFill>
                <a:latin typeface="Arial"/>
                <a:cs typeface="B Badr"/>
              </a:rPr>
              <a:t>ب) اگر پلیس از شما سؤال کند به او می گویید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5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600" spc="-1" strike="noStrike">
                <a:solidFill>
                  <a:srgbClr val="000000"/>
                </a:solidFill>
                <a:latin typeface="Arial"/>
                <a:cs typeface="B Badr"/>
              </a:rPr>
              <a:t>ج) حتی اگر پلیس هم از شما سؤال کند چیزی نمی گویید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c00000"/>
                </a:solidFill>
                <a:latin typeface="Arabic Typesetting"/>
                <a:cs typeface="Arabic Typesetting"/>
              </a:rPr>
              <a:t>شما چه کاری انجام می دهید وقتی</a:t>
            </a:r>
            <a:r>
              <a:rPr b="1" lang="fa-IR" sz="4400" spc="-1" strike="noStrike">
                <a:solidFill>
                  <a:srgbClr val="c00000"/>
                </a:solidFill>
                <a:latin typeface="Arabic Typesetting"/>
                <a:ea typeface="Arabic Typesetting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 txBox="1"/>
          <p:nvPr/>
        </p:nvSpPr>
        <p:spPr>
          <a:xfrm>
            <a:off x="45720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 rtl="1">
              <a:lnSpc>
                <a:spcPct val="15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600" spc="-1" strike="noStrike">
                <a:solidFill>
                  <a:srgbClr val="000000"/>
                </a:solidFill>
                <a:latin typeface="Arial"/>
                <a:ea typeface="B Badr"/>
              </a:rPr>
              <a:t>4</a:t>
            </a:r>
            <a:r>
              <a:rPr b="0" lang="fa-IR" sz="2600" spc="-1" strike="noStrike">
                <a:solidFill>
                  <a:srgbClr val="000000"/>
                </a:solidFill>
                <a:latin typeface="Arial"/>
                <a:ea typeface="B Badr"/>
              </a:rPr>
              <a:t>- وقتی که در حال قدم زدن هستید شما مقداری پول پیدا می کنید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5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600" spc="-1" strike="noStrike">
                <a:solidFill>
                  <a:srgbClr val="000000"/>
                </a:solidFill>
                <a:latin typeface="Arial"/>
                <a:cs typeface="B Badr"/>
              </a:rPr>
              <a:t>الف) آن را بر می دارید و به پلیس گزارش می دهید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5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600" spc="-1" strike="noStrike">
                <a:solidFill>
                  <a:srgbClr val="000000"/>
                </a:solidFill>
                <a:latin typeface="Arial"/>
                <a:cs typeface="B Badr"/>
              </a:rPr>
              <a:t>ب) آن را بر می دارید و به اطراف نگاه می کنید. اگر کسی شما را دید به پلیس گزارش می دهید. در غیر این صورت آن را برای خود برمی دارید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5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600" spc="-1" strike="noStrike">
                <a:solidFill>
                  <a:srgbClr val="000000"/>
                </a:solidFill>
                <a:latin typeface="Arial"/>
                <a:cs typeface="B Badr"/>
              </a:rPr>
              <a:t>ج) بدون اینکه پول را بردارید از کنار آن عبور می کنید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c00000"/>
                </a:solidFill>
                <a:latin typeface="Arabic Typesetting"/>
                <a:cs typeface="Arabic Typesetting"/>
              </a:rPr>
              <a:t>شما چه کاری انجام می دهید وقتی</a:t>
            </a:r>
            <a:r>
              <a:rPr b="1" lang="fa-IR" sz="4400" spc="-1" strike="noStrike">
                <a:solidFill>
                  <a:srgbClr val="c00000"/>
                </a:solidFill>
                <a:latin typeface="Arabic Typesetting"/>
                <a:ea typeface="Arabic Typesetting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 txBox="1"/>
          <p:nvPr/>
        </p:nvSpPr>
        <p:spPr>
          <a:xfrm>
            <a:off x="45720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 rtl="1">
              <a:lnSpc>
                <a:spcPct val="15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600" spc="-1" strike="noStrike">
                <a:solidFill>
                  <a:srgbClr val="000000"/>
                </a:solidFill>
                <a:latin typeface="Arial"/>
                <a:ea typeface="B Badr"/>
              </a:rPr>
              <a:t>1</a:t>
            </a:r>
            <a:r>
              <a:rPr b="0" lang="fa-IR" sz="2600" spc="-1" strike="noStrike">
                <a:solidFill>
                  <a:srgbClr val="000000"/>
                </a:solidFill>
                <a:latin typeface="Arial"/>
                <a:ea typeface="B Badr"/>
              </a:rPr>
              <a:t>- نداشتن نگرش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5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600" spc="-1" strike="noStrike">
                <a:solidFill>
                  <a:srgbClr val="000000"/>
                </a:solidFill>
                <a:latin typeface="Arial"/>
                <a:ea typeface="B Badr"/>
              </a:rPr>
              <a:t>2</a:t>
            </a:r>
            <a:r>
              <a:rPr b="0" lang="fa-IR" sz="2600" spc="-1" strike="noStrike">
                <a:solidFill>
                  <a:srgbClr val="000000"/>
                </a:solidFill>
                <a:latin typeface="Arial"/>
                <a:ea typeface="B Badr"/>
              </a:rPr>
              <a:t>- نگرش هزینه و منفعت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5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600" spc="-1" strike="noStrike">
                <a:solidFill>
                  <a:srgbClr val="000000"/>
                </a:solidFill>
                <a:latin typeface="Arial"/>
                <a:ea typeface="B Badr"/>
              </a:rPr>
              <a:t>3</a:t>
            </a:r>
            <a:r>
              <a:rPr b="0" lang="fa-IR" sz="2600" spc="-1" strike="noStrike">
                <a:solidFill>
                  <a:srgbClr val="000000"/>
                </a:solidFill>
                <a:latin typeface="Arial"/>
                <a:ea typeface="B Badr"/>
              </a:rPr>
              <a:t>- نگرش سیستمی و برنامه ا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5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600" spc="-1" strike="noStrike">
                <a:solidFill>
                  <a:srgbClr val="000000"/>
                </a:solidFill>
                <a:latin typeface="Arial"/>
                <a:ea typeface="B Badr"/>
              </a:rPr>
              <a:t>4</a:t>
            </a:r>
            <a:r>
              <a:rPr b="0" lang="fa-IR" sz="2600" spc="-1" strike="noStrike">
                <a:solidFill>
                  <a:srgbClr val="000000"/>
                </a:solidFill>
                <a:latin typeface="Arial"/>
                <a:ea typeface="B Badr"/>
              </a:rPr>
              <a:t>- داشتن نگرش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33cc"/>
                </a:solidFill>
                <a:latin typeface="Arabic Typesetting"/>
                <a:cs typeface="B Zar"/>
              </a:rPr>
              <a:t>چهار نگرش در برخورد با فسا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 txBox="1"/>
          <p:nvPr/>
        </p:nvSpPr>
        <p:spPr>
          <a:xfrm>
            <a:off x="250920" y="2708280"/>
            <a:ext cx="85183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algn="just" rtl="1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  <a:cs typeface="B Badr"/>
              </a:rPr>
              <a:t>در این وضعیت، سازمان دارای آئین نامه انضباطی و کدهای اخلاقی با تصریح ممنوعیت ها (شامل روزنه ها و راه های ایجاد فساد) می باشد. دراین وضعیت به جای پیشگیری از وقوع فساد به دنبال برخورد انضباطی با فساد است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Content Placeholder 2"/>
          <p:cNvSpPr/>
          <p:nvPr/>
        </p:nvSpPr>
        <p:spPr>
          <a:xfrm>
            <a:off x="539640" y="4221000"/>
            <a:ext cx="822960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 rtl="1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Rectangle 1"/>
          <p:cNvSpPr/>
          <p:nvPr/>
        </p:nvSpPr>
        <p:spPr>
          <a:xfrm>
            <a:off x="2277720" y="189000"/>
            <a:ext cx="40363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33cc"/>
                </a:solidFill>
                <a:latin typeface="Arabic Typesetting"/>
                <a:cs typeface="B Zar"/>
              </a:rPr>
              <a:t>نداشتن نگر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6836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33cc"/>
                </a:solidFill>
                <a:latin typeface="Arabic Typesetting"/>
                <a:cs typeface="B Zar"/>
              </a:rPr>
              <a:t>نگرش هزینه / منفعت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-36720" y="2133720"/>
            <a:ext cx="9072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algn="just" rtl="1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  <a:cs typeface="B Badr"/>
              </a:rPr>
              <a:t>در این وضعیت مقایسه هزینه (مقداری که فرد تنبیه بشود ضرر می کند) و منفعت (مقداری که از فساد فرد منتفع می شود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  <a:ea typeface="B Badr"/>
              </a:rPr>
              <a:t> هزینه &gt;منفعت : شما از فساد چشمپوشی می کنید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abic Typesetting"/>
                <a:ea typeface="B Zar"/>
              </a:rPr>
              <a:t> منفعت &gt; هزینه : فضای ایجاد فساد فراهم و سلامت اداری در خطر است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Content Placeholder 2"/>
          <p:cNvSpPr/>
          <p:nvPr/>
        </p:nvSpPr>
        <p:spPr>
          <a:xfrm>
            <a:off x="506520" y="2421000"/>
            <a:ext cx="8229600" cy="36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 rtl="1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  <a:cs typeface="B Badr"/>
              </a:rPr>
              <a:t>تدوین برنامه هایی برای کاهش فرصت بروز فسا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  <a:ea typeface="B Badr"/>
              </a:rPr>
              <a:t>1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  <a:ea typeface="B Badr"/>
              </a:rPr>
              <a:t>- چرخش کارکنان هر 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  <a:ea typeface="B Badr"/>
              </a:rPr>
              <a:t>2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  <a:ea typeface="B Badr"/>
              </a:rPr>
              <a:t> یا 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  <a:ea typeface="B Badr"/>
              </a:rPr>
              <a:t>3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  <a:ea typeface="B Badr"/>
              </a:rPr>
              <a:t> سا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  <a:ea typeface="B Badr"/>
              </a:rPr>
              <a:t>2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  <a:ea typeface="B Badr"/>
              </a:rPr>
              <a:t>- توزیع قدرت، تصمیم گیری جمعی، استاندارد کردن فرآیندهای تصمیم به وسیله معیارها و شاخص های روشن و واض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  <a:ea typeface="B Badr"/>
              </a:rPr>
              <a:t>3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  <a:ea typeface="B Badr"/>
              </a:rPr>
              <a:t>- مکانیزاسیو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ectangle 1"/>
          <p:cNvSpPr/>
          <p:nvPr/>
        </p:nvSpPr>
        <p:spPr>
          <a:xfrm>
            <a:off x="1477800" y="404640"/>
            <a:ext cx="5757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33cc"/>
                </a:solidFill>
                <a:latin typeface="Arabic Typesetting"/>
                <a:cs typeface="B Zar"/>
              </a:rPr>
              <a:t>نگرش سیستمی و برنامه ا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800" spc="-1" strike="noStrike">
                <a:solidFill>
                  <a:srgbClr val="0033cc"/>
                </a:solidFill>
                <a:latin typeface="Arial"/>
                <a:cs typeface="B Titr"/>
              </a:rPr>
              <a:t>داشتن نگرش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169920" y="1926720"/>
            <a:ext cx="85788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  <a:cs typeface="B Zar"/>
              </a:rPr>
              <a:t>ایجاد انگیزه در کارکنان جهت خدمت بیشتر به مرد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  <a:cs typeface="B Zar"/>
              </a:rPr>
              <a:t>احساس غرور و افتخار به خاطر خدمتگزاری به مرد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  <a:cs typeface="B Zar"/>
              </a:rPr>
              <a:t>کمترین علاقه به انجام فسا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  <a:cs typeface="B Zar"/>
              </a:rPr>
              <a:t>نیاز به قوانین تفصیلی و جزئی نیس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  <a:cs typeface="B Zar"/>
              </a:rPr>
              <a:t>مهم رضایت قلبی در انجام خدمتگزاری اس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  <a:cs typeface="B Zar"/>
              </a:rPr>
              <a:t>در این نگرش نه تنها پیشگیری از بی اعتباری خدمات صورت می گیرد بلکه موجب افزایش اعتبار سازمانی خواهد شد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7030a0"/>
                </a:solidFill>
                <a:latin typeface="Arial"/>
                <a:cs typeface="B Zar"/>
              </a:rPr>
              <a:t>شفافیت و پیشگیری از فساد ادار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7" name="Group 7"/>
          <p:cNvGrpSpPr/>
          <p:nvPr/>
        </p:nvGrpSpPr>
        <p:grpSpPr>
          <a:xfrm>
            <a:off x="5651640" y="3141720"/>
            <a:ext cx="2708280" cy="1800000"/>
            <a:chOff x="5651640" y="3141720"/>
            <a:chExt cx="2708280" cy="1800000"/>
          </a:xfrm>
        </p:grpSpPr>
        <p:sp>
          <p:nvSpPr>
            <p:cNvPr id="438" name="Up Arrow 3"/>
            <p:cNvSpPr/>
            <p:nvPr/>
          </p:nvSpPr>
          <p:spPr>
            <a:xfrm>
              <a:off x="5651640" y="3141720"/>
              <a:ext cx="1152720" cy="1800000"/>
            </a:xfrm>
            <a:prstGeom prst="upArrow">
              <a:avLst>
                <a:gd name="adj1" fmla="val 50000"/>
                <a:gd name="adj2" fmla="val 49969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TextBox 5"/>
            <p:cNvSpPr/>
            <p:nvPr/>
          </p:nvSpPr>
          <p:spPr>
            <a:xfrm>
              <a:off x="6620040" y="4294080"/>
              <a:ext cx="1739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a-IR" sz="3600" spc="-1" strike="noStrike">
                  <a:solidFill>
                    <a:srgbClr val="000000"/>
                  </a:solidFill>
                  <a:latin typeface="Arial"/>
                  <a:cs typeface="B Titr"/>
                </a:rPr>
                <a:t>شفافیت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0" name="Group 8"/>
          <p:cNvGrpSpPr/>
          <p:nvPr/>
        </p:nvGrpSpPr>
        <p:grpSpPr>
          <a:xfrm>
            <a:off x="1979640" y="3141720"/>
            <a:ext cx="3409200" cy="1800000"/>
            <a:chOff x="1979640" y="3141720"/>
            <a:chExt cx="3409200" cy="1800000"/>
          </a:xfrm>
        </p:grpSpPr>
        <p:sp>
          <p:nvSpPr>
            <p:cNvPr id="441" name="Up Arrow 4"/>
            <p:cNvSpPr/>
            <p:nvPr/>
          </p:nvSpPr>
          <p:spPr>
            <a:xfrm rot="10800000">
              <a:off x="1979640" y="3141720"/>
              <a:ext cx="1152000" cy="1800000"/>
            </a:xfrm>
            <a:prstGeom prst="upArrow">
              <a:avLst>
                <a:gd name="adj1" fmla="val 50000"/>
                <a:gd name="adj2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TextBox 6"/>
            <p:cNvSpPr/>
            <p:nvPr/>
          </p:nvSpPr>
          <p:spPr>
            <a:xfrm>
              <a:off x="3057840" y="4294080"/>
              <a:ext cx="2331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a-IR" sz="3600" spc="-1" strike="noStrike">
                  <a:solidFill>
                    <a:srgbClr val="000000"/>
                  </a:solidFill>
                  <a:latin typeface="Arial"/>
                  <a:cs typeface="B Titr"/>
                </a:rPr>
                <a:t>فساد اداری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Arial"/>
                <a:cs typeface="B Zar"/>
              </a:rPr>
              <a:t>راه های ایجاد شفافی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45720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  <a:cs typeface="B Badr"/>
              </a:rPr>
              <a:t>نظم و انضبا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  <a:cs typeface="B Badr"/>
              </a:rPr>
              <a:t>تدوین فرآیندهای انجام کا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  <a:cs typeface="B Badr"/>
              </a:rPr>
              <a:t>تدوین دستورالعمل ها و نظامات ادار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  <a:cs typeface="B Badr"/>
              </a:rPr>
              <a:t>اطلاع رسانی به موق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  <a:cs typeface="B Badr"/>
              </a:rPr>
              <a:t>استفاده از فناوری اطلاعات و سیستمی کردن امور و حذف امضاء طلائی، سلایق و برداشت های شخصی در امور منابع انسان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0066"/>
                </a:solidFill>
                <a:latin typeface="Arial"/>
                <a:cs typeface="B Titr"/>
              </a:rPr>
              <a:t>چگونه می شود محیط را تغییر داد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324000" y="191628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r" rtl="1">
              <a:spcBef>
                <a:spcPts val="7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  <a:cs typeface="B Zar"/>
              </a:rPr>
              <a:t>اخلاقیات را به عنوان سرلوحه کار در پیشگیری از فساد قرار دهی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r" rtl="1">
              <a:spcBef>
                <a:spcPts val="7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  <a:cs typeface="B Zar"/>
              </a:rPr>
              <a:t>هر سازمان می بایست بهترین ترکیب نگرش های ارائه شده برای تغییر محیط را با توجه به شرایطش انتخاب کند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r" rtl="1">
              <a:spcBef>
                <a:spcPts val="7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  <a:cs typeface="B Zar"/>
              </a:rPr>
              <a:t>در اکثر موارد انسان درست و غلط را تشخیص می دهد. همه انسان ها نیاز دارند تشویق شوند به کارهای انسانی مبتنی بر فطرت انسانی و الهی خود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r" rtl="1">
              <a:spcBef>
                <a:spcPts val="7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000000"/>
                </a:solidFill>
                <a:latin typeface="Arial"/>
                <a:cs typeface="B Zar"/>
              </a:rPr>
              <a:t>مقایسه عرضه و تقاضا در برنامه ریزی نیروی انسان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514440" indent="-514440" algn="r" rtl="1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  <a:cs typeface="B Badr"/>
              </a:rPr>
              <a:t>تقاضا با عرضه مساوی باشد (حالت تعادل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r" rtl="1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  <a:cs typeface="B Badr"/>
              </a:rPr>
              <a:t>تقاضا بیشتر از عرضه است(کمبود نیرو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r" rtl="1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  <a:cs typeface="B Badr"/>
              </a:rPr>
              <a:t>تقاضا کمتر از عرضه است(مازاد نیرو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3" descr=""/>
          <p:cNvPicPr/>
          <p:nvPr/>
        </p:nvPicPr>
        <p:blipFill>
          <a:blip r:embed="rId1"/>
          <a:stretch/>
        </p:blipFill>
        <p:spPr>
          <a:xfrm>
            <a:off x="0" y="6656400"/>
            <a:ext cx="841320" cy="20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TextBox 3"/>
          <p:cNvSpPr/>
          <p:nvPr/>
        </p:nvSpPr>
        <p:spPr>
          <a:xfrm>
            <a:off x="2076480" y="692280"/>
            <a:ext cx="47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How to protect beautiful la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8" name="Group 12"/>
          <p:cNvGrpSpPr/>
          <p:nvPr/>
        </p:nvGrpSpPr>
        <p:grpSpPr>
          <a:xfrm>
            <a:off x="611280" y="1898640"/>
            <a:ext cx="3744720" cy="2254680"/>
            <a:chOff x="611280" y="1898640"/>
            <a:chExt cx="3744720" cy="2254680"/>
          </a:xfrm>
        </p:grpSpPr>
        <p:sp>
          <p:nvSpPr>
            <p:cNvPr id="449" name="TextBox 7"/>
            <p:cNvSpPr/>
            <p:nvPr/>
          </p:nvSpPr>
          <p:spPr>
            <a:xfrm>
              <a:off x="895320" y="3785040"/>
              <a:ext cx="598320" cy="36828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ig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TextBox 4"/>
            <p:cNvSpPr/>
            <p:nvPr/>
          </p:nvSpPr>
          <p:spPr>
            <a:xfrm>
              <a:off x="1498680" y="1898640"/>
              <a:ext cx="223236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uild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Oval 5"/>
            <p:cNvSpPr/>
            <p:nvPr/>
          </p:nvSpPr>
          <p:spPr>
            <a:xfrm>
              <a:off x="611280" y="2873160"/>
              <a:ext cx="3744720" cy="1080000"/>
            </a:xfrm>
            <a:prstGeom prst="ellips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a3"/>
                  </a:solidFill>
                  <a:latin typeface="Arial"/>
                </a:rPr>
                <a:t>Beautiful               law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TextBox 6"/>
            <p:cNvSpPr/>
            <p:nvPr/>
          </p:nvSpPr>
          <p:spPr>
            <a:xfrm>
              <a:off x="895320" y="2728440"/>
              <a:ext cx="598320" cy="36828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ig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TextBox 8"/>
            <p:cNvSpPr/>
            <p:nvPr/>
          </p:nvSpPr>
          <p:spPr>
            <a:xfrm>
              <a:off x="2994840" y="2332800"/>
              <a:ext cx="109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ntran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Isosceles Triangle 9"/>
            <p:cNvSpPr/>
            <p:nvPr/>
          </p:nvSpPr>
          <p:spPr>
            <a:xfrm>
              <a:off x="2483640" y="2268000"/>
              <a:ext cx="140760" cy="18360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Straight Connector 11"/>
            <p:cNvSpPr/>
            <p:nvPr/>
          </p:nvSpPr>
          <p:spPr>
            <a:xfrm>
              <a:off x="2483640" y="2873160"/>
              <a:ext cx="0" cy="108000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6" name="TextBox 13"/>
          <p:cNvSpPr/>
          <p:nvPr/>
        </p:nvSpPr>
        <p:spPr>
          <a:xfrm>
            <a:off x="4635360" y="1916280"/>
            <a:ext cx="4311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ople walk on the lawn in spite of signs ”keep of the grass”. How can you protect beautiful law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ople walked on the lawn to cuts short to the entrance. A short-cut route protected a large part of beautiful lawn. You should analyze what you really have to protect by the rule and why people do not observ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Arial"/>
              </a:rPr>
              <a:t>Corruption Perception Index(2015)</a:t>
            </a:r>
            <a:br>
              <a:rPr sz="3200"/>
            </a:br>
            <a:r>
              <a:rPr b="1" lang="en-US" sz="3200" spc="-1" strike="noStrike">
                <a:solidFill>
                  <a:srgbClr val="7030a0"/>
                </a:solidFill>
                <a:latin typeface="Arial"/>
              </a:rPr>
              <a:t>(Best 10 of all 168 countri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8" name=""/>
          <p:cNvGraphicFramePr/>
          <p:nvPr/>
        </p:nvGraphicFramePr>
        <p:xfrm>
          <a:off x="450720" y="1989000"/>
          <a:ext cx="3400560" cy="4449960"/>
        </p:xfrm>
        <a:graphic>
          <a:graphicData uri="http://schemas.openxmlformats.org/drawingml/2006/table">
            <a:tbl>
              <a:tblPr/>
              <a:tblGrid>
                <a:gridCol w="516240"/>
                <a:gridCol w="1908000"/>
                <a:gridCol w="976320"/>
              </a:tblGrid>
              <a:tr h="371520">
                <a:tc gridSpan="3">
                  <a:txBody>
                    <a:bodyPr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ank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3333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0080">
                <a:tc>
                  <a:txBody>
                    <a:bodyPr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333399"/>
                      </a:solidFill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nmar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333399"/>
                      </a:solidFill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la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9720">
                <a:tc>
                  <a:txBody>
                    <a:bodyPr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333399"/>
                      </a:solidFill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wed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333399"/>
                      </a:solidFill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w Zeala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333399"/>
                      </a:solidFill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rw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369720">
                <a:tc>
                  <a:txBody>
                    <a:bodyPr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333399"/>
                      </a:solidFill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therlan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333399"/>
                      </a:solidFill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witzerla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370080">
                <a:tc>
                  <a:txBody>
                    <a:bodyPr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333399"/>
                      </a:solidFill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ngapo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160">
                <a:tc>
                  <a:txBody>
                    <a:bodyPr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333399"/>
                      </a:solidFill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na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370080">
                <a:tc>
                  <a:txBody>
                    <a:bodyPr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333399"/>
                      </a:solidFill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rman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333399"/>
                      </a:solidFill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uxembour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59" name=""/>
          <p:cNvGraphicFramePr/>
          <p:nvPr/>
        </p:nvGraphicFramePr>
        <p:xfrm>
          <a:off x="4427640" y="2205000"/>
          <a:ext cx="3402000" cy="1482840"/>
        </p:xfrm>
        <a:graphic>
          <a:graphicData uri="http://schemas.openxmlformats.org/drawingml/2006/table">
            <a:tbl>
              <a:tblPr/>
              <a:tblGrid>
                <a:gridCol w="515880"/>
                <a:gridCol w="1908000"/>
                <a:gridCol w="978120"/>
              </a:tblGrid>
              <a:tr h="371520">
                <a:tc gridSpan="3">
                  <a:txBody>
                    <a:bodyPr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ank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3333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9720">
                <a:tc>
                  <a:txBody>
                    <a:bodyPr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333399"/>
                      </a:solidFill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ted Kingd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370080">
                <a:tc>
                  <a:txBody>
                    <a:bodyPr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333399"/>
                      </a:solidFill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p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333399"/>
                      </a:solidFill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r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</a:tr>
            </a:tbl>
          </a:graphicData>
        </a:graphic>
      </p:graphicFrame>
      <p:sp>
        <p:nvSpPr>
          <p:cNvPr id="460" name="TextBox 2"/>
          <p:cNvSpPr/>
          <p:nvPr/>
        </p:nvSpPr>
        <p:spPr>
          <a:xfrm>
            <a:off x="4500720" y="4365720"/>
            <a:ext cx="446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People will have image on your country based on this perception index even if it is far from real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"/>
          <p:cNvSpPr txBox="1"/>
          <p:nvPr/>
        </p:nvSpPr>
        <p:spPr>
          <a:xfrm>
            <a:off x="46836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4000"/>
          </a:bodyPr>
          <a:p>
            <a:pPr marL="322200" indent="-322200" algn="just" rtl="1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000" spc="-1" strike="noStrike">
                <a:solidFill>
                  <a:srgbClr val="000000"/>
                </a:solidFill>
                <a:latin typeface="Arial"/>
                <a:cs typeface="B Zar"/>
              </a:rPr>
              <a:t>از کار مردن در ژاپن افتخار است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just" rtl="1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000" spc="-1" strike="noStrike">
                <a:solidFill>
                  <a:srgbClr val="000000"/>
                </a:solidFill>
                <a:latin typeface="Arial"/>
                <a:cs typeface="B Zar"/>
              </a:rPr>
              <a:t>یک کارمند ژاپنی برای رضایت مشتری حاضر است خانواده خود را فدا کند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just" rtl="1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000" spc="-1" strike="noStrike">
                <a:solidFill>
                  <a:srgbClr val="000000"/>
                </a:solidFill>
                <a:latin typeface="Arial"/>
                <a:cs typeface="B Zar"/>
              </a:rPr>
              <a:t>شکست در کار برای یک مدیر برابر مرگ است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just" rtl="1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000" spc="-1" strike="noStrike">
                <a:solidFill>
                  <a:srgbClr val="000000"/>
                </a:solidFill>
                <a:latin typeface="Arial"/>
                <a:cs typeface="B Zar"/>
              </a:rPr>
              <a:t>دانش آموزان همراه با معلمان خود روزانه حدود </a:t>
            </a:r>
            <a:r>
              <a:rPr b="0" lang="fa-IR" sz="3000" spc="-1" strike="noStrike">
                <a:solidFill>
                  <a:srgbClr val="000000"/>
                </a:solidFill>
                <a:latin typeface="Arial"/>
                <a:ea typeface="B Zar"/>
              </a:rPr>
              <a:t>15</a:t>
            </a:r>
            <a:r>
              <a:rPr b="0" lang="fa-IR" sz="3000" spc="-1" strike="noStrike">
                <a:solidFill>
                  <a:srgbClr val="000000"/>
                </a:solidFill>
                <a:latin typeface="Arial"/>
                <a:ea typeface="B Zar"/>
              </a:rPr>
              <a:t> دقیقه مدرسه را تمیز می کنند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just" rtl="1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000" spc="-1" strike="noStrike">
                <a:solidFill>
                  <a:srgbClr val="000000"/>
                </a:solidFill>
                <a:latin typeface="Arial"/>
                <a:cs typeface="B Zar"/>
              </a:rPr>
              <a:t>استفاده از تلفن همراه در قطار، رستوران و تمام اماکن بسته ممنوع است و در موبایل هایشان به جای کلمۀ بی صدا از کلمۀ اخلاق استفاده شده است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2774520" y="507960"/>
            <a:ext cx="2994120" cy="9907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7030a0"/>
                </a:solidFill>
                <a:latin typeface="Arial"/>
                <a:cs typeface="B Zar"/>
              </a:rPr>
              <a:t>در ژاپ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 txBox="1"/>
          <p:nvPr/>
        </p:nvSpPr>
        <p:spPr>
          <a:xfrm>
            <a:off x="46836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just" rtl="1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000" spc="-1" strike="noStrike">
                <a:solidFill>
                  <a:srgbClr val="000000"/>
                </a:solidFill>
                <a:latin typeface="Arial"/>
                <a:cs typeface="B Zar"/>
              </a:rPr>
              <a:t>یکی از مواد درسی اول تا ششم ابتدایی «گامی به سوی اخلاق» است که در آن اخلاق و شیوه تعامل با دیگران را آموزش می دهد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 rtl="1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000" spc="-1" strike="noStrike">
                <a:solidFill>
                  <a:srgbClr val="000000"/>
                </a:solidFill>
                <a:latin typeface="Arial"/>
                <a:cs typeface="B Zar"/>
              </a:rPr>
              <a:t>در خانه و رستوران هر کس به اندازه نیاز خود غذا بر می دارد. اسراف وجود ندارد.(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B Zar"/>
              </a:rPr>
              <a:t>mottainai</a:t>
            </a:r>
            <a:r>
              <a:rPr b="0" lang="fa-IR" sz="3000" spc="-1" strike="noStrike">
                <a:solidFill>
                  <a:srgbClr val="000000"/>
                </a:solidFill>
                <a:latin typeface="Arial"/>
                <a:ea typeface="B Zar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 rtl="1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000" spc="-1" strike="noStrike">
                <a:solidFill>
                  <a:srgbClr val="000000"/>
                </a:solidFill>
                <a:latin typeface="Arial"/>
                <a:cs typeface="B Zar"/>
              </a:rPr>
              <a:t>مدیر مدرسه نیم ساعت قبل از تقسیم شدن غذا از غذای دانش آموزان می خورد تا از سلامتی آن مطمئن شود و اگر از او بپرسید که چرا؟ می گوید این دانش آموزان، آینده ژاپن هستند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2774520" y="507960"/>
            <a:ext cx="2994120" cy="9907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7030a0"/>
                </a:solidFill>
                <a:latin typeface="Arial"/>
                <a:cs typeface="B Zar"/>
              </a:rPr>
              <a:t>در ژاپ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2268360" y="333000"/>
            <a:ext cx="433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5400" spc="-1" strike="noStrike">
                <a:solidFill>
                  <a:srgbClr val="000000"/>
                </a:solidFill>
                <a:latin typeface="Arial"/>
                <a:cs typeface="B Zar"/>
              </a:rPr>
              <a:t>مسئله شش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Content Placeholder 2"/>
          <p:cNvSpPr/>
          <p:nvPr/>
        </p:nvSpPr>
        <p:spPr>
          <a:xfrm>
            <a:off x="1709640" y="3141720"/>
            <a:ext cx="5724720" cy="10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76000"/>
          </a:bodyPr>
          <a:p>
            <a:pPr algn="just" rtl="1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c00000"/>
                </a:solidFill>
                <a:latin typeface="Arial"/>
                <a:cs typeface="B Titr"/>
              </a:rPr>
              <a:t>فقدان یا ضعف رضایت شغل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7" name="Picture 4" descr=""/>
          <p:cNvPicPr/>
          <p:nvPr/>
        </p:nvPicPr>
        <p:blipFill>
          <a:blip r:embed="rId1"/>
          <a:stretch/>
        </p:blipFill>
        <p:spPr>
          <a:xfrm>
            <a:off x="-1440" y="6656400"/>
            <a:ext cx="841320" cy="20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8" name="Group 26"/>
          <p:cNvGrpSpPr/>
          <p:nvPr/>
        </p:nvGrpSpPr>
        <p:grpSpPr>
          <a:xfrm>
            <a:off x="1619280" y="1700280"/>
            <a:ext cx="5778360" cy="2681280"/>
            <a:chOff x="1619280" y="1700280"/>
            <a:chExt cx="5778360" cy="2681280"/>
          </a:xfrm>
        </p:grpSpPr>
        <p:graphicFrame>
          <p:nvGraphicFramePr>
            <p:cNvPr id="469" name="Object 3"/>
            <p:cNvGraphicFramePr/>
            <p:nvPr/>
          </p:nvGraphicFramePr>
          <p:xfrm>
            <a:off x="1619280" y="1700280"/>
            <a:ext cx="5778360" cy="268128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470" name="Object 3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619280" y="1700280"/>
                      <a:ext cx="5778360" cy="2681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71" name="Line 6"/>
            <p:cNvSpPr/>
            <p:nvPr/>
          </p:nvSpPr>
          <p:spPr>
            <a:xfrm>
              <a:off x="6006960" y="3634920"/>
              <a:ext cx="0" cy="2491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Line 7"/>
            <p:cNvSpPr/>
            <p:nvPr/>
          </p:nvSpPr>
          <p:spPr>
            <a:xfrm>
              <a:off x="3277440" y="3634920"/>
              <a:ext cx="0" cy="2491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Line 8"/>
            <p:cNvSpPr/>
            <p:nvPr/>
          </p:nvSpPr>
          <p:spPr>
            <a:xfrm>
              <a:off x="4668120" y="2197440"/>
              <a:ext cx="0" cy="16840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Text Box 9"/>
            <p:cNvSpPr/>
            <p:nvPr/>
          </p:nvSpPr>
          <p:spPr>
            <a:xfrm>
              <a:off x="2963520" y="3603240"/>
              <a:ext cx="30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Tahoma"/>
                  <a:ea typeface="Times New Roman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Text Box 10"/>
            <p:cNvSpPr/>
            <p:nvPr/>
          </p:nvSpPr>
          <p:spPr>
            <a:xfrm>
              <a:off x="3863160" y="313848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Tahoma"/>
                  <a:ea typeface="Times New Roman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Text Box 11"/>
            <p:cNvSpPr/>
            <p:nvPr/>
          </p:nvSpPr>
          <p:spPr>
            <a:xfrm>
              <a:off x="5095800" y="3160440"/>
              <a:ext cx="290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Tahoma"/>
                  <a:ea typeface="Times New Roman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Text Box 12"/>
            <p:cNvSpPr/>
            <p:nvPr/>
          </p:nvSpPr>
          <p:spPr>
            <a:xfrm>
              <a:off x="6005160" y="360324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Tahoma"/>
                  <a:ea typeface="Times New Roman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478" name=""/>
          <p:cNvGraphicFramePr/>
          <p:nvPr/>
        </p:nvGraphicFramePr>
        <p:xfrm>
          <a:off x="1476360" y="4292640"/>
          <a:ext cx="6120000" cy="2268360"/>
        </p:xfrm>
        <a:graphic>
          <a:graphicData uri="http://schemas.openxmlformats.org/drawingml/2006/table">
            <a:tbl>
              <a:tblPr/>
              <a:tblGrid>
                <a:gridCol w="5203800"/>
                <a:gridCol w="916200"/>
              </a:tblGrid>
              <a:tr h="434520">
                <a:tc>
                  <a:txBody>
                    <a:bodyPr lIns="68400" rIns="68400" tIns="34200" bIns="342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400" spc="-1" strike="noStrike">
                          <a:solidFill>
                            <a:srgbClr val="000000"/>
                          </a:solidFill>
                          <a:latin typeface="Arial"/>
                          <a:cs typeface="B Zar"/>
                        </a:rPr>
                        <a:t>افراد خلاق و نوآور و پیشر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0280">
                <a:tc>
                  <a:txBody>
                    <a:bodyPr lIns="68400" rIns="68400" tIns="34200" bIns="342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400" spc="-1" strike="noStrike">
                          <a:solidFill>
                            <a:srgbClr val="000000"/>
                          </a:solidFill>
                          <a:latin typeface="Arial"/>
                          <a:cs typeface="B Zar"/>
                        </a:rPr>
                        <a:t>افراد تطبیقی سریع و تغییر پذیر و تمایل به پیشرو بود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0280">
                <a:tc>
                  <a:txBody>
                    <a:bodyPr lIns="68400" rIns="68400" tIns="34200" bIns="342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400" spc="-1" strike="noStrike">
                          <a:solidFill>
                            <a:srgbClr val="000000"/>
                          </a:solidFill>
                          <a:latin typeface="Arial"/>
                          <a:cs typeface="B Zar"/>
                        </a:rPr>
                        <a:t>افراد پیرو و در انتظار تثبیت موفقیتهای  دیگرا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4520">
                <a:tc>
                  <a:txBody>
                    <a:bodyPr lIns="68400" rIns="68400" tIns="34200" bIns="342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400" spc="-1" strike="noStrike">
                          <a:solidFill>
                            <a:srgbClr val="000000"/>
                          </a:solidFill>
                          <a:latin typeface="Arial"/>
                          <a:cs typeface="B Zar"/>
                        </a:rPr>
                        <a:t>افراد مخالف و راکد</a:t>
                      </a:r>
                      <a:r>
                        <a:rPr b="0" lang="fa-IR" sz="2400" spc="-1" strike="noStrike">
                          <a:solidFill>
                            <a:srgbClr val="000000"/>
                          </a:solidFill>
                          <a:latin typeface="Arial"/>
                          <a:ea typeface="B Zar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971640" y="475920"/>
            <a:ext cx="79452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7030a0"/>
                </a:solidFill>
                <a:latin typeface="Arial"/>
                <a:cs typeface="B Zar"/>
              </a:rPr>
              <a:t>انواع مدیران در برخورد با مسایل و مشکلات</a:t>
            </a:r>
            <a:r>
              <a:rPr b="1" lang="fa-IR" sz="3600" spc="-1" strike="noStrike">
                <a:solidFill>
                  <a:srgbClr val="7030a0"/>
                </a:solidFill>
                <a:latin typeface="Arial"/>
                <a:ea typeface="B Zar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Rectangle 3"/>
          <p:cNvSpPr/>
          <p:nvPr/>
        </p:nvSpPr>
        <p:spPr>
          <a:xfrm>
            <a:off x="177840" y="1844640"/>
            <a:ext cx="8737560" cy="458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marL="257040" indent="-257040" algn="r" rtl="1">
              <a:lnSpc>
                <a:spcPct val="130000"/>
              </a:lnSpc>
              <a:spcBef>
                <a:spcPts val="75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1" lang="fa-IR" sz="2300" spc="-1" strike="noStrike">
                <a:solidFill>
                  <a:srgbClr val="000000"/>
                </a:solidFill>
                <a:latin typeface="MS Gothic"/>
                <a:cs typeface="B Tabassom"/>
              </a:rPr>
              <a:t>مدیران اجتناب کننده از مسایل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 algn="r" rtl="1">
              <a:lnSpc>
                <a:spcPct val="130000"/>
              </a:lnSpc>
              <a:spcBef>
                <a:spcPts val="751"/>
              </a:spcBef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MS Gothic"/>
                <a:ea typeface="B Tabassom"/>
              </a:rPr>
              <a:t>Problem   Avoider  Manager</a:t>
            </a:r>
            <a:r>
              <a:rPr b="1" lang="fa-IR" sz="2300" spc="-1" strike="noStrike">
                <a:solidFill>
                  <a:srgbClr val="000000"/>
                </a:solidFill>
                <a:latin typeface="MS Gothic"/>
                <a:ea typeface="B Tabassom"/>
              </a:rPr>
              <a:t> 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 algn="r" rtl="1">
              <a:lnSpc>
                <a:spcPct val="130000"/>
              </a:lnSpc>
              <a:spcBef>
                <a:spcPts val="75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1" lang="fa-IR" sz="2300" spc="-1" strike="noStrike">
                <a:solidFill>
                  <a:srgbClr val="000000"/>
                </a:solidFill>
                <a:latin typeface="MS Gothic"/>
                <a:cs typeface="B Tabassom"/>
              </a:rPr>
              <a:t>مدیران نظاره گر مسایل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 algn="r" rtl="1">
              <a:lnSpc>
                <a:spcPct val="130000"/>
              </a:lnSpc>
              <a:spcBef>
                <a:spcPts val="751"/>
              </a:spcBef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MS Gothic"/>
                <a:ea typeface="B Tabassom"/>
              </a:rPr>
              <a:t>Problem  Watcher Manage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 algn="r" rtl="1">
              <a:lnSpc>
                <a:spcPct val="130000"/>
              </a:lnSpc>
              <a:spcBef>
                <a:spcPts val="75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1" lang="fa-IR" sz="2300" spc="-1" strike="noStrike">
                <a:solidFill>
                  <a:srgbClr val="000000"/>
                </a:solidFill>
                <a:latin typeface="MS Gothic"/>
                <a:cs typeface="B Tabassom"/>
              </a:rPr>
              <a:t>مدیران حل کننده مسایل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 algn="r" rtl="1">
              <a:lnSpc>
                <a:spcPct val="130000"/>
              </a:lnSpc>
              <a:spcBef>
                <a:spcPts val="751"/>
              </a:spcBef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MS Gothic"/>
                <a:ea typeface="B Tabassom"/>
              </a:rPr>
              <a:t>Problem    Solver   Manage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 algn="r" rtl="1">
              <a:lnSpc>
                <a:spcPct val="130000"/>
              </a:lnSpc>
              <a:spcBef>
                <a:spcPts val="75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1" lang="fa-IR" sz="2300" spc="-1" strike="noStrike">
                <a:solidFill>
                  <a:srgbClr val="000000"/>
                </a:solidFill>
                <a:latin typeface="MS Gothic"/>
                <a:cs typeface="B Tabassom"/>
              </a:rPr>
              <a:t>مدیران مسأله یاب (مدیران تحول گرا، نوآور و طراح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 algn="r" rtl="1">
              <a:lnSpc>
                <a:spcPct val="130000"/>
              </a:lnSpc>
              <a:spcBef>
                <a:spcPts val="751"/>
              </a:spcBef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MS Gothic"/>
                <a:ea typeface="B Tabassom"/>
              </a:rPr>
              <a:t>Problem    Finder  Manage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2403360" y="549360"/>
            <a:ext cx="5153040" cy="87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 u="sng">
                <a:solidFill>
                  <a:srgbClr val="7030a0"/>
                </a:solidFill>
                <a:uFillTx/>
                <a:latin typeface="Arial"/>
                <a:cs typeface="B Titr"/>
              </a:rPr>
              <a:t>ویژگیهای سازمان موفق</a:t>
            </a:r>
            <a:r>
              <a:rPr b="0" lang="fa-IR" sz="4400" spc="-1" strike="noStrike">
                <a:solidFill>
                  <a:srgbClr val="7030a0"/>
                </a:solidFill>
                <a:latin typeface="Arial"/>
                <a:ea typeface="B Titr"/>
              </a:rPr>
              <a:t>   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Rectangle 3"/>
          <p:cNvSpPr/>
          <p:nvPr/>
        </p:nvSpPr>
        <p:spPr>
          <a:xfrm>
            <a:off x="324000" y="2049480"/>
            <a:ext cx="8062920" cy="44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marL="257040" indent="-257040" algn="r" rtl="1">
              <a:lnSpc>
                <a:spcPct val="140000"/>
              </a:lnSpc>
              <a:spcBef>
                <a:spcPts val="751"/>
              </a:spcBef>
              <a:buSzPct val="102851"/>
              <a:buBlip>
                <a:blip r:embed="rId1"/>
              </a:buBlip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fa-IR" sz="2500" spc="-1" strike="noStrike">
                <a:solidFill>
                  <a:srgbClr val="000000"/>
                </a:solidFill>
                <a:latin typeface="Arial"/>
                <a:cs typeface="B Davat"/>
              </a:rPr>
              <a:t>درک ارزش محصولات و خدمات خود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 algn="r" rtl="1">
              <a:lnSpc>
                <a:spcPct val="140000"/>
              </a:lnSpc>
              <a:spcBef>
                <a:spcPts val="751"/>
              </a:spcBef>
              <a:buSzPct val="102851"/>
              <a:buBlip>
                <a:blip r:embed="rId2"/>
              </a:buBlip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fa-IR" sz="2500" spc="-1" strike="noStrike">
                <a:solidFill>
                  <a:srgbClr val="000000"/>
                </a:solidFill>
                <a:latin typeface="Arial"/>
                <a:cs typeface="B Davat"/>
              </a:rPr>
              <a:t>دارا بودن خط مشی برای تولید کالاها و خدمات جدید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 algn="r" rtl="1">
              <a:lnSpc>
                <a:spcPct val="140000"/>
              </a:lnSpc>
              <a:spcBef>
                <a:spcPts val="751"/>
              </a:spcBef>
              <a:buSzPct val="102851"/>
              <a:buBlip>
                <a:blip r:embed="rId3"/>
              </a:buBlip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fa-IR" sz="2500" spc="-1" strike="noStrike">
                <a:solidFill>
                  <a:srgbClr val="000000"/>
                </a:solidFill>
                <a:latin typeface="Arial"/>
                <a:cs typeface="B Davat"/>
              </a:rPr>
              <a:t>شناخت مشتری و ارباب رجوع خود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 algn="r" rtl="1">
              <a:lnSpc>
                <a:spcPct val="140000"/>
              </a:lnSpc>
              <a:spcBef>
                <a:spcPts val="751"/>
              </a:spcBef>
              <a:buSzPct val="102851"/>
              <a:buBlip>
                <a:blip r:embed="rId4"/>
              </a:buBlip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fa-IR" sz="2500" spc="-1" strike="noStrike">
                <a:solidFill>
                  <a:srgbClr val="000000"/>
                </a:solidFill>
                <a:latin typeface="Arial"/>
                <a:cs typeface="B Davat"/>
              </a:rPr>
              <a:t>استفاده از فعالیتهای گروهی برای توسعه کالا یا خدمات جدید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 algn="r" rtl="1">
              <a:lnSpc>
                <a:spcPct val="140000"/>
              </a:lnSpc>
              <a:spcBef>
                <a:spcPts val="751"/>
              </a:spcBef>
              <a:buSzPct val="102851"/>
              <a:buBlip>
                <a:blip r:embed="rId5"/>
              </a:buBlip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fa-IR" sz="2500" spc="-1" strike="noStrike">
                <a:solidFill>
                  <a:srgbClr val="000000"/>
                </a:solidFill>
                <a:latin typeface="Arial"/>
                <a:cs typeface="B Davat"/>
              </a:rPr>
              <a:t>تولید کالا یا عرضه خدمات با کیفیت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 algn="r" rtl="1">
              <a:lnSpc>
                <a:spcPct val="140000"/>
              </a:lnSpc>
              <a:spcBef>
                <a:spcPts val="751"/>
              </a:spcBef>
              <a:buSzPct val="102851"/>
              <a:buBlip>
                <a:blip r:embed="rId6"/>
              </a:buBlip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fa-IR" sz="2500" spc="-1" strike="noStrike">
                <a:solidFill>
                  <a:srgbClr val="000000"/>
                </a:solidFill>
                <a:latin typeface="Arial"/>
                <a:cs typeface="B Davat"/>
              </a:rPr>
              <a:t>مدیریت مبتنی بر عملکرد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 algn="r" rtl="1">
              <a:lnSpc>
                <a:spcPct val="140000"/>
              </a:lnSpc>
              <a:spcBef>
                <a:spcPts val="751"/>
              </a:spcBef>
              <a:buSzPct val="102851"/>
              <a:buBlip>
                <a:blip r:embed="rId7"/>
              </a:buBlip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fa-IR" sz="2500" spc="-1" strike="noStrike">
                <a:solidFill>
                  <a:srgbClr val="000000"/>
                </a:solidFill>
                <a:latin typeface="Arial"/>
                <a:ea typeface="B Davat"/>
              </a:rPr>
              <a:t> رضایت کارکنان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7030a0"/>
                </a:solidFill>
                <a:latin typeface="Arial"/>
                <a:cs typeface="B Zar"/>
              </a:rPr>
              <a:t>تعریف بهره ور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323640" y="2030400"/>
            <a:ext cx="8304120" cy="442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402120" indent="-402120" algn="just" rtl="1">
              <a:lnSpc>
                <a:spcPct val="14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600" spc="-1" strike="noStrike">
                <a:solidFill>
                  <a:srgbClr val="000000"/>
                </a:solidFill>
                <a:latin typeface="Arial"/>
                <a:cs typeface="B Zar"/>
              </a:rPr>
              <a:t>بهره وری از جهتی یک مفهوم است که عبارتست از استفاده ی بهینه از منابع انسانی ، مالی ، فیزیکی و اطلاعاتی در راستای </a:t>
            </a:r>
            <a:r>
              <a:rPr b="0" lang="fa-IR" sz="2600" spc="-1" strike="noStrike">
                <a:solidFill>
                  <a:srgbClr val="000000"/>
                </a:solidFill>
                <a:latin typeface="Arial"/>
                <a:ea typeface="B Zar"/>
              </a:rPr>
              <a:t>3</a:t>
            </a:r>
            <a:r>
              <a:rPr b="0" lang="fa-IR" sz="2600" spc="-1" strike="noStrike">
                <a:solidFill>
                  <a:srgbClr val="000000"/>
                </a:solidFill>
                <a:latin typeface="Arial"/>
                <a:ea typeface="B Zar"/>
              </a:rPr>
              <a:t> منظور 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02120" indent="-402120" algn="just" rtl="1">
              <a:lnSpc>
                <a:spcPct val="14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100" spc="-1" strike="noStrike">
                <a:solidFill>
                  <a:srgbClr val="000000"/>
                </a:solidFill>
                <a:latin typeface="Arial"/>
                <a:ea typeface="B Zar"/>
              </a:rPr>
              <a:t>1</a:t>
            </a:r>
            <a:r>
              <a:rPr b="0" lang="fa-IR" sz="2100" spc="-1" strike="noStrike">
                <a:solidFill>
                  <a:srgbClr val="000000"/>
                </a:solidFill>
                <a:latin typeface="Arial"/>
                <a:ea typeface="B Zar"/>
              </a:rPr>
              <a:t>- تولید و عرضه ی کالا ها و خدمات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02120" indent="-402120" algn="just" rtl="1">
              <a:lnSpc>
                <a:spcPct val="14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100" spc="-1" strike="noStrike">
                <a:solidFill>
                  <a:srgbClr val="000000"/>
                </a:solidFill>
                <a:latin typeface="Arial"/>
                <a:ea typeface="B Zar"/>
              </a:rPr>
              <a:t>2</a:t>
            </a:r>
            <a:r>
              <a:rPr b="0" lang="fa-IR" sz="2100" spc="-1" strike="noStrike">
                <a:solidFill>
                  <a:srgbClr val="000000"/>
                </a:solidFill>
                <a:latin typeface="Arial"/>
                <a:ea typeface="B Zar"/>
              </a:rPr>
              <a:t>- تامین رضایت کارکنان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02120" indent="-402120" algn="just" rtl="1">
              <a:lnSpc>
                <a:spcPct val="14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100" spc="-1" strike="noStrike">
                <a:solidFill>
                  <a:srgbClr val="000000"/>
                </a:solidFill>
                <a:latin typeface="Arial"/>
                <a:ea typeface="B Zar"/>
              </a:rPr>
              <a:t>3</a:t>
            </a:r>
            <a:r>
              <a:rPr b="0" lang="fa-IR" sz="2100" spc="-1" strike="noStrike">
                <a:solidFill>
                  <a:srgbClr val="000000"/>
                </a:solidFill>
                <a:latin typeface="Arial"/>
                <a:ea typeface="B Zar"/>
              </a:rPr>
              <a:t>- تامین رضایت مردم (مشتری، ارباب رجوع و شهروند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02120" indent="-402120" algn="just" rtl="1">
              <a:lnSpc>
                <a:spcPct val="14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600" spc="-1" strike="noStrike">
                <a:solidFill>
                  <a:srgbClr val="000000"/>
                </a:solidFill>
                <a:latin typeface="Arial"/>
                <a:cs typeface="B Zar"/>
              </a:rPr>
              <a:t>و از جهت دیگر یک معیار سنجش عملکرد است . به دو صورت 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02120" indent="-402120" algn="just" rtl="1">
              <a:lnSpc>
                <a:spcPct val="14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100" spc="-1" strike="noStrike">
                <a:solidFill>
                  <a:srgbClr val="000000"/>
                </a:solidFill>
                <a:latin typeface="Arial"/>
                <a:ea typeface="B Zar"/>
              </a:rPr>
              <a:t>1</a:t>
            </a:r>
            <a:r>
              <a:rPr b="0" lang="fa-IR" sz="2100" spc="-1" strike="noStrike">
                <a:solidFill>
                  <a:srgbClr val="000000"/>
                </a:solidFill>
                <a:latin typeface="Arial"/>
                <a:ea typeface="B Zar"/>
              </a:rPr>
              <a:t>- کارآیی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02120" indent="-402120" algn="just" rtl="1">
              <a:lnSpc>
                <a:spcPct val="14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100" spc="-1" strike="noStrike">
                <a:solidFill>
                  <a:srgbClr val="000000"/>
                </a:solidFill>
                <a:latin typeface="Arial"/>
                <a:ea typeface="B Zar"/>
              </a:rPr>
              <a:t>2</a:t>
            </a:r>
            <a:r>
              <a:rPr b="0" lang="fa-IR" sz="2100" spc="-1" strike="noStrike">
                <a:solidFill>
                  <a:srgbClr val="000000"/>
                </a:solidFill>
                <a:latin typeface="Arial"/>
                <a:ea typeface="B Zar"/>
              </a:rPr>
              <a:t>- اثر بخشی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7030a0"/>
                </a:solidFill>
                <a:latin typeface="Arial"/>
                <a:cs typeface="B Zar"/>
              </a:rPr>
              <a:t>بازده فردی عملکر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6" name="Group 3"/>
          <p:cNvGrpSpPr/>
          <p:nvPr/>
        </p:nvGrpSpPr>
        <p:grpSpPr>
          <a:xfrm>
            <a:off x="1683720" y="3527280"/>
            <a:ext cx="1185120" cy="1037160"/>
            <a:chOff x="1683720" y="3527280"/>
            <a:chExt cx="1185120" cy="1037160"/>
          </a:xfrm>
        </p:grpSpPr>
        <p:sp>
          <p:nvSpPr>
            <p:cNvPr id="487" name="AutoShape 4"/>
            <p:cNvSpPr/>
            <p:nvPr/>
          </p:nvSpPr>
          <p:spPr>
            <a:xfrm>
              <a:off x="1709280" y="3527280"/>
              <a:ext cx="1081080" cy="1025640"/>
            </a:xfrm>
            <a:prstGeom prst="roundRect">
              <a:avLst>
                <a:gd name="adj" fmla="val 16667"/>
              </a:avLst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Text Box 5"/>
            <p:cNvSpPr/>
            <p:nvPr/>
          </p:nvSpPr>
          <p:spPr>
            <a:xfrm>
              <a:off x="1683720" y="3556800"/>
              <a:ext cx="118512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ffff"/>
                  </a:solidFill>
                  <a:latin typeface="Times New Roman"/>
                  <a:ea typeface="B Zar"/>
                </a:rPr>
                <a:t>Effort 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a-IR" sz="3000" spc="-1" strike="noStrike">
                  <a:solidFill>
                    <a:srgbClr val="ffffff"/>
                  </a:solidFill>
                  <a:latin typeface="Times New Roman"/>
                  <a:cs typeface="B Zar"/>
                </a:rPr>
                <a:t>تلاش</a:t>
              </a:r>
              <a:r>
                <a:rPr b="0" lang="fa-IR" sz="3000" spc="-1" strike="noStrike">
                  <a:solidFill>
                    <a:srgbClr val="ffffff"/>
                  </a:solidFill>
                  <a:latin typeface="Times New Roman"/>
                  <a:ea typeface="B Zar"/>
                </a:rPr>
                <a:t> 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9" name="Group 6"/>
          <p:cNvGrpSpPr/>
          <p:nvPr/>
        </p:nvGrpSpPr>
        <p:grpSpPr>
          <a:xfrm>
            <a:off x="5953680" y="3516480"/>
            <a:ext cx="919800" cy="727920"/>
            <a:chOff x="5953680" y="3516480"/>
            <a:chExt cx="919800" cy="727920"/>
          </a:xfrm>
        </p:grpSpPr>
        <p:sp>
          <p:nvSpPr>
            <p:cNvPr id="490" name="AutoShape 7"/>
            <p:cNvSpPr/>
            <p:nvPr/>
          </p:nvSpPr>
          <p:spPr>
            <a:xfrm>
              <a:off x="6004080" y="3516480"/>
              <a:ext cx="824400" cy="72792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Text Box 8"/>
            <p:cNvSpPr/>
            <p:nvPr/>
          </p:nvSpPr>
          <p:spPr>
            <a:xfrm>
              <a:off x="5953680" y="3601800"/>
              <a:ext cx="919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B Zar"/>
                </a:rPr>
                <a:t>efficac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a-IR" sz="1800" spc="-1" strike="noStrike">
                  <a:solidFill>
                    <a:srgbClr val="000000"/>
                  </a:solidFill>
                  <a:latin typeface="Times New Roman"/>
                  <a:cs typeface="B Zar"/>
                </a:rPr>
                <a:t>بازده</a:t>
              </a:r>
              <a:r>
                <a:rPr b="0" lang="fa-IR" sz="1800" spc="-1" strike="noStrike">
                  <a:solidFill>
                    <a:srgbClr val="000000"/>
                  </a:solidFill>
                  <a:latin typeface="Times New Roman"/>
                  <a:ea typeface="B Zar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2" name="AutoShape 9"/>
          <p:cNvSpPr/>
          <p:nvPr/>
        </p:nvSpPr>
        <p:spPr>
          <a:xfrm>
            <a:off x="2789280" y="3851280"/>
            <a:ext cx="487440" cy="270000"/>
          </a:xfrm>
          <a:prstGeom prst="rightArrow">
            <a:avLst>
              <a:gd name="adj1" fmla="val 50000"/>
              <a:gd name="adj2" fmla="val 45033"/>
            </a:avLst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3" name="Group 10"/>
          <p:cNvGrpSpPr/>
          <p:nvPr/>
        </p:nvGrpSpPr>
        <p:grpSpPr>
          <a:xfrm>
            <a:off x="3236040" y="3527280"/>
            <a:ext cx="2221200" cy="1025640"/>
            <a:chOff x="3236040" y="3527280"/>
            <a:chExt cx="2221200" cy="1025640"/>
          </a:xfrm>
        </p:grpSpPr>
        <p:sp>
          <p:nvSpPr>
            <p:cNvPr id="494" name="AutoShape 11"/>
            <p:cNvSpPr/>
            <p:nvPr/>
          </p:nvSpPr>
          <p:spPr>
            <a:xfrm>
              <a:off x="3276360" y="3527280"/>
              <a:ext cx="2051280" cy="1025640"/>
            </a:xfrm>
            <a:prstGeom prst="roundRect">
              <a:avLst>
                <a:gd name="adj" fmla="val 16667"/>
              </a:avLst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Text Box 12"/>
            <p:cNvSpPr/>
            <p:nvPr/>
          </p:nvSpPr>
          <p:spPr>
            <a:xfrm>
              <a:off x="3236040" y="3527280"/>
              <a:ext cx="222120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ffff"/>
                  </a:solidFill>
                  <a:latin typeface="Times New Roman"/>
                  <a:ea typeface="B Zar"/>
                </a:rPr>
                <a:t>Performance 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a-IR" sz="3000" spc="-1" strike="noStrike">
                  <a:solidFill>
                    <a:srgbClr val="ffffff"/>
                  </a:solidFill>
                  <a:latin typeface="Times New Roman"/>
                  <a:cs typeface="B Zar"/>
                </a:rPr>
                <a:t>عملکرد</a:t>
              </a:r>
              <a:r>
                <a:rPr b="0" lang="fa-IR" sz="3000" spc="-1" strike="noStrike">
                  <a:solidFill>
                    <a:srgbClr val="ffffff"/>
                  </a:solidFill>
                  <a:latin typeface="Times New Roman"/>
                  <a:ea typeface="B Zar"/>
                </a:rPr>
                <a:t> 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6" name="AutoShape 13"/>
          <p:cNvSpPr/>
          <p:nvPr/>
        </p:nvSpPr>
        <p:spPr>
          <a:xfrm>
            <a:off x="5327640" y="3851280"/>
            <a:ext cx="487440" cy="270000"/>
          </a:xfrm>
          <a:prstGeom prst="rightArrow">
            <a:avLst>
              <a:gd name="adj1" fmla="val 50000"/>
              <a:gd name="adj2" fmla="val 45033"/>
            </a:avLst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7" name="Group 14"/>
          <p:cNvGrpSpPr/>
          <p:nvPr/>
        </p:nvGrpSpPr>
        <p:grpSpPr>
          <a:xfrm>
            <a:off x="5667120" y="2997360"/>
            <a:ext cx="957240" cy="951480"/>
            <a:chOff x="5667120" y="2997360"/>
            <a:chExt cx="957240" cy="951480"/>
          </a:xfrm>
        </p:grpSpPr>
        <p:sp>
          <p:nvSpPr>
            <p:cNvPr id="498" name="AutoShape 15"/>
            <p:cNvSpPr/>
            <p:nvPr/>
          </p:nvSpPr>
          <p:spPr>
            <a:xfrm rot="2272200">
              <a:off x="5760720" y="3508920"/>
              <a:ext cx="270000" cy="398880"/>
            </a:xfrm>
            <a:prstGeom prst="upArrow">
              <a:avLst>
                <a:gd name="adj1" fmla="val 50000"/>
                <a:gd name="adj2" fmla="val 36933"/>
              </a:avLst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AutoShape 16"/>
            <p:cNvSpPr/>
            <p:nvPr/>
          </p:nvSpPr>
          <p:spPr>
            <a:xfrm>
              <a:off x="5922720" y="2997360"/>
              <a:ext cx="701640" cy="485640"/>
            </a:xfrm>
            <a:prstGeom prst="roundRect">
              <a:avLst>
                <a:gd name="adj" fmla="val 16667"/>
              </a:avLst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a-IR" sz="1300" spc="-1" strike="noStrike">
                  <a:solidFill>
                    <a:srgbClr val="ffffff"/>
                  </a:solidFill>
                  <a:latin typeface="Times New Roman"/>
                  <a:cs typeface="B Zar"/>
                </a:rPr>
                <a:t>پاداش</a:t>
              </a:r>
              <a:r>
                <a:rPr b="0" lang="fa-IR" sz="1300" spc="-1" strike="noStrike">
                  <a:solidFill>
                    <a:srgbClr val="ffffff"/>
                  </a:solidFill>
                  <a:latin typeface="Times New Roman"/>
                  <a:ea typeface="B Zar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a-IR" sz="1300" spc="-1" strike="noStrike">
                  <a:solidFill>
                    <a:srgbClr val="ffffff"/>
                  </a:solidFill>
                  <a:latin typeface="Times New Roman"/>
                  <a:cs typeface="B Zar"/>
                </a:rPr>
                <a:t>درونی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0" name="Group 17"/>
          <p:cNvGrpSpPr/>
          <p:nvPr/>
        </p:nvGrpSpPr>
        <p:grpSpPr>
          <a:xfrm>
            <a:off x="5689440" y="3982680"/>
            <a:ext cx="988920" cy="905040"/>
            <a:chOff x="5689440" y="3982680"/>
            <a:chExt cx="988920" cy="905040"/>
          </a:xfrm>
        </p:grpSpPr>
        <p:sp>
          <p:nvSpPr>
            <p:cNvPr id="501" name="AutoShape 18"/>
            <p:cNvSpPr/>
            <p:nvPr/>
          </p:nvSpPr>
          <p:spPr>
            <a:xfrm rot="18434400">
              <a:off x="5774760" y="4023360"/>
              <a:ext cx="277200" cy="352080"/>
            </a:xfrm>
            <a:prstGeom prst="downArrow">
              <a:avLst>
                <a:gd name="adj1" fmla="val 50000"/>
                <a:gd name="adj2" fmla="val 31618"/>
              </a:avLst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AutoShape 19"/>
            <p:cNvSpPr/>
            <p:nvPr/>
          </p:nvSpPr>
          <p:spPr>
            <a:xfrm>
              <a:off x="5976360" y="4402440"/>
              <a:ext cx="702000" cy="485280"/>
            </a:xfrm>
            <a:prstGeom prst="roundRect">
              <a:avLst>
                <a:gd name="adj" fmla="val 16667"/>
              </a:avLst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a-IR" sz="1300" spc="-1" strike="noStrike">
                  <a:solidFill>
                    <a:srgbClr val="ffffff"/>
                  </a:solidFill>
                  <a:latin typeface="Times New Roman"/>
                  <a:cs typeface="B Zar"/>
                </a:rPr>
                <a:t>پاداش</a:t>
              </a:r>
              <a:r>
                <a:rPr b="0" lang="fa-IR" sz="1300" spc="-1" strike="noStrike">
                  <a:solidFill>
                    <a:srgbClr val="ffffff"/>
                  </a:solidFill>
                  <a:latin typeface="Times New Roman"/>
                  <a:ea typeface="B Zar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a-IR" sz="1300" spc="-1" strike="noStrike">
                  <a:solidFill>
                    <a:srgbClr val="ffffff"/>
                  </a:solidFill>
                  <a:latin typeface="Times New Roman"/>
                  <a:cs typeface="B Zar"/>
                </a:rPr>
                <a:t>برونی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3" name="Group 20"/>
          <p:cNvGrpSpPr/>
          <p:nvPr/>
        </p:nvGrpSpPr>
        <p:grpSpPr>
          <a:xfrm>
            <a:off x="5651640" y="2239920"/>
            <a:ext cx="2052360" cy="1458360"/>
            <a:chOff x="5651640" y="2239920"/>
            <a:chExt cx="2052360" cy="1458360"/>
          </a:xfrm>
        </p:grpSpPr>
        <p:sp>
          <p:nvSpPr>
            <p:cNvPr id="504" name="Line 21"/>
            <p:cNvSpPr/>
            <p:nvPr/>
          </p:nvSpPr>
          <p:spPr>
            <a:xfrm flipV="1">
              <a:off x="5651640" y="2571120"/>
              <a:ext cx="0" cy="1127160"/>
            </a:xfrm>
            <a:prstGeom prst="line">
              <a:avLst/>
            </a:prstGeom>
            <a:ln w="7632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Line 22"/>
            <p:cNvSpPr/>
            <p:nvPr/>
          </p:nvSpPr>
          <p:spPr>
            <a:xfrm>
              <a:off x="5652360" y="2571480"/>
              <a:ext cx="971280" cy="0"/>
            </a:xfrm>
            <a:prstGeom prst="line">
              <a:avLst/>
            </a:prstGeom>
            <a:ln w="7632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AutoShape 23"/>
            <p:cNvSpPr/>
            <p:nvPr/>
          </p:nvSpPr>
          <p:spPr>
            <a:xfrm>
              <a:off x="6731280" y="2239920"/>
              <a:ext cx="972720" cy="596160"/>
            </a:xfrm>
            <a:prstGeom prst="roundRect">
              <a:avLst>
                <a:gd name="adj" fmla="val 16667"/>
              </a:avLst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1200" spc="-1" strike="noStrike">
                  <a:solidFill>
                    <a:srgbClr val="ffffff"/>
                  </a:solidFill>
                  <a:latin typeface="Times New Roman"/>
                  <a:cs typeface="B Zar"/>
                </a:rPr>
                <a:t>ادراک</a:t>
              </a:r>
              <a:r>
                <a:rPr b="1" lang="fa-IR" sz="1200" spc="-1" strike="noStrike">
                  <a:solidFill>
                    <a:srgbClr val="ffffff"/>
                  </a:solidFill>
                  <a:latin typeface="Times New Roman"/>
                  <a:ea typeface="B Zar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1200" spc="-1" strike="noStrike">
                  <a:solidFill>
                    <a:srgbClr val="ffffff"/>
                  </a:solidFill>
                  <a:latin typeface="Times New Roman"/>
                  <a:cs typeface="B Zar"/>
                </a:rPr>
                <a:t>پاداش متناسب</a:t>
              </a:r>
              <a:r>
                <a:rPr b="1" lang="fa-IR" sz="1200" spc="-1" strike="noStrike">
                  <a:solidFill>
                    <a:srgbClr val="ffffff"/>
                  </a:solidFill>
                  <a:latin typeface="Times New Roman"/>
                  <a:ea typeface="B Zar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1200" spc="-1" strike="noStrike">
                  <a:solidFill>
                    <a:srgbClr val="ffffff"/>
                  </a:solidFill>
                  <a:latin typeface="Times New Roman"/>
                  <a:cs typeface="B Zar"/>
                </a:rPr>
                <a:t>و مناسب</a:t>
              </a:r>
              <a:r>
                <a:rPr b="1" lang="fa-IR" sz="1200" spc="-1" strike="noStrike">
                  <a:solidFill>
                    <a:srgbClr val="ffffff"/>
                  </a:solidFill>
                  <a:latin typeface="Times New Roman"/>
                  <a:ea typeface="B Zar"/>
                </a:rPr>
                <a:t>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7" name="Group 24"/>
          <p:cNvGrpSpPr/>
          <p:nvPr/>
        </p:nvGrpSpPr>
        <p:grpSpPr>
          <a:xfrm>
            <a:off x="6568920" y="2976480"/>
            <a:ext cx="1134720" cy="1517040"/>
            <a:chOff x="6568920" y="2976480"/>
            <a:chExt cx="1134720" cy="1517040"/>
          </a:xfrm>
        </p:grpSpPr>
        <p:sp>
          <p:nvSpPr>
            <p:cNvPr id="508" name="AutoShape 25"/>
            <p:cNvSpPr/>
            <p:nvPr/>
          </p:nvSpPr>
          <p:spPr>
            <a:xfrm rot="2272200">
              <a:off x="6675840" y="4025160"/>
              <a:ext cx="270720" cy="430200"/>
            </a:xfrm>
            <a:prstGeom prst="upArrow">
              <a:avLst>
                <a:gd name="adj1" fmla="val 50000"/>
                <a:gd name="adj2" fmla="val 39727"/>
              </a:avLst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AutoShape 26"/>
            <p:cNvSpPr/>
            <p:nvPr/>
          </p:nvSpPr>
          <p:spPr>
            <a:xfrm rot="18434400">
              <a:off x="6649200" y="3415320"/>
              <a:ext cx="304200" cy="352800"/>
            </a:xfrm>
            <a:prstGeom prst="downArrow">
              <a:avLst>
                <a:gd name="adj1" fmla="val 50000"/>
                <a:gd name="adj2" fmla="val 29364"/>
              </a:avLst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AutoShape 27"/>
            <p:cNvSpPr/>
            <p:nvPr/>
          </p:nvSpPr>
          <p:spPr>
            <a:xfrm>
              <a:off x="7000200" y="3676320"/>
              <a:ext cx="703440" cy="523800"/>
            </a:xfrm>
            <a:prstGeom prst="roundRect">
              <a:avLst>
                <a:gd name="adj" fmla="val 16667"/>
              </a:avLst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1800" spc="-1" strike="noStrike">
                  <a:solidFill>
                    <a:srgbClr val="ffffff"/>
                  </a:solidFill>
                  <a:latin typeface="Times New Roman"/>
                  <a:cs typeface="B Zar"/>
                </a:rPr>
                <a:t>رضایت</a:t>
              </a:r>
              <a:r>
                <a:rPr b="1" lang="fa-IR" sz="1800" spc="-1" strike="noStrike">
                  <a:solidFill>
                    <a:srgbClr val="ffffff"/>
                  </a:solidFill>
                  <a:latin typeface="Times New Roman"/>
                  <a:ea typeface="B Zar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Line 28"/>
            <p:cNvSpPr/>
            <p:nvPr/>
          </p:nvSpPr>
          <p:spPr>
            <a:xfrm>
              <a:off x="7325640" y="2976480"/>
              <a:ext cx="0" cy="640800"/>
            </a:xfrm>
            <a:prstGeom prst="line">
              <a:avLst/>
            </a:prstGeom>
            <a:ln w="7632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2400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Arial"/>
                <a:cs typeface="B Zar"/>
              </a:rPr>
              <a:t>استراتژی هایی که می توانند در جهت ایجاد تعادل بین عرضه و تقاضای نیروی انسانی مؤثر باشد شامل</a:t>
            </a:r>
            <a:r>
              <a:rPr b="1" lang="fa-IR" sz="3200" spc="-1" strike="noStrike">
                <a:solidFill>
                  <a:srgbClr val="000000"/>
                </a:solidFill>
                <a:latin typeface="Arial"/>
                <a:ea typeface="B Zar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3984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  <a:cs typeface="B Badr"/>
              </a:rPr>
              <a:t>استخدام نیروی جدی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  <a:cs typeface="B Badr"/>
              </a:rPr>
              <a:t>آموزش و آماده ساز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  <a:cs typeface="B Badr"/>
              </a:rPr>
              <a:t>بهبود سیستم ها و روش ه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  <a:cs typeface="B Badr"/>
              </a:rPr>
              <a:t>کاهش نیروی انسان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0" y="6611760"/>
            <a:ext cx="826920" cy="189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1618920" y="3213000"/>
            <a:ext cx="668340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5400" spc="-1" strike="noStrike">
                <a:solidFill>
                  <a:srgbClr val="000000"/>
                </a:solidFill>
                <a:latin typeface="Arial"/>
                <a:cs typeface="B Titr"/>
              </a:rPr>
              <a:t>سایر نظریه های مرتبط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00"/>
                </a:solidFill>
                <a:latin typeface="Arial"/>
                <a:cs typeface="B Zar"/>
              </a:rPr>
              <a:t>نظریه سلسله مراتب نیاز های مازلو</a:t>
            </a:r>
            <a:r>
              <a:rPr b="1" lang="fa-IR" sz="4400" spc="-1" strike="noStrike">
                <a:solidFill>
                  <a:srgbClr val="000000"/>
                </a:solidFill>
                <a:latin typeface="Arial"/>
                <a:ea typeface="B Zar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4" name="Diagram 2" descr=""/>
          <p:cNvPicPr/>
          <p:nvPr/>
        </p:nvPicPr>
        <p:blipFill>
          <a:blip r:embed="rId1"/>
          <a:stretch/>
        </p:blipFill>
        <p:spPr>
          <a:xfrm>
            <a:off x="1328760" y="1987560"/>
            <a:ext cx="6095880" cy="40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476360" y="259920"/>
            <a:ext cx="6068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000000"/>
                </a:solidFill>
                <a:latin typeface="Arial"/>
                <a:cs typeface="B Titr"/>
              </a:rPr>
              <a:t>نظریه دو عاملی هرزبر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 txBox="1"/>
          <p:nvPr/>
        </p:nvSpPr>
        <p:spPr>
          <a:xfrm>
            <a:off x="457200" y="2587320"/>
            <a:ext cx="8153280" cy="25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500" spc="-1" strike="noStrike">
                <a:solidFill>
                  <a:srgbClr val="000000"/>
                </a:solidFill>
                <a:latin typeface="Arial"/>
                <a:ea typeface="B Zar"/>
              </a:rPr>
              <a:t>1</a:t>
            </a:r>
            <a:r>
              <a:rPr b="1" lang="fa-IR" sz="1500" spc="-1" strike="noStrike">
                <a:solidFill>
                  <a:srgbClr val="000000"/>
                </a:solidFill>
                <a:latin typeface="Arial"/>
                <a:ea typeface="B Zar"/>
              </a:rPr>
              <a:t>- عوامل نگهداشت و بهداشت مانند : حقوق، مقام، شرايط كاري، سرپرستي، خط مشي ها، مديريت سازمان، روابط متقابل افراد (در صورت وجود موجب رضایت نمی شوند ولی در صورت عدم وجود موجب نارضایتی می شوند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2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500" spc="-1" strike="noStrike">
                <a:solidFill>
                  <a:srgbClr val="000000"/>
                </a:solidFill>
                <a:latin typeface="Arial"/>
                <a:ea typeface="B Zar"/>
              </a:rPr>
              <a:t> </a:t>
            </a:r>
            <a:r>
              <a:rPr b="1" lang="fa-IR" sz="1500" spc="-1" strike="noStrike">
                <a:solidFill>
                  <a:srgbClr val="000000"/>
                </a:solidFill>
                <a:latin typeface="Arial"/>
                <a:ea typeface="B Zar"/>
              </a:rPr>
              <a:t>2</a:t>
            </a:r>
            <a:r>
              <a:rPr b="1" lang="fa-IR" sz="1500" spc="-1" strike="noStrike">
                <a:solidFill>
                  <a:srgbClr val="000000"/>
                </a:solidFill>
                <a:latin typeface="Arial"/>
                <a:ea typeface="B Zar"/>
              </a:rPr>
              <a:t>- عوامل انگیزش مانند واگذاری اختیار ، مسئولیت پذیری ، احترام (در صورت وجود موجب رضایت می شوند و در صورت عدم وجود موجب نارضایتی می شوند 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-11984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000000"/>
                </a:solidFill>
                <a:latin typeface="Arial"/>
                <a:cs typeface="B Titr"/>
              </a:rPr>
              <a:t>نظریه ی برابری آدام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Picture 2" descr="C:\Users\iran manesh\Desktop\569f65edb97a58dd392f0a505838a338.jpg"/>
          <p:cNvPicPr/>
          <p:nvPr/>
        </p:nvPicPr>
        <p:blipFill>
          <a:blip r:embed="rId1"/>
          <a:stretch/>
        </p:blipFill>
        <p:spPr>
          <a:xfrm>
            <a:off x="2050920" y="2492280"/>
            <a:ext cx="5113440" cy="34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"/>
          <p:cNvSpPr txBox="1"/>
          <p:nvPr/>
        </p:nvSpPr>
        <p:spPr>
          <a:xfrm>
            <a:off x="2195640" y="3429000"/>
            <a:ext cx="5400720" cy="21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5400" spc="-1" strike="noStrike">
                <a:solidFill>
                  <a:srgbClr val="ff0066"/>
                </a:solidFill>
                <a:latin typeface="Arial"/>
                <a:cs typeface="B Homa"/>
              </a:rPr>
              <a:t>با تشکر از توجه شما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HAP</cp:lastModifiedBy>
  <cp:lastPrinted>2015-11-21T08:56:47Z</cp:lastPrinted>
  <dcterms:modified xsi:type="dcterms:W3CDTF">2016-07-04T07:53:03Z</dcterms:modified>
  <cp:revision>1051</cp:revision>
  <dc:subject/>
  <dc:title>Diapositiva 1</dc:title>
</cp:coreProperties>
</file>