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11633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429840" y="767880"/>
            <a:ext cx="62420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a-IR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35E38D-3993-486D-88B9-DCC7284AAAD8}" type="slidenum">
              <a:rPr b="0" lang="fa-IR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9238CE-5FBB-450D-8F77-B8389C47D535}" type="slidenum">
              <a:rPr b="0" lang="fa-IR" sz="13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430200" y="768240"/>
            <a:ext cx="6242040" cy="3837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004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2688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20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004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52688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52560" y="241200"/>
            <a:ext cx="99360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1004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52688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1004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52688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52560" y="241200"/>
            <a:ext cx="99360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0" y="165240"/>
            <a:ext cx="11161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 rot="16200000">
            <a:off x="10740960" y="4998960"/>
            <a:ext cx="5335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492120" y="64278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  <a:ea typeface="B Nazanin"/>
              </a:rPr>
              <a:t>www.mcsway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Line 18"/>
          <p:cNvSpPr/>
          <p:nvPr/>
        </p:nvSpPr>
        <p:spPr>
          <a:xfrm>
            <a:off x="444600" y="534996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Line 19"/>
          <p:cNvSpPr/>
          <p:nvPr/>
        </p:nvSpPr>
        <p:spPr>
          <a:xfrm>
            <a:off x="173160" y="6381720"/>
            <a:ext cx="26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>
            <a:off x="0" y="787320"/>
            <a:ext cx="11161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" name="Picture 10" descr="logo btc.jpg"/>
          <p:cNvPicPr/>
          <p:nvPr/>
        </p:nvPicPr>
        <p:blipFill>
          <a:blip r:embed="rId2"/>
          <a:stretch/>
        </p:blipFill>
        <p:spPr>
          <a:xfrm>
            <a:off x="0" y="0"/>
            <a:ext cx="771480" cy="111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456840" y="0"/>
            <a:ext cx="1704960" cy="6864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41320" y="4352760"/>
            <a:ext cx="1032048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" name="Picture 8" descr="BD19923_"/>
          <p:cNvPicPr/>
          <p:nvPr/>
        </p:nvPicPr>
        <p:blipFill>
          <a:blip r:embed="rId2"/>
          <a:stretch/>
        </p:blipFill>
        <p:spPr>
          <a:xfrm>
            <a:off x="0" y="0"/>
            <a:ext cx="3990960" cy="204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logo btc.jpg"/>
          <p:cNvPicPr/>
          <p:nvPr/>
        </p:nvPicPr>
        <p:blipFill>
          <a:blip r:embed="rId3"/>
          <a:stretch/>
        </p:blipFill>
        <p:spPr>
          <a:xfrm>
            <a:off x="9423360" y="0"/>
            <a:ext cx="173844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360" y="4319640"/>
            <a:ext cx="8983800" cy="119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Arial"/>
                <a:ea typeface="B Jadid"/>
              </a:rPr>
              <a:t>15</a:t>
            </a:r>
            <a:r>
              <a:rPr b="1" lang="fa-IR" sz="4000" spc="-1" strike="noStrike">
                <a:solidFill>
                  <a:srgbClr val="ffffff"/>
                </a:solidFill>
                <a:latin typeface="Arial"/>
                <a:ea typeface="B Jadid"/>
              </a:rPr>
              <a:t> تجربه در قراردادهای نمایندگی و توزی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357720" y="618804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B Jadid"/>
              </a:rPr>
              <a:t>www.mcsway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987720" y="5708520"/>
            <a:ext cx="14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Arial"/>
                <a:cs typeface="B Jadid"/>
              </a:rPr>
              <a:t>رحیم محتر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قیمت و تعیین آ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جدول قیمت محصولات اصلی  قطعات یدکی و نرخ تبدیل ارز در صورت لزو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فروش به قیمت بالات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تغییرات سالانه یا نظام مند و فرمول تعدیل قیمت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22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تغییر قیمت برای سفارشهای قطعی شد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فس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راهکارهای جایگزین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اصلاح شرایط در مدت معی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حذف حق انحصار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تحدید قلمر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تحدید محصولات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پرداخت جریم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24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فسخ بدون علت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تبعات فس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25</a:t>
            </a: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- تبعات فسخ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سفارشات بعد از فسخ یا نافذ شدن فسخ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منصوب کردن نماینده جدی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کالای در راه بدون پرداخ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پیش پرداختها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کالای موجود در انبا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مالکیت فکر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غرامت فسخ زودهنگام غیر موجه و انواع آن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غرامت با توجه به کل زمان باقیمانده یا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سقف غرامت با توجه به میانگین درآمد </a:t>
            </a: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 سالان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چگونگی تسوی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3366"/>
                </a:solidFill>
                <a:latin typeface="Arial"/>
              </a:rPr>
              <a:t>عودت اسناد و مدارک و نمونه ها یا تحویل به نماینده جدی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نکات کاملا مه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عدم وجود یا ضعف شدید قرارداد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قرارداد یک ساله بدون تعیین تکلیف جهت تمدید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فسخ بدون علت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عدم قت در تعریف انحصا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تعریف ناصحیح محصول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پذیرش قلمرو استان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عدم دقت به قیمت در بستر زما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عدم تعریف محصول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اختیار پردازش سفار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زمان درست انعقاد قرارداد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شروع کار و اثبات توانای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توقف کار در صورت عدم اثبات توانای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قرارداد ناقص و غیر و حرفه ا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کی به قرارداد مراجعه میکنیم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استفاده درست از قرارداد نمایندگی و توزی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مالکیت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جریان پول و پرداخت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استراتژی قیمت گذار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- دقت به ماده تعاریف و ضمای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رو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محصو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مالکیت معنو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اطلاعات محرمان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گارانت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وارانت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0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دوره قراردا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شناخت انواع مدت در قراردادهای بین المللی ( مدت نا محدود و تمدید قرارداد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برنامه ریزی سفارشات ماهانه یا فصلی یا سالان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دقت به تاریخ ها در قرارداد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سال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پارا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امضاء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نفو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شرو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محصول و قلمر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اسم کلی یا مدل و لیست محصولات و سبد محصول و سفارش متوازن یا غیر متواز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محصول موجود و آت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برند موجود یا آت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قلمرو جغرافیایی (استانی، ملی یا بین المللی) (سفارشات خارج قلمرو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وظایف نمایند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عدم رقابت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هدف فروش سالان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2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رعایت دستور العملهای شرکت مادر 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- منابع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نیروی انسانی(سازمان و نیروی فروش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تجهیزات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ساختما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اطلاعات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وظایف شرکت ماد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14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دقت به تعریف صحیح انحصاری بود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پردازش سفارش و عدم رد مکرر سفارشات بدون دلیل موج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نامه انتسا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6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شرایط پرداخ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نرخ کارمزد نماینده در حالتهای مختلف برای محصولات متنوع(سفارش، تضمین پرداخت، هدف فروش، خدمات پس از فروش، محصولات پر یا کم فروش یا میانگین با توجه به سبد محصول، 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18</a:t>
            </a:r>
            <a:r>
              <a:rPr b="0" lang="fa-IR" sz="3600" spc="-1" strike="noStrike">
                <a:solidFill>
                  <a:srgbClr val="003366"/>
                </a:solidFill>
                <a:latin typeface="Arial"/>
              </a:rPr>
              <a:t>- زمان و ابزار پرداخت کارمزد و اطلاعات حساب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 rtl="1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 rtl="1">
              <a:lnSpc>
                <a:spcPct val="95000"/>
              </a:lnSpc>
              <a:spcBef>
                <a:spcPts val="13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8:15:04Z</dcterms:created>
  <dc:creator>Brian Ing</dc:creator>
  <dc:description/>
  <dc:language>en-US</dc:language>
  <cp:lastModifiedBy>MCS</cp:lastModifiedBy>
  <dcterms:modified xsi:type="dcterms:W3CDTF">2018-02-21T06:35:25Z</dcterms:modified>
  <cp:revision>1539</cp:revision>
  <dc:subject/>
  <dc:title>BPR</dc:title>
</cp:coreProperties>
</file>