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11633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429840" y="767880"/>
            <a:ext cx="62420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a-IR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9B1F4C-DCC1-4800-A29A-8173FC9AFA67}" type="slidenum">
              <a:rPr b="0" lang="fa-IR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86D2E3-BEBA-42ED-BB6E-390CAA2F8ADA}" type="slidenum">
              <a:rPr b="0" lang="fa-IR" sz="13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30200" y="768240"/>
            <a:ext cx="624204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" y="376632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8230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004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2688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20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1004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52688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52560" y="241200"/>
            <a:ext cx="99360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230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" y="376632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230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1004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526880" y="91404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320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1004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526880" y="3766320"/>
            <a:ext cx="33490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52560" y="241200"/>
            <a:ext cx="99360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3000" y="376632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560" y="124560"/>
            <a:ext cx="99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3000" y="914040"/>
            <a:ext cx="507564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200" y="3766320"/>
            <a:ext cx="10401480" cy="26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mcsway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2"/>
          <p:cNvSpPr/>
          <p:nvPr/>
        </p:nvSpPr>
        <p:spPr>
          <a:xfrm>
            <a:off x="0" y="165240"/>
            <a:ext cx="11161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 rot="16200000">
            <a:off x="10740960" y="4998960"/>
            <a:ext cx="5335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441360" y="6397560"/>
            <a:ext cx="39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ea typeface="B Nazanin"/>
                <a:hlinkClick r:id="rId2"/>
              </a:rPr>
              <a:t>www.mcsway.com</a:t>
            </a:r>
            <a:r>
              <a:rPr b="1" lang="en-SG" sz="1400" spc="-1" strike="noStrike">
                <a:solidFill>
                  <a:srgbClr val="ff0000"/>
                </a:solidFill>
                <a:latin typeface="Times New Roman"/>
                <a:ea typeface="B Nazani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Line 18"/>
          <p:cNvSpPr/>
          <p:nvPr/>
        </p:nvSpPr>
        <p:spPr>
          <a:xfrm>
            <a:off x="444600" y="534996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Line 19"/>
          <p:cNvSpPr/>
          <p:nvPr/>
        </p:nvSpPr>
        <p:spPr>
          <a:xfrm>
            <a:off x="173160" y="6381720"/>
            <a:ext cx="269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>
            <a:off x="0" y="787320"/>
            <a:ext cx="11161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0" y="-33480"/>
            <a:ext cx="839880" cy="83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456840" y="0"/>
            <a:ext cx="1704960" cy="6864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41320" y="4352760"/>
            <a:ext cx="1032048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" name="Picture 8" descr="BD19923_"/>
          <p:cNvPicPr/>
          <p:nvPr/>
        </p:nvPicPr>
        <p:blipFill>
          <a:blip r:embed="rId2"/>
          <a:stretch/>
        </p:blipFill>
        <p:spPr>
          <a:xfrm>
            <a:off x="0" y="0"/>
            <a:ext cx="3990960" cy="204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3"/>
          <a:stretch/>
        </p:blipFill>
        <p:spPr>
          <a:xfrm>
            <a:off x="9394920" y="-41400"/>
            <a:ext cx="1766880" cy="176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ctr" rtl="1">
              <a:lnSpc>
                <a:spcPct val="95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csway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mailto:rmohtaram@yahoo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4360" y="4319640"/>
            <a:ext cx="8983800" cy="119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Arial"/>
                <a:ea typeface="B Jadid"/>
              </a:rPr>
              <a:t>15</a:t>
            </a:r>
            <a:r>
              <a:rPr b="1" lang="fa-IR" sz="4000" spc="-1" strike="noStrike">
                <a:solidFill>
                  <a:srgbClr val="ffffff"/>
                </a:solidFill>
                <a:latin typeface="Arial"/>
                <a:ea typeface="B Jadid"/>
              </a:rPr>
              <a:t> تجربه در مذاکرات تجاری بین الملل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887560" y="6108840"/>
            <a:ext cx="302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Arial"/>
                <a:ea typeface="B Jadid"/>
                <a:hlinkClick r:id="rId1"/>
              </a:rPr>
              <a:t>www.mcsway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B Jadid"/>
              </a:rPr>
              <a:t>rmohtaram@yahoo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403440" y="5708520"/>
            <a:ext cx="198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3366"/>
                </a:solidFill>
                <a:latin typeface="Arial"/>
                <a:cs typeface="B Jadid"/>
              </a:rPr>
              <a:t>دکتر رحیم محتر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قبل از بستن کیفیت بصورت جدی راجع به قیمت بحث نکن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ما قیمت و شرایط را اعلام نماییم یا طرف مقابل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مدیریت تغذیه، خواب و تنفس در سف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قبل از شروع مذاکره گرسنه یا تشنه نباشیم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سوالات ما اولین رزومه ما هستند، سوالات حرفه­ای و به موقع بپرسیم. چند تن اتصالات 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برقراری و درک ارتباطات غیر کلامی موثر مهم است. مثال پاتریک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تسلط بر زبان مذاکره (گفتار و نوشتار و درک مطلب)؛ مترجم 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560" y="20304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به قولهای شفاهی اعتماد نکنیم، دقیق و کامل بنویسیم و بدون متن مکتوب از جلسه خارج نشوی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مطمئن شویم منظورمان را متوجه شده اند، میتوانیم بنویس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در زمان دریافت امتیاز، خوشحالی خود را بروز ندهیم. بی تفاوتی محترمانه و سردی مودبانه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ارزش آفرینی در مذاکره را کاملا جدی بگیر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همیشه بعد از مذاکره عملکرد خود و تیم­ را ارزیابی نمای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تماس­هاي عادي با طرف مقابل را حفظ کن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968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فرایند منطقی طی نمای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آمادگی------ مذاکره---- قرارداد---- اجرا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برای آمادگی وقت بگذاری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برخی منابع مفی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D:\flash\gahnameh\te\گاهنامه تاجر امروز\Books\New folder\book_0006.jpg"/>
          <p:cNvPicPr/>
          <p:nvPr/>
        </p:nvPicPr>
        <p:blipFill>
          <a:blip r:embed="rId1"/>
          <a:stretch/>
        </p:blipFill>
        <p:spPr>
          <a:xfrm>
            <a:off x="0" y="930240"/>
            <a:ext cx="11161800" cy="31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7429680" y="4065480"/>
            <a:ext cx="1893600" cy="26924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814320" y="48546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600" spc="-1" strike="noStrike" u="sng">
                <a:solidFill>
                  <a:srgbClr val="a50021"/>
                </a:solidFill>
                <a:uFillTx/>
                <a:latin typeface="Arial"/>
                <a:ea typeface="B Farnaz"/>
                <a:hlinkClick r:id="rId3"/>
              </a:rPr>
              <a:t>rmohtaram@yahoo.com</a:t>
            </a:r>
            <a:r>
              <a:rPr b="0" lang="en-SG" sz="3600" spc="-1" strike="noStrike">
                <a:solidFill>
                  <a:srgbClr val="003366"/>
                </a:solidFill>
                <a:latin typeface="Arial"/>
                <a:ea typeface="B Farnaz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وقت شناس باشیم و به موقع به جلسه برس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کارت ویزیت خود را در اول جلسه به طرف مقابل بدهی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استقبال مناسب و ترانسفر تیم مذاکره‌ در فرودگاه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حضور به موقع تمام افراد برای استقبال از مهمان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معرفی اعضای تیم بدون ذکر دقیق تخصص افراد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در کشورهای شرقی با افراد سطح پایین مذاکره نکنی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در صورتی که در پذیرایی چیزی خلاف علاقه یا فرهنگ ماست معترض نشویم، میتوانیم استفاده نکن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میز مذاکره تبدیل به میز پذیرایی نشود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ایجاد وسایل ارتباطی از سوی میهمان برای میزبان. با احتیاط از اینترنت استفاده نمای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560" y="241200"/>
            <a:ext cx="99360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93200" y="914040"/>
            <a:ext cx="104014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تا حد ممکن کمتر به تبادل یادداشت برای بیان نظرات بین گروهی با اعضای تیم خود بپردازیم. اگر تبادل یادداشت ضروری بود، با </a:t>
            </a: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30</a:t>
            </a:r>
            <a:r>
              <a:rPr b="1" lang="fa-IR" sz="3200" spc="-1" strike="noStrike">
                <a:solidFill>
                  <a:srgbClr val="003366"/>
                </a:solidFill>
                <a:latin typeface="Arial"/>
              </a:rPr>
              <a:t> ثانیه تاخیر یادداشت خود را بنویسی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08:15:04Z</dcterms:created>
  <dc:creator>Brian Ing</dc:creator>
  <dc:description/>
  <dc:language>en-US</dc:language>
  <cp:lastModifiedBy>MCS</cp:lastModifiedBy>
  <dcterms:modified xsi:type="dcterms:W3CDTF">2018-02-21T07:20:46Z</dcterms:modified>
  <cp:revision>1533</cp:revision>
  <dc:subject/>
  <dc:title>BPR</dc:title>
</cp:coreProperties>
</file>