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A59E-F7D2-4EAF-9AA6-36B942D3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3DE2-E4EA-4F08-B3F3-2655298A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9066-9C7A-4014-A870-C2F352E3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6BB1-C17F-4407-8E56-8A51FBD7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44F-36EB-4451-A8B9-003C4ED2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18A-6336-4724-B176-275473B7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208-3C1F-456A-A641-CA7A6AA4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D65-1247-4491-85AE-9FA26C61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41D0-342D-4201-B139-AC230DB5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4775-A80A-491F-A8B9-182CDA9D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C626-73DC-4B7B-AB57-706318F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1AC-A106-45C0-8AAA-B05816B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D65-A980-4057-8287-1FF9287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1269-C501-4D26-B143-F1081BC8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7A82-FE8C-43F7-A743-178524D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2A4-E669-4C67-A1DF-E02BA7E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786-0A64-4E01-B845-A883CA7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2A95-4AC1-4529-BD3E-3BE0F86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6CFD-C7BF-4E88-9704-F6AC2965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E60-A884-46B5-8E1B-E1572ED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342A-3851-4C49-AF6B-006DEDA1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742-D002-4BD4-A9D0-8C0E55A1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FC8-829A-4C97-9296-ACEB9BE5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29F-92B0-46FA-86F0-B84F6EDF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15D-94E4-4644-8BCC-2BD70B19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19B-E7C8-4801-9F5C-388F217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549-DBE2-43FA-B32C-AFAC56C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FE4-6E0C-4B39-9F83-E9BB92B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935F-5EBC-4505-AFFE-7128E8D210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lue-lights"/>
          <p:cNvPicPr/>
          <p:nvPr/>
        </p:nvPicPr>
        <p:blipFill>
          <a:blip r:embed="rId2"/>
          <a:srcRect l="3106" t="0" r="3673" b="845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5F1D-BBFC-453B-A3DA-1B4154445E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40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500" spc="-1" strike="noStrike">
                <a:solidFill>
                  <a:srgbClr val="000000"/>
                </a:solidFill>
                <a:latin typeface="Calibri"/>
                <a:cs typeface="Zar"/>
              </a:rPr>
              <a:t>جبران خدمات كاركنان</a:t>
            </a:r>
            <a:br>
              <a:rPr sz="6500"/>
            </a:br>
            <a:r>
              <a:rPr b="0" lang="fa-IR" sz="6500" spc="-1" strike="noStrike">
                <a:solidFill>
                  <a:srgbClr val="000000"/>
                </a:solidFill>
                <a:latin typeface="Calibri"/>
                <a:cs typeface="Zar"/>
              </a:rPr>
              <a:t>و </a:t>
            </a:r>
            <a:br>
              <a:rPr sz="6500"/>
            </a:br>
            <a:r>
              <a:rPr b="0" lang="fa-IR" sz="6500" spc="-1" strike="noStrike">
                <a:solidFill>
                  <a:srgbClr val="000000"/>
                </a:solidFill>
                <a:latin typeface="Calibri"/>
                <a:cs typeface="Zar"/>
              </a:rPr>
              <a:t>مديريت عملكرد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3870360" y="200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2195640" y="5095800"/>
            <a:ext cx="4952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  <a:cs typeface="Zar"/>
              </a:rPr>
              <a:t>سعيد شهبازمرا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Zar"/>
              </a:rPr>
              <a:t>MBA,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Zar"/>
              </a:rPr>
              <a:t>Shahbaz@ut.ac.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user\Desktop\New folder\IMG_3622.JPG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user\Desktop\New folder\QMOQ0556.jpg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:\IMG_19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@ut.ac.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2"/>
          <p:cNvSpPr/>
          <p:nvPr/>
        </p:nvSpPr>
        <p:spPr>
          <a:xfrm>
            <a:off x="2268360" y="836640"/>
            <a:ext cx="4319640" cy="410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appra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Mea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Ass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Evalu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599840"/>
            <a:ext cx="36003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c00000"/>
                </a:solidFill>
                <a:latin typeface="Calibri"/>
                <a:cs typeface="Zar"/>
              </a:rPr>
              <a:t>در زمنيه ارزيابي عملكرد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Zar"/>
              </a:rPr>
              <a:t>ارزيابي كلي و بدون ارتباط با شايست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Zar"/>
              </a:rPr>
              <a:t>ديدگاه كوتاه مد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c00000"/>
                </a:solidFill>
                <a:latin typeface="Calibri"/>
                <a:cs typeface="Zar"/>
              </a:rPr>
              <a:t>در زمنيه جبران خدمات و پادا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Zar"/>
              </a:rPr>
              <a:t>تاثير عوامل اجتماعي-اقتصا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Zar"/>
              </a:rPr>
              <a:t>قانون كار بسيار دخالت دارد(تعيين حداقل حقو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Zar"/>
              </a:rPr>
              <a:t>تاثير شركتهاي چندمليت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3" descr="Scan0005.tif"/>
          <p:cNvPicPr/>
          <p:nvPr/>
        </p:nvPicPr>
        <p:blipFill>
          <a:blip r:embed="rId1"/>
          <a:stretch/>
        </p:blipFill>
        <p:spPr>
          <a:xfrm>
            <a:off x="4094280" y="-144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1444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042920" y="3380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Arial"/>
                <a:cs typeface="B Zar"/>
              </a:rPr>
              <a:t>گروه بندی مشاغل سازم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Diagram 3" descr=""/>
          <p:cNvPicPr/>
          <p:nvPr/>
        </p:nvPicPr>
        <p:blipFill>
          <a:blip r:embed="rId1"/>
          <a:stretch/>
        </p:blipFill>
        <p:spPr>
          <a:xfrm>
            <a:off x="1822320" y="1200240"/>
            <a:ext cx="7089840" cy="534024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1"/>
          <p:cNvSpPr/>
          <p:nvPr/>
        </p:nvSpPr>
        <p:spPr>
          <a:xfrm>
            <a:off x="4865760" y="6248520"/>
            <a:ext cx="38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ED2-80EB-41A3-B2A3-0485D99F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1"/>
          <p:cNvSpPr/>
          <p:nvPr/>
        </p:nvSpPr>
        <p:spPr>
          <a:xfrm>
            <a:off x="826920" y="2023920"/>
            <a:ext cx="259272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rate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7"/>
          <p:cNvSpPr/>
          <p:nvPr/>
        </p:nvSpPr>
        <p:spPr>
          <a:xfrm>
            <a:off x="979560" y="2176560"/>
            <a:ext cx="259236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rate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9"/>
          <p:cNvSpPr/>
          <p:nvPr/>
        </p:nvSpPr>
        <p:spPr>
          <a:xfrm>
            <a:off x="250920" y="357336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11"/>
          <p:cNvSpPr/>
          <p:nvPr/>
        </p:nvSpPr>
        <p:spPr>
          <a:xfrm>
            <a:off x="-355680" y="479736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19"/>
          <p:cNvGrpSpPr/>
          <p:nvPr/>
        </p:nvGrpSpPr>
        <p:grpSpPr>
          <a:xfrm>
            <a:off x="714240" y="1195560"/>
            <a:ext cx="7901280" cy="792000"/>
            <a:chOff x="714240" y="1195560"/>
            <a:chExt cx="7901280" cy="792000"/>
          </a:xfrm>
        </p:grpSpPr>
        <p:sp>
          <p:nvSpPr>
            <p:cNvPr id="141" name="Rounded Rectangle 2"/>
            <p:cNvSpPr/>
            <p:nvPr/>
          </p:nvSpPr>
          <p:spPr>
            <a:xfrm>
              <a:off x="6526440" y="1195560"/>
              <a:ext cx="2089080" cy="792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شایستگی فر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دانش/توانایی/ مهار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3"/>
            <p:cNvSpPr/>
            <p:nvPr/>
          </p:nvSpPr>
          <p:spPr>
            <a:xfrm>
              <a:off x="3595680" y="1195560"/>
              <a:ext cx="2087640" cy="79200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رفتار فر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4"/>
            <p:cNvSpPr/>
            <p:nvPr/>
          </p:nvSpPr>
          <p:spPr>
            <a:xfrm>
              <a:off x="714240" y="1195560"/>
              <a:ext cx="2089080" cy="79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خروجی فر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کمیت و کیفیت کار فر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Down Arrow 5"/>
            <p:cNvSpPr/>
            <p:nvPr/>
          </p:nvSpPr>
          <p:spPr>
            <a:xfrm rot="5400000">
              <a:off x="5827320" y="1412640"/>
              <a:ext cx="503280" cy="360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Down Arrow 6"/>
            <p:cNvSpPr/>
            <p:nvPr/>
          </p:nvSpPr>
          <p:spPr>
            <a:xfrm rot="5400000">
              <a:off x="2874240" y="1403280"/>
              <a:ext cx="503280" cy="360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Up-Down Arrow 9"/>
          <p:cNvSpPr/>
          <p:nvPr/>
        </p:nvSpPr>
        <p:spPr>
          <a:xfrm>
            <a:off x="4356000" y="2205000"/>
            <a:ext cx="503280" cy="792360"/>
          </a:xfrm>
          <a:prstGeom prst="upDown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Up-Down Arrow 10"/>
          <p:cNvSpPr/>
          <p:nvPr/>
        </p:nvSpPr>
        <p:spPr>
          <a:xfrm>
            <a:off x="4356000" y="4365720"/>
            <a:ext cx="503280" cy="79200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3"/>
          <p:cNvSpPr/>
          <p:nvPr/>
        </p:nvSpPr>
        <p:spPr>
          <a:xfrm>
            <a:off x="7359480" y="2313000"/>
            <a:ext cx="503280" cy="5763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wn Arrow 14"/>
          <p:cNvSpPr/>
          <p:nvPr/>
        </p:nvSpPr>
        <p:spPr>
          <a:xfrm>
            <a:off x="7359480" y="4335480"/>
            <a:ext cx="503280" cy="5763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17"/>
          <p:cNvSpPr/>
          <p:nvPr/>
        </p:nvSpPr>
        <p:spPr>
          <a:xfrm>
            <a:off x="1547640" y="2313000"/>
            <a:ext cx="503280" cy="5763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18"/>
          <p:cNvSpPr/>
          <p:nvPr/>
        </p:nvSpPr>
        <p:spPr>
          <a:xfrm>
            <a:off x="1547640" y="4473720"/>
            <a:ext cx="503280" cy="57600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4"/>
          <p:cNvGrpSpPr/>
          <p:nvPr/>
        </p:nvGrpSpPr>
        <p:grpSpPr>
          <a:xfrm>
            <a:off x="755640" y="3213000"/>
            <a:ext cx="7834320" cy="792360"/>
            <a:chOff x="755640" y="3213000"/>
            <a:chExt cx="7834320" cy="792360"/>
          </a:xfrm>
        </p:grpSpPr>
        <p:sp>
          <p:nvSpPr>
            <p:cNvPr id="153" name="Rounded Rectangle 7"/>
            <p:cNvSpPr/>
            <p:nvPr/>
          </p:nvSpPr>
          <p:spPr>
            <a:xfrm>
              <a:off x="3564000" y="3213000"/>
              <a:ext cx="2087640" cy="79236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رفتار گروه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کار تیم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ounded Rectangle 11"/>
            <p:cNvSpPr/>
            <p:nvPr/>
          </p:nvSpPr>
          <p:spPr>
            <a:xfrm>
              <a:off x="6502320" y="3213000"/>
              <a:ext cx="2087640" cy="79236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شایستگی گروه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دانش فن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ounded Rectangle 15"/>
            <p:cNvSpPr/>
            <p:nvPr/>
          </p:nvSpPr>
          <p:spPr>
            <a:xfrm>
              <a:off x="755640" y="3213000"/>
              <a:ext cx="2087640" cy="7923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خروجی گروه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کیفیت و بهره ور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own Arrow 20"/>
            <p:cNvSpPr/>
            <p:nvPr/>
          </p:nvSpPr>
          <p:spPr>
            <a:xfrm rot="5400000">
              <a:off x="5827320" y="3535200"/>
              <a:ext cx="503280" cy="360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Down Arrow 21"/>
            <p:cNvSpPr/>
            <p:nvPr/>
          </p:nvSpPr>
          <p:spPr>
            <a:xfrm rot="5400000">
              <a:off x="2999880" y="3428640"/>
              <a:ext cx="503280" cy="360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5"/>
          <p:cNvGrpSpPr/>
          <p:nvPr/>
        </p:nvGrpSpPr>
        <p:grpSpPr>
          <a:xfrm>
            <a:off x="755640" y="5338800"/>
            <a:ext cx="7827840" cy="831960"/>
            <a:chOff x="755640" y="5338800"/>
            <a:chExt cx="7827840" cy="831960"/>
          </a:xfrm>
        </p:grpSpPr>
        <p:sp>
          <p:nvSpPr>
            <p:cNvPr id="159" name="Rounded Rectangle 8"/>
            <p:cNvSpPr/>
            <p:nvPr/>
          </p:nvSpPr>
          <p:spPr>
            <a:xfrm>
              <a:off x="3635280" y="5338800"/>
              <a:ext cx="2089080" cy="79236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رفتار سازمان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مشتری مداری/خلاقی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ounded Rectangle 12"/>
            <p:cNvSpPr/>
            <p:nvPr/>
          </p:nvSpPr>
          <p:spPr>
            <a:xfrm>
              <a:off x="6496200" y="5378400"/>
              <a:ext cx="2087280" cy="79236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شایستگی سازمان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فناوری/سرمایه انسان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ounded Rectangle 16"/>
            <p:cNvSpPr/>
            <p:nvPr/>
          </p:nvSpPr>
          <p:spPr>
            <a:xfrm>
              <a:off x="755640" y="5378400"/>
              <a:ext cx="2087280" cy="7923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خروجی سازمان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Calibri"/>
                  <a:cs typeface="B Zar"/>
                </a:rPr>
                <a:t>سودآوری/ سهم بازا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Down Arrow 22"/>
            <p:cNvSpPr/>
            <p:nvPr/>
          </p:nvSpPr>
          <p:spPr>
            <a:xfrm rot="5400000">
              <a:off x="2972880" y="5594040"/>
              <a:ext cx="503280" cy="360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Down Arrow 23"/>
            <p:cNvSpPr/>
            <p:nvPr/>
          </p:nvSpPr>
          <p:spPr>
            <a:xfrm rot="5400000">
              <a:off x="5826960" y="5554440"/>
              <a:ext cx="503280" cy="360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ounded Rectangle 26"/>
          <p:cNvSpPr/>
          <p:nvPr/>
        </p:nvSpPr>
        <p:spPr>
          <a:xfrm>
            <a:off x="3306600" y="907920"/>
            <a:ext cx="2773440" cy="5616720"/>
          </a:xfrm>
          <a:custGeom>
            <a:avLst/>
            <a:gdLst>
              <a:gd name="textAreaLeft" fmla="*/ 135360 w 2773440"/>
              <a:gd name="textAreaRight" fmla="*/ 2638080 w 2773440"/>
              <a:gd name="textAreaTop" fmla="*/ 135360 h 5616720"/>
              <a:gd name="textAreaBottom" fmla="*/ 5481360 h 5616720"/>
            </a:gdLst>
            <a:ahLst/>
            <a:rect l="textAreaLeft" t="textAreaTop" r="textAreaRight" b="textAreaBottom"/>
            <a:pathLst>
              <a:path w="21600" h="43741">
                <a:moveTo>
                  <a:pt x="3600" y="0"/>
                </a:moveTo>
                <a:arcTo wR="3600" hR="3600" stAng="16200000" swAng="-5400000"/>
                <a:lnTo>
                  <a:pt x="0" y="40141"/>
                </a:lnTo>
                <a:arcTo wR="3600" hR="3600" stAng="10800000" swAng="-5400000"/>
                <a:lnTo>
                  <a:pt x="18000" y="43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ntent Placeholder 2" descr=""/>
          <p:cNvPicPr/>
          <p:nvPr/>
        </p:nvPicPr>
        <p:blipFill>
          <a:blip r:embed="rId1"/>
          <a:stretch/>
        </p:blipFill>
        <p:spPr>
          <a:xfrm>
            <a:off x="603360" y="1262160"/>
            <a:ext cx="7864200" cy="4876560"/>
          </a:xfrm>
          <a:prstGeom prst="rect">
            <a:avLst/>
          </a:prstGeom>
          <a:ln w="0">
            <a:noFill/>
          </a:ln>
        </p:spPr>
      </p:pic>
      <p:sp>
        <p:nvSpPr>
          <p:cNvPr id="167" name="Cloud 6"/>
          <p:cNvSpPr/>
          <p:nvPr/>
        </p:nvSpPr>
        <p:spPr>
          <a:xfrm>
            <a:off x="5580000" y="981000"/>
            <a:ext cx="3240000" cy="174168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Cloud 7"/>
          <p:cNvGrpSpPr/>
          <p:nvPr/>
        </p:nvGrpSpPr>
        <p:grpSpPr>
          <a:xfrm>
            <a:off x="-73080" y="4773600"/>
            <a:ext cx="3359160" cy="1852560"/>
            <a:chOff x="-73080" y="4773600"/>
            <a:chExt cx="3359160" cy="1852560"/>
          </a:xfrm>
        </p:grpSpPr>
        <p:pic>
          <p:nvPicPr>
            <p:cNvPr id="169" name="Cloud 7" descr=""/>
            <p:cNvPicPr/>
            <p:nvPr/>
          </p:nvPicPr>
          <p:blipFill>
            <a:blip r:embed="rId2"/>
            <a:stretch/>
          </p:blipFill>
          <p:spPr>
            <a:xfrm>
              <a:off x="-73080" y="4773600"/>
              <a:ext cx="33591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34880" y="5065560"/>
              <a:ext cx="211608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ask Behavi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Cloud 8"/>
          <p:cNvSpPr/>
          <p:nvPr/>
        </p:nvSpPr>
        <p:spPr>
          <a:xfrm>
            <a:off x="5931000" y="5013360"/>
            <a:ext cx="3241440" cy="174132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ganization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ounded Rectangle 2"/>
          <p:cNvSpPr/>
          <p:nvPr/>
        </p:nvSpPr>
        <p:spPr>
          <a:xfrm>
            <a:off x="1476360" y="696960"/>
            <a:ext cx="7210440" cy="5756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5560" y="880920"/>
            <a:ext cx="828036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عرضه و تقاضای نیروی ک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حداقل معیش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وجه مز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قدرت پرداخ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درآمد مل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شاخص هزینه زندگ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مبانی فرهنگی و ارزشی پرداخ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چانه ز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سرمایه گذاری مز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قوانین و مقررات دولت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1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نظر و توافق اتحادیه و سندیک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1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بهره ور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1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تشویق و انگیزه افزایش تولی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1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چسبندگی دستمز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1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- نظریه دستمزد بر اساس فرهنگ سازما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714680" y="142920"/>
            <a:ext cx="5643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Yagut"/>
                <a:cs typeface="B Zar"/>
              </a:rPr>
              <a:t>نظریه های حقوق و دستمز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Zar"/>
              </a:rPr>
              <a:t>نگاه استراتژیک جبران خد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ounded Rectangle 1"/>
          <p:cNvSpPr/>
          <p:nvPr/>
        </p:nvSpPr>
        <p:spPr>
          <a:xfrm>
            <a:off x="5580000" y="1219320"/>
            <a:ext cx="2952720" cy="538632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5386320"/>
              <a:gd name="textAreaBottom" fmla="*/ 5242320 h 5386320"/>
            </a:gdLst>
            <a:ahLst/>
            <a:rect l="textAreaLeft" t="textAreaTop" r="textAreaRight" b="textAreaBottom"/>
            <a:pathLst>
              <a:path w="21600" h="39400">
                <a:moveTo>
                  <a:pt x="3600" y="0"/>
                </a:moveTo>
                <a:arcTo wR="3600" hR="3600" stAng="16200000" swAng="-5400000"/>
                <a:lnTo>
                  <a:pt x="0" y="35800"/>
                </a:lnTo>
                <a:arcTo wR="3600" hR="3600" stAng="10800000" swAng="-5400000"/>
                <a:lnTo>
                  <a:pt x="18000" y="39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"/>
          <p:cNvSpPr/>
          <p:nvPr/>
        </p:nvSpPr>
        <p:spPr>
          <a:xfrm>
            <a:off x="1116000" y="1500120"/>
            <a:ext cx="2951280" cy="20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Zar"/>
              </a:rPr>
              <a:t>کارائی پرداخ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مبتنی بر عملک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مبتنی بر هزی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مبتنی بر کیفی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مبتنی بر رضایت ذینفع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12"/>
          <p:cNvSpPr/>
          <p:nvPr/>
        </p:nvSpPr>
        <p:spPr>
          <a:xfrm>
            <a:off x="1116000" y="4076640"/>
            <a:ext cx="2951280" cy="20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Zar"/>
              </a:rPr>
              <a:t>عدالت پرداخ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توزیع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رویه ا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رفتار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درو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Zar"/>
              </a:rPr>
              <a:t>بیرو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4"/>
          <p:cNvSpPr/>
          <p:nvPr/>
        </p:nvSpPr>
        <p:spPr>
          <a:xfrm rot="5400000">
            <a:off x="4283280" y="2204280"/>
            <a:ext cx="936720" cy="64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15"/>
          <p:cNvSpPr/>
          <p:nvPr/>
        </p:nvSpPr>
        <p:spPr>
          <a:xfrm rot="5400000">
            <a:off x="4380840" y="4940280"/>
            <a:ext cx="935280" cy="64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5"/>
          <p:cNvSpPr/>
          <p:nvPr/>
        </p:nvSpPr>
        <p:spPr>
          <a:xfrm>
            <a:off x="6192720" y="1652760"/>
            <a:ext cx="1727280" cy="7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Zar"/>
              </a:rPr>
              <a:t>همنوا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17"/>
          <p:cNvSpPr/>
          <p:nvPr/>
        </p:nvSpPr>
        <p:spPr>
          <a:xfrm>
            <a:off x="6192720" y="2760840"/>
            <a:ext cx="1727280" cy="7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Zar"/>
              </a:rPr>
              <a:t>رقابت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18"/>
          <p:cNvSpPr/>
          <p:nvPr/>
        </p:nvSpPr>
        <p:spPr>
          <a:xfrm>
            <a:off x="6221520" y="3841920"/>
            <a:ext cx="1728720" cy="77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Zar"/>
              </a:rPr>
              <a:t>انطبا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19"/>
          <p:cNvSpPr/>
          <p:nvPr/>
        </p:nvSpPr>
        <p:spPr>
          <a:xfrm>
            <a:off x="6294600" y="5029200"/>
            <a:ext cx="172872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Zar"/>
              </a:rPr>
              <a:t>کارائی ادا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Zar"/>
              </a:rPr>
              <a:t>مديريت منابع انساني در عصر دانائ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6596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@ut.ac.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3"/>
          <a:stretch/>
        </p:blipFill>
        <p:spPr>
          <a:xfrm>
            <a:off x="0" y="571680"/>
            <a:ext cx="8964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Content Placeholder 3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hahbaz@ut.ac.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Laptop\Downloads\book hr new-shahbazmoradi.JPG"/>
          <p:cNvPicPr/>
          <p:nvPr/>
        </p:nvPicPr>
        <p:blipFill>
          <a:blip r:embed="rId1"/>
          <a:stretch/>
        </p:blipFill>
        <p:spPr>
          <a:xfrm>
            <a:off x="1476360" y="0"/>
            <a:ext cx="5759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F:\flash\BBS\adv hrm\adv hr bo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"/>
                <a:ea typeface="Zar"/>
              </a:rPr>
              <a:t> </a:t>
            </a:r>
            <a:r>
              <a:rPr b="0" lang="fa-IR" sz="4400" spc="-1" strike="noStrike">
                <a:solidFill>
                  <a:srgbClr val="c00000"/>
                </a:solidFill>
                <a:latin typeface="Calibri"/>
                <a:cs typeface="Zar"/>
              </a:rPr>
              <a:t>چرا برنامه های سازمان به ثمر نمی نشیند؟</a:t>
            </a:r>
            <a:r>
              <a:rPr b="0" lang="fa-IR" sz="4400" spc="-1" strike="noStrike">
                <a:solidFill>
                  <a:srgbClr val="c00000"/>
                </a:solidFill>
                <a:latin typeface="Calibri"/>
                <a:ea typeface="Z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>
            <a:grayscl/>
          </a:blip>
          <a:srcRect l="7031" t="25000" r="14063" b="11457"/>
          <a:stretch/>
        </p:blipFill>
        <p:spPr>
          <a:xfrm>
            <a:off x="826920" y="1413000"/>
            <a:ext cx="7696440" cy="533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98100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گرت مملکت باید آراسته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                                                                                                                                                   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مده کار معظم به نوخاست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ه خردان مفرمای کار درشت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که سندان نشاید شکستن به مشت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نخواهی که ضایع شود روزگار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	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ه ناکار دیده مفرمای ک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58040" cy="607248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Zar"/>
              </a:rPr>
              <a:t>جنگل دیدگاه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Z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76120" y="1773360"/>
            <a:ext cx="8410680" cy="452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10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user\Desktop\New folder\IMG_37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S.Shahbazmoradi(Shahbaz@ut.ac.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@ut.ac.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user\Desktop\IMG_3156.JPG"/>
          <p:cNvPicPr/>
          <p:nvPr/>
        </p:nvPicPr>
        <p:blipFill>
          <a:blip r:embed="rId2"/>
          <a:stretch/>
        </p:blipFill>
        <p:spPr>
          <a:xfrm>
            <a:off x="0" y="0"/>
            <a:ext cx="8964720" cy="695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radi</dc:creator>
  <dc:description/>
  <dc:language>en-US</dc:language>
  <cp:lastModifiedBy>user</cp:lastModifiedBy>
  <dcterms:modified xsi:type="dcterms:W3CDTF">2017-01-14T10:43:55Z</dcterms:modified>
  <cp:revision>92</cp:revision>
  <dc:subject/>
  <dc:title>Flowers</dc:title>
</cp:coreProperties>
</file>