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5.wmf" ContentType="image/x-wmf"/>
  <Override PartName="/ppt/media/image1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7.jpeg" ContentType="image/jpeg"/>
  <Override PartName="/ppt/media/image28.jpeg" ContentType="image/jpeg"/>
  <Override PartName="/ppt/media/image9.png" ContentType="image/png"/>
  <Override PartName="/ppt/media/image17.jpeg" ContentType="image/jpeg"/>
  <Override PartName="/ppt/media/image11.wmf" ContentType="image/x-wmf"/>
  <Override PartName="/ppt/media/image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4.jpeg" ContentType="image/jpeg"/>
  <Override PartName="/ppt/media/image37.png" ContentType="image/png"/>
  <Override PartName="/ppt/media/image41.jpeg" ContentType="image/jpeg"/>
  <Override PartName="/ppt/media/image44.png" ContentType="image/png"/>
  <Override PartName="/ppt/media/image46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3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6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5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Heydar Amiran" initials="H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<Relationship Id="rId5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1-04-27T08:07:14.812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EC2F-FCB7-4B8D-A01B-04C62F3400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25DD-826F-4B89-8DC1-3AD31A26D632}" type="slidenum">
              <a:rPr b="0" lang="fa-IR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97B0-4E2F-4050-8410-BA309842FB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395E-7931-4ADA-87D1-9503314D0714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7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AB7C-1293-4313-8637-83474DF85CD4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oan@jfwilliams.com - george@georgeneedham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387C-C8BB-45DA-AB66-F5AA926A081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4021200" y="0"/>
            <a:ext cx="3078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i="1" lang="en-A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84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E72-4D98-4BD7-B1FD-F198C3FD2EA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C15-2F8A-4CCA-9757-DB82EAF1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969-3A96-4B89-8726-2688C8E7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979-8B63-4ED1-8BE3-65905AAE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92D-8A9D-40FD-87E1-081E98C5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589E-1627-41CD-B0FC-2FC2C045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E56C-DC46-41E4-8F20-7C026FC5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8E2B-FD96-4527-B879-DB8000C7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F8ED-BC13-4D5D-9297-1F0CE578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AF27-9672-41DA-B85F-3611B857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5A7B-410C-47FB-8347-287AFBE7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25ED-F6C6-4166-AEBF-03FF017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388-74AC-4D44-8B60-EA8BD98C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92B4-CB80-4D26-9329-69B8DBBD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A5E0-5738-4AE6-B4AB-D2F16FF1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EA6E-6BDE-44BE-84A8-BBA2DCBA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72F2-1F48-4420-95F0-FE86B148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8736-560C-42BA-AB40-D30263C6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B273-E94A-4BE0-81B9-87265A44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C5FF-0377-40C7-8C48-8C32345E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833C-3AAB-4EE2-8E29-67C530EC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7E9D-FCB0-4A2A-8B5F-EE57A691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24E2-1EB6-42E7-BF5B-E79FD18E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9D0-61B4-46B6-A3E9-60BF595F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D627-D03C-490B-ACC0-B6A0FBB4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C2C5-AAF7-4A68-96B9-8E8EAC9B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B189-3F8B-44D3-85F5-8D6954D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A016-7CF4-4BE7-B77E-346AA6B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7EB1-09C9-4502-9443-D1F998E2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FB9A-48D0-41DC-8C0B-0629334B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732C-7A9E-4DBB-9AA1-E406BF00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FED-8CA8-4BF6-890A-0C8E451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9F6-0842-4486-9BD5-85C6DE86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960-FA40-4C6C-B28E-6537D78F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551-1844-4B8D-94CA-C44B98C1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BA8-3F09-49B3-A700-DDD7846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123-C91B-4450-AB3C-4A92F726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6EEC-38D8-4EF2-8032-D1C8F1E75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9781-1B91-4922-BEE1-469D17554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B7DD-CD3C-42F5-80DF-7DCFFDA4AF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D2E6-93CF-4D52-A70E-A13D32128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8198-E7E6-4C9C-9161-052928C2C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E459-0D3E-4316-8959-C35B79B53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  <p:pic>
        <p:nvPicPr>
          <p:cNvPr id="132" name="Picture 2" descr="D:\SHERAFAT\New Imag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0" y="990720"/>
            <a:ext cx="9144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c00000"/>
                </a:solidFill>
                <a:latin typeface="Arial"/>
                <a:cs typeface="B Nazanin"/>
              </a:rPr>
              <a:t>به نام خد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2  Nazanin"/>
                <a:cs typeface="B Koodak"/>
              </a:rPr>
              <a:t>نحوه ارزشيابي مديران در سازمان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2  Nazanin"/>
                <a:cs typeface="B Koodak"/>
              </a:rPr>
              <a:t>جهت ارايه در سومين همايش ارزيابي عملکرد مديران</a:t>
            </a:r>
            <a:r>
              <a:rPr b="1" lang="fa-IR" sz="3200" spc="-1" strike="noStrike">
                <a:solidFill>
                  <a:srgbClr val="ff0000"/>
                </a:solidFill>
                <a:latin typeface="2  Nazanin"/>
                <a:ea typeface="B Kooda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Nazanin"/>
              </a:rPr>
              <a:t>سخنران : دکتر حيدرامير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عضوء هيئت علمي دانشگاه آزاداسلامي – واحد تهران مرکز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رئيس هيئت مديره شرکت مشاورين کيفيت ساز کارآف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B Nazanin"/>
              </a:rPr>
              <a:t>@IRANMANAGEMENTPR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72F2-7AB7-4C84-ADDC-1651A9C4DB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~PP3255.WAV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G:\ \iran.gif"/>
          <p:cNvPicPr/>
          <p:nvPr/>
        </p:nvPicPr>
        <p:blipFill>
          <a:blip r:embed="rId3"/>
          <a:stretch/>
        </p:blipFill>
        <p:spPr>
          <a:xfrm>
            <a:off x="0" y="838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447920" y="2324160"/>
            <a:ext cx="2743200" cy="762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536840" y="2209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i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 flipV="1">
            <a:off x="2763720" y="308628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 flipV="1">
            <a:off x="3760920" y="308628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 flipV="1">
            <a:off x="1905120" y="308628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4191120" y="2698200"/>
            <a:ext cx="533160" cy="61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990720" y="2692440"/>
            <a:ext cx="457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90440" y="2527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5831280" y="260028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8010360" y="2552760"/>
            <a:ext cx="7639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8106840" y="2600280"/>
            <a:ext cx="65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6727680" y="2552760"/>
            <a:ext cx="1017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825960" y="2600280"/>
            <a:ext cx="87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5"/>
          <p:cNvGrpSpPr/>
          <p:nvPr/>
        </p:nvGrpSpPr>
        <p:grpSpPr>
          <a:xfrm>
            <a:off x="6397560" y="2631960"/>
            <a:ext cx="380880" cy="147600"/>
            <a:chOff x="6397560" y="2631960"/>
            <a:chExt cx="380880" cy="147600"/>
          </a:xfrm>
        </p:grpSpPr>
        <p:sp>
          <p:nvSpPr>
            <p:cNvPr id="292" name="Rectangle 16"/>
            <p:cNvSpPr/>
            <p:nvPr/>
          </p:nvSpPr>
          <p:spPr>
            <a:xfrm>
              <a:off x="6397560" y="2690640"/>
              <a:ext cx="237960" cy="28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6632640" y="2631960"/>
              <a:ext cx="14580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8"/>
          <p:cNvGrpSpPr/>
          <p:nvPr/>
        </p:nvGrpSpPr>
        <p:grpSpPr>
          <a:xfrm>
            <a:off x="7680240" y="2631960"/>
            <a:ext cx="380880" cy="147600"/>
            <a:chOff x="7680240" y="2631960"/>
            <a:chExt cx="380880" cy="147600"/>
          </a:xfrm>
        </p:grpSpPr>
        <p:sp>
          <p:nvSpPr>
            <p:cNvPr id="295" name="Rectangle 19"/>
            <p:cNvSpPr/>
            <p:nvPr/>
          </p:nvSpPr>
          <p:spPr>
            <a:xfrm>
              <a:off x="7680240" y="2690640"/>
              <a:ext cx="237960" cy="28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7915320" y="2631960"/>
              <a:ext cx="14580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Rectangle 21"/>
          <p:cNvSpPr/>
          <p:nvPr/>
        </p:nvSpPr>
        <p:spPr>
          <a:xfrm>
            <a:off x="4780440" y="2598840"/>
            <a:ext cx="6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2"/>
          <p:cNvGrpSpPr/>
          <p:nvPr/>
        </p:nvGrpSpPr>
        <p:grpSpPr>
          <a:xfrm>
            <a:off x="5423040" y="2631960"/>
            <a:ext cx="380880" cy="147600"/>
            <a:chOff x="5423040" y="2631960"/>
            <a:chExt cx="380880" cy="147600"/>
          </a:xfrm>
        </p:grpSpPr>
        <p:sp>
          <p:nvSpPr>
            <p:cNvPr id="299" name="Rectangle 23"/>
            <p:cNvSpPr/>
            <p:nvPr/>
          </p:nvSpPr>
          <p:spPr>
            <a:xfrm>
              <a:off x="5423040" y="2690640"/>
              <a:ext cx="237960" cy="28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4"/>
            <p:cNvSpPr/>
            <p:nvPr/>
          </p:nvSpPr>
          <p:spPr>
            <a:xfrm>
              <a:off x="5658120" y="2631960"/>
              <a:ext cx="14580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25"/>
          <p:cNvSpPr/>
          <p:nvPr/>
        </p:nvSpPr>
        <p:spPr>
          <a:xfrm rot="5400000">
            <a:off x="990360" y="4229280"/>
            <a:ext cx="1828800" cy="4572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gistic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6"/>
          <p:cNvSpPr/>
          <p:nvPr/>
        </p:nvSpPr>
        <p:spPr>
          <a:xfrm rot="5400000">
            <a:off x="1849320" y="4229280"/>
            <a:ext cx="1828800" cy="4572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gistic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7"/>
          <p:cNvSpPr/>
          <p:nvPr/>
        </p:nvSpPr>
        <p:spPr>
          <a:xfrm rot="5400000">
            <a:off x="2846520" y="4229280"/>
            <a:ext cx="1828800" cy="4572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gistic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8"/>
          <p:cNvSpPr/>
          <p:nvPr/>
        </p:nvSpPr>
        <p:spPr>
          <a:xfrm flipV="1">
            <a:off x="2763720" y="537228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9"/>
          <p:cNvSpPr/>
          <p:nvPr/>
        </p:nvSpPr>
        <p:spPr>
          <a:xfrm flipV="1">
            <a:off x="3760920" y="537228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 flipV="1">
            <a:off x="1905120" y="537228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1582560" y="5791320"/>
            <a:ext cx="6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2251080" y="579132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247920" y="579132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4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cs typeface="Homa"/>
              </a:rPr>
              <a:t>مفهوم بنيادين ارزشياب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5"/>
          <p:cNvSpPr/>
          <p:nvPr/>
        </p:nvSpPr>
        <p:spPr>
          <a:xfrm flipH="1">
            <a:off x="4266360" y="1600200"/>
            <a:ext cx="4496040" cy="762120"/>
          </a:xfrm>
          <a:prstGeom prst="rtTriangl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188-5609-432E-8647-7F198E4254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ا شاخص ها به عنوان  ابزار سنجش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cator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2  Nazanin"/>
                <a:cs typeface="Arial"/>
              </a:rPr>
              <a:t>شاخص يا </a:t>
            </a:r>
            <a:r>
              <a:rPr b="1" i="1" lang="en-US" sz="3200" spc="-1" strike="noStrike">
                <a:solidFill>
                  <a:srgbClr val="000000"/>
                </a:solidFill>
                <a:latin typeface="2  Nazanin"/>
              </a:rPr>
              <a:t>INDICATOR</a:t>
            </a:r>
            <a:r>
              <a:rPr b="1" i="1" lang="fa-IR" sz="3200" spc="-1" strike="noStrike">
                <a:solidFill>
                  <a:srgbClr val="000000"/>
                </a:solidFill>
                <a:latin typeface="2  Nazanin"/>
                <a:ea typeface="Arial"/>
              </a:rPr>
              <a:t> با سنجه يا </a:t>
            </a:r>
            <a:r>
              <a:rPr b="1" i="1" lang="en-US" sz="3200" spc="-1" strike="noStrike">
                <a:solidFill>
                  <a:srgbClr val="000000"/>
                </a:solidFill>
                <a:latin typeface="2  Nazanin"/>
              </a:rPr>
              <a:t>MEASURE</a:t>
            </a:r>
            <a:r>
              <a:rPr b="1" i="1" lang="fa-IR" sz="3200" spc="-1" strike="noStrike">
                <a:solidFill>
                  <a:srgbClr val="000000"/>
                </a:solidFill>
                <a:latin typeface="2  Nazanin"/>
                <a:ea typeface="Arial"/>
              </a:rPr>
              <a:t> فرق دار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2  Nazanin"/>
                <a:cs typeface="Arial"/>
              </a:rPr>
              <a:t>شاخص ابزاري جهت پايش و ارزشيابي اس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2  Nazanin"/>
                <a:cs typeface="Arial"/>
              </a:rPr>
              <a:t>شاخص ها به طور کلي به عنوان متغيرهايي که کمک به سنجش تغييرات بطور مستقيم يا غيرمستقيم مينمايند تعريف ميشوند</a:t>
            </a:r>
            <a:r>
              <a:rPr b="1" i="1" lang="fa-IR" sz="3200" spc="-1" strike="noStrike">
                <a:solidFill>
                  <a:srgbClr val="ff0066"/>
                </a:solidFill>
                <a:latin typeface="2  Nazani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8E93-FF19-4161-8E5D-DF2C46DDD4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54E8-A34F-4827-AD19-207A6B1197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strategy-map-theory-busines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گاهي به سطوح ارزشيابي مديران</a:t>
            </a:r>
            <a:r>
              <a:rPr b="0" lang="fa-I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4522680"/>
          </a:xfrm>
          <a:prstGeom prst="rect">
            <a:avLst/>
          </a:prstGeom>
          <a:ln w="0">
            <a:noFill/>
          </a:ln>
        </p:spPr>
      </p:pic>
      <p:sp>
        <p:nvSpPr>
          <p:cNvPr id="3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8E60-C569-4A08-8332-30B5E61963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درصدکارکنان شايسته ارتقاءدر سازمانهاي ايران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98BB-1A38-4356-8C7F-D2E4E09C97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83000"/>
          </a:bodyPr>
          <a:p>
            <a:pPr marL="284400" indent="-2844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Arial"/>
              </a:rPr>
              <a:t>منبع:گزارش آينده کسب وکار در ايرا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Chart 8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B Koodak"/>
              </a:rPr>
              <a:t>نگاهي به رويکردهاي يک کسب وکار اثربخش</a:t>
            </a:r>
            <a:r>
              <a:rPr b="0" lang="fa-IR" sz="4400" spc="-1" strike="noStrike">
                <a:solidFill>
                  <a:srgbClr val="000000"/>
                </a:solidFill>
                <a:latin typeface="Calibri"/>
                <a:ea typeface="B Kooda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C577-3AD2-429F-AE40-60D5A292D0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5"/>
          <p:cNvSpPr/>
          <p:nvPr/>
        </p:nvSpPr>
        <p:spPr>
          <a:xfrm>
            <a:off x="380880" y="1676520"/>
            <a:ext cx="3657600" cy="22860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پايش مستمرتحولات محيط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B Koodak"/>
              </a:rPr>
              <a:t>(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مهم ترين تحول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B Kooda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نتايج مذاکرات ژنو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B Kooda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Calibri"/>
                <a:cs typeface="B Koodak"/>
              </a:rPr>
              <a:t>؟</a:t>
            </a:r>
            <a:r>
              <a:rPr b="1" lang="fa-IR" sz="4000" spc="-1" strike="noStrike">
                <a:solidFill>
                  <a:srgbClr val="000000"/>
                </a:solidFill>
                <a:latin typeface="Calibri"/>
                <a:ea typeface="B Kooda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"/>
          <p:cNvSpPr/>
          <p:nvPr/>
        </p:nvSpPr>
        <p:spPr>
          <a:xfrm>
            <a:off x="380880" y="3733920"/>
            <a:ext cx="3505320" cy="2209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ويژگي ها ومشخصات فرد صاحب کسب وکار اثربخش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Koodak"/>
              </a:rPr>
              <a:t> 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Kooda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مثبت انديش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ارتباطات اجتماعي قوي وکسب اطلاعات لاز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خلاقي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Calibri"/>
                <a:cs typeface="B Koodak"/>
              </a:rPr>
              <a:t>سناريوساز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7"/>
          <p:cNvSpPr/>
          <p:nvPr/>
        </p:nvSpPr>
        <p:spPr>
          <a:xfrm>
            <a:off x="4267080" y="3048120"/>
            <a:ext cx="1752840" cy="190476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1904760"/>
              <a:gd name="textAreaBottom" fmla="*/ 1819440 h 1904760"/>
            </a:gdLst>
            <a:ahLst/>
            <a:rect l="textAreaLeft" t="textAreaTop" r="textAreaRight" b="textAreaBottom"/>
            <a:pathLst>
              <a:path w="21600" h="23472">
                <a:moveTo>
                  <a:pt x="3600" y="0"/>
                </a:moveTo>
                <a:arcTo wR="3600" hR="3600" stAng="16200000" swAng="-5400000"/>
                <a:lnTo>
                  <a:pt x="0" y="19872"/>
                </a:lnTo>
                <a:arcTo wR="3600" hR="3600" stAng="10800000" swAng="-5400000"/>
                <a:lnTo>
                  <a:pt x="18000" y="23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Calibri"/>
                <a:cs typeface="B Koodak"/>
              </a:rPr>
              <a:t>شناسايي وتشخيص فرصت هاي حفظ ورشد کسب وکار</a:t>
            </a:r>
            <a:r>
              <a:rPr b="1" lang="fa-IR" sz="1800" spc="-1" strike="noStrike">
                <a:solidFill>
                  <a:srgbClr val="ffffff"/>
                </a:solidFill>
                <a:latin typeface="Calibri"/>
                <a:ea typeface="B Kooda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6477120" y="3429000"/>
            <a:ext cx="1981080" cy="91440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حضورموثروقوي در حوزه هاي جذاب کسب وک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10"/>
          <p:cNvCxnSpPr/>
          <p:nvPr/>
        </p:nvCxnSpPr>
        <p:spPr>
          <a:xfrm>
            <a:off x="3123720" y="388620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0" name="Straight Arrow Connector 16"/>
          <p:cNvCxnSpPr>
            <a:endCxn id="338" idx="1"/>
          </p:cNvCxnSpPr>
          <p:nvPr/>
        </p:nvCxnSpPr>
        <p:spPr>
          <a:xfrm>
            <a:off x="6019920" y="3886200"/>
            <a:ext cx="4579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1" name="Oval 13"/>
          <p:cNvSpPr/>
          <p:nvPr/>
        </p:nvSpPr>
        <p:spPr>
          <a:xfrm>
            <a:off x="6553080" y="4648320"/>
            <a:ext cx="1981440" cy="1523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Calibri"/>
                <a:cs typeface="B Koodak"/>
              </a:rPr>
              <a:t>درکسب وکار ايراني حوزه هاي جذاب کسب وکارکدامهاهستند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own Arrow 14"/>
          <p:cNvSpPr/>
          <p:nvPr/>
        </p:nvSpPr>
        <p:spPr>
          <a:xfrm>
            <a:off x="7288200" y="4343400"/>
            <a:ext cx="484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G:\ \iran.gif"/>
          <p:cNvPicPr/>
          <p:nvPr/>
        </p:nvPicPr>
        <p:blipFill>
          <a:blip r:embed="rId1"/>
          <a:stretch/>
        </p:blipFill>
        <p:spPr>
          <a:xfrm>
            <a:off x="6858000" y="1447920"/>
            <a:ext cx="20574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02" dur="20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1–</a:t>
            </a:r>
            <a:fld id="{A9DC42DC-6227-47EE-ADD6-BFE20B5108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B Nazanin"/>
              </a:rPr>
              <a:t>اجزاء يک مدل ارزشيابي چيست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Group 8"/>
          <p:cNvGrpSpPr/>
          <p:nvPr/>
        </p:nvGrpSpPr>
        <p:grpSpPr>
          <a:xfrm>
            <a:off x="3124080" y="1523880"/>
            <a:ext cx="4953240" cy="4419720"/>
            <a:chOff x="3124080" y="1523880"/>
            <a:chExt cx="4953240" cy="4419720"/>
          </a:xfrm>
        </p:grpSpPr>
        <p:sp>
          <p:nvSpPr>
            <p:cNvPr id="348" name="Rectangle 3"/>
            <p:cNvSpPr/>
            <p:nvPr/>
          </p:nvSpPr>
          <p:spPr>
            <a:xfrm>
              <a:off x="3124080" y="1523880"/>
              <a:ext cx="2895840" cy="1143000"/>
            </a:xfrm>
            <a:prstGeom prst="rect">
              <a:avLst/>
            </a:prstGeom>
            <a:solidFill>
              <a:srgbClr val="c0504d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  <a:cs typeface="B Nazanin"/>
                </a:rPr>
                <a:t>ارزش هاي حاکم بر مد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5791320" y="3276720"/>
              <a:ext cx="2286000" cy="1143000"/>
            </a:xfrm>
            <a:prstGeom prst="rect">
              <a:avLst/>
            </a:prstGeom>
            <a:solidFill>
              <a:srgbClr val="808000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ffff"/>
                  </a:solidFill>
                  <a:latin typeface="Arial"/>
                  <a:cs typeface="B Nazanin"/>
                </a:rPr>
                <a:t>رويکرد اصلي ارزشياب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"/>
            <p:cNvSpPr/>
            <p:nvPr/>
          </p:nvSpPr>
          <p:spPr>
            <a:xfrm>
              <a:off x="3429000" y="4921200"/>
              <a:ext cx="2286000" cy="102240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ffff"/>
                  </a:solidFill>
                  <a:latin typeface="Arial"/>
                  <a:cs typeface="B Nazanin"/>
                </a:rPr>
                <a:t>معيارهاي مد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1" name="Object 21"/>
          <p:cNvGraphicFramePr/>
          <p:nvPr/>
        </p:nvGraphicFramePr>
        <p:xfrm>
          <a:off x="2209680" y="2550960"/>
          <a:ext cx="3733920" cy="25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50960"/>
                    <a:ext cx="3733920" cy="25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7"/>
          <p:cNvSpPr/>
          <p:nvPr/>
        </p:nvSpPr>
        <p:spPr>
          <a:xfrm>
            <a:off x="533520" y="3200400"/>
            <a:ext cx="2438280" cy="114300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B Nazanin"/>
              </a:rPr>
              <a:t>اجزاء  اصلي مدل ارزشيا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3"/>
          <a:stretch/>
        </p:blipFill>
        <p:spPr>
          <a:xfrm>
            <a:off x="0" y="1143000"/>
            <a:ext cx="214776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380880" y="228600"/>
            <a:ext cx="811440" cy="584280"/>
            <a:chOff x="380880" y="228600"/>
            <a:chExt cx="811440" cy="584280"/>
          </a:xfrm>
        </p:grpSpPr>
        <p:sp>
          <p:nvSpPr>
            <p:cNvPr id="356" name="Rectangle 5"/>
            <p:cNvSpPr/>
            <p:nvPr/>
          </p:nvSpPr>
          <p:spPr>
            <a:xfrm>
              <a:off x="380880" y="228600"/>
              <a:ext cx="811440" cy="58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Picture 6" descr="Symbol-Small"/>
            <p:cNvPicPr/>
            <p:nvPr/>
          </p:nvPicPr>
          <p:blipFill>
            <a:blip r:embed="rId1"/>
            <a:stretch/>
          </p:blipFill>
          <p:spPr>
            <a:xfrm>
              <a:off x="534960" y="260280"/>
              <a:ext cx="4953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WordArt 7"/>
            <p:cNvSpPr txBox="1"/>
            <p:nvPr/>
          </p:nvSpPr>
          <p:spPr>
            <a:xfrm>
              <a:off x="485640" y="576360"/>
              <a:ext cx="608040" cy="20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جايزه ملي مديريت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و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تعالي مديران و رهبران سازماني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59" name="Rectangle 8"/>
          <p:cNvSpPr/>
          <p:nvPr/>
        </p:nvSpPr>
        <p:spPr>
          <a:xfrm>
            <a:off x="1371600" y="363240"/>
            <a:ext cx="7620120" cy="119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Garamond"/>
                <a:ea typeface="B Nazanin"/>
              </a:rPr>
              <a:t> </a:t>
            </a:r>
            <a:r>
              <a:rPr b="1" lang="ar-SA" sz="3600" spc="-1" strike="noStrike">
                <a:solidFill>
                  <a:srgbClr val="3333cc"/>
                </a:solidFill>
                <a:latin typeface="Garamond"/>
                <a:cs typeface="B Nazanin"/>
              </a:rPr>
              <a:t>ارزشهاي </a:t>
            </a:r>
            <a:r>
              <a:rPr b="1" lang="fa-IR" sz="3600" spc="-1" strike="noStrike">
                <a:solidFill>
                  <a:srgbClr val="3333cc"/>
                </a:solidFill>
                <a:latin typeface="Garamond"/>
                <a:cs typeface="B Nazanin"/>
              </a:rPr>
              <a:t>مدل ارزشيابي مديران ورهبران سازماني</a:t>
            </a:r>
            <a:r>
              <a:rPr b="1" lang="fa-IR" sz="3600" spc="-1" strike="noStrike">
                <a:solidFill>
                  <a:srgbClr val="3333cc"/>
                </a:solidFill>
                <a:latin typeface="Garamond"/>
                <a:ea typeface="B Nazanin"/>
              </a:rPr>
              <a:t> </a:t>
            </a:r>
            <a:r>
              <a:rPr b="1" lang="ar-SA" sz="3600" spc="-1" strike="noStrike">
                <a:solidFill>
                  <a:srgbClr val="3333cc"/>
                </a:solidFill>
                <a:latin typeface="Garamond"/>
                <a:ea typeface="B Nazani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ea typeface="B Nazani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9"/>
          <p:cNvGrpSpPr/>
          <p:nvPr/>
        </p:nvGrpSpPr>
        <p:grpSpPr>
          <a:xfrm>
            <a:off x="1981080" y="1600200"/>
            <a:ext cx="6782040" cy="4952880"/>
            <a:chOff x="1981080" y="1600200"/>
            <a:chExt cx="6782040" cy="4952880"/>
          </a:xfrm>
        </p:grpSpPr>
        <p:sp>
          <p:nvSpPr>
            <p:cNvPr id="361" name="Oval 10"/>
            <p:cNvSpPr/>
            <p:nvPr/>
          </p:nvSpPr>
          <p:spPr>
            <a:xfrm>
              <a:off x="1981080" y="1600200"/>
              <a:ext cx="6782040" cy="495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1"/>
            <p:cNvSpPr/>
            <p:nvPr/>
          </p:nvSpPr>
          <p:spPr>
            <a:xfrm>
              <a:off x="3888360" y="3219480"/>
              <a:ext cx="2872800" cy="169056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 flipV="1">
              <a:off x="5568480" y="1627920"/>
              <a:ext cx="211680" cy="15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 flipH="1" flipV="1">
              <a:off x="4218120" y="1754640"/>
              <a:ext cx="51768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"/>
            <p:cNvSpPr/>
            <p:nvPr/>
          </p:nvSpPr>
          <p:spPr>
            <a:xfrm flipH="1" flipV="1">
              <a:off x="2781360" y="2493000"/>
              <a:ext cx="142452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5"/>
            <p:cNvSpPr/>
            <p:nvPr/>
          </p:nvSpPr>
          <p:spPr>
            <a:xfrm flipH="1">
              <a:off x="6112080" y="2016720"/>
              <a:ext cx="1155240" cy="13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6"/>
            <p:cNvSpPr/>
            <p:nvPr/>
          </p:nvSpPr>
          <p:spPr>
            <a:xfrm flipH="1" flipV="1">
              <a:off x="6749640" y="4124160"/>
              <a:ext cx="2001600" cy="15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7"/>
            <p:cNvSpPr/>
            <p:nvPr/>
          </p:nvSpPr>
          <p:spPr>
            <a:xfrm flipH="1" flipV="1">
              <a:off x="6478560" y="4564440"/>
              <a:ext cx="1554120" cy="10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8"/>
            <p:cNvSpPr/>
            <p:nvPr/>
          </p:nvSpPr>
          <p:spPr>
            <a:xfrm flipH="1" flipV="1">
              <a:off x="5806440" y="4855680"/>
              <a:ext cx="718920" cy="15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9"/>
            <p:cNvSpPr/>
            <p:nvPr/>
          </p:nvSpPr>
          <p:spPr>
            <a:xfrm flipH="1">
              <a:off x="4948200" y="4903560"/>
              <a:ext cx="175680" cy="161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0"/>
            <p:cNvSpPr/>
            <p:nvPr/>
          </p:nvSpPr>
          <p:spPr>
            <a:xfrm flipH="1">
              <a:off x="3417120" y="4743360"/>
              <a:ext cx="10242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1"/>
            <p:cNvSpPr/>
            <p:nvPr/>
          </p:nvSpPr>
          <p:spPr>
            <a:xfrm flipH="1">
              <a:off x="2263320" y="4386240"/>
              <a:ext cx="1730520" cy="65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2"/>
            <p:cNvSpPr/>
            <p:nvPr/>
          </p:nvSpPr>
          <p:spPr>
            <a:xfrm flipH="1" flipV="1">
              <a:off x="2004480" y="3743280"/>
              <a:ext cx="1918800" cy="1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3"/>
            <p:cNvSpPr/>
            <p:nvPr/>
          </p:nvSpPr>
          <p:spPr>
            <a:xfrm flipH="1">
              <a:off x="6629760" y="2898000"/>
              <a:ext cx="173304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WordArt 24"/>
            <p:cNvSpPr txBox="1"/>
            <p:nvPr/>
          </p:nvSpPr>
          <p:spPr>
            <a:xfrm>
              <a:off x="6549480" y="2873160"/>
              <a:ext cx="1250280" cy="24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رهبري و آينده‌نگر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76" name="WordArt 25"/>
            <p:cNvSpPr txBox="1"/>
            <p:nvPr/>
          </p:nvSpPr>
          <p:spPr>
            <a:xfrm>
              <a:off x="5762160" y="2255040"/>
              <a:ext cx="812160" cy="27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مشتري مدار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377" name="WordArt 26" descr=""/>
            <p:cNvPicPr/>
            <p:nvPr/>
          </p:nvPicPr>
          <p:blipFill>
            <a:blip r:embed="rId2"/>
            <a:stretch/>
          </p:blipFill>
          <p:spPr>
            <a:xfrm>
              <a:off x="4028760" y="3907440"/>
              <a:ext cx="2572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WordArt 27"/>
            <p:cNvSpPr txBox="1"/>
            <p:nvPr/>
          </p:nvSpPr>
          <p:spPr>
            <a:xfrm>
              <a:off x="4561920" y="1947600"/>
              <a:ext cx="953280" cy="110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تعالي جويي و 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حفظ قابليت 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يادگيري فرد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و سازمان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79" name="WordArt 28"/>
            <p:cNvSpPr txBox="1"/>
            <p:nvPr/>
          </p:nvSpPr>
          <p:spPr>
            <a:xfrm>
              <a:off x="3412800" y="2543760"/>
              <a:ext cx="9889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خلاقيت و نوآور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80" name="WordArt 29"/>
            <p:cNvSpPr txBox="1"/>
            <p:nvPr/>
          </p:nvSpPr>
          <p:spPr>
            <a:xfrm>
              <a:off x="2734560" y="3326400"/>
              <a:ext cx="1082880" cy="28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بهبود مستمر و آن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81" name="WordArt 30"/>
            <p:cNvSpPr txBox="1"/>
            <p:nvPr/>
          </p:nvSpPr>
          <p:spPr>
            <a:xfrm>
              <a:off x="2369520" y="4084560"/>
              <a:ext cx="1047600" cy="48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توجه به مسئوليتها 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و تعاملات اجتماع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82" name="WordArt 31"/>
            <p:cNvSpPr txBox="1"/>
            <p:nvPr/>
          </p:nvSpPr>
          <p:spPr>
            <a:xfrm>
              <a:off x="2901600" y="5015520"/>
              <a:ext cx="849960" cy="47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نتيجه گرايي 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و خلق ارزش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83" name="WordArt 32"/>
            <p:cNvSpPr txBox="1"/>
            <p:nvPr/>
          </p:nvSpPr>
          <p:spPr>
            <a:xfrm>
              <a:off x="4053240" y="5475240"/>
              <a:ext cx="80064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توانمند ساز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كاركنان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84" name="WordArt 33"/>
            <p:cNvSpPr txBox="1"/>
            <p:nvPr/>
          </p:nvSpPr>
          <p:spPr>
            <a:xfrm>
              <a:off x="5160240" y="5391720"/>
              <a:ext cx="80064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تصميم گيري 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بر اساس حقايق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و شواهد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85" name="WordArt 34"/>
            <p:cNvSpPr txBox="1"/>
            <p:nvPr/>
          </p:nvSpPr>
          <p:spPr>
            <a:xfrm>
              <a:off x="6373080" y="5296680"/>
              <a:ext cx="694440" cy="20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پاسخگوي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86" name="WordArt 35"/>
            <p:cNvSpPr txBox="1"/>
            <p:nvPr/>
          </p:nvSpPr>
          <p:spPr>
            <a:xfrm>
              <a:off x="7138080" y="4522680"/>
              <a:ext cx="10008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عدالت محور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87" name="WordArt 36"/>
            <p:cNvSpPr txBox="1"/>
            <p:nvPr/>
          </p:nvSpPr>
          <p:spPr>
            <a:xfrm>
              <a:off x="7161840" y="3689280"/>
              <a:ext cx="1189080" cy="20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شايسته سالاري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88" name="Slide Numb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5EB8-5F7D-47DA-BFFB-D83152CA432E}" type="slidenum">
              <a:rPr b="0" lang="fa-I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7" descr="C:\Documents and Settings\Amiran\My Documents\My Pictures\leadership\index1.jpeg"/>
          <p:cNvPicPr/>
          <p:nvPr/>
        </p:nvPicPr>
        <p:blipFill>
          <a:blip r:embed="rId3"/>
          <a:stretch/>
        </p:blipFill>
        <p:spPr>
          <a:xfrm>
            <a:off x="228600" y="2295360"/>
            <a:ext cx="1523880" cy="29624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3"/>
          <p:cNvSpPr/>
          <p:nvPr/>
        </p:nvSpPr>
        <p:spPr>
          <a:xfrm>
            <a:off x="5175360" y="1447920"/>
            <a:ext cx="2749320" cy="1295280"/>
          </a:xfrm>
          <a:prstGeom prst="wedgeRoundRectCallout">
            <a:avLst>
              <a:gd name="adj1" fmla="val -45486"/>
              <a:gd name="adj2" fmla="val 81222"/>
              <a:gd name="adj3" fmla="val 16667"/>
            </a:avLst>
          </a:prstGeom>
          <a:solidFill>
            <a:srgbClr val="ffff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66"/>
                </a:solidFill>
                <a:latin typeface="Calibri"/>
                <a:ea typeface="B Nazanin"/>
              </a:rPr>
              <a:t>1-</a:t>
            </a:r>
            <a:r>
              <a:rPr b="1" lang="fa-IR" sz="2400" spc="-1" strike="noStrike">
                <a:solidFill>
                  <a:srgbClr val="003366"/>
                </a:solidFill>
                <a:latin typeface="Calibri"/>
                <a:cs typeface="B Nazanin"/>
              </a:rPr>
              <a:t>اندازه گيري وتحليل نتاي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B Nazanin"/>
              </a:rPr>
              <a:t>(RES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498600" y="5184720"/>
            <a:ext cx="3009600" cy="1216080"/>
          </a:xfrm>
          <a:prstGeom prst="wedgeRoundRectCallout">
            <a:avLst>
              <a:gd name="adj1" fmla="val 50791"/>
              <a:gd name="adj2" fmla="val -101106"/>
              <a:gd name="adj3" fmla="val 16667"/>
            </a:avLst>
          </a:prstGeom>
          <a:solidFill>
            <a:srgbClr val="c6d9f1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66"/>
                </a:solidFill>
                <a:latin typeface="Calibri"/>
                <a:ea typeface="B Nazanin"/>
              </a:rPr>
              <a:t>4-</a:t>
            </a:r>
            <a:r>
              <a:rPr b="1" lang="fa-IR" sz="2400" spc="-1" strike="noStrike">
                <a:solidFill>
                  <a:srgbClr val="003366"/>
                </a:solidFill>
                <a:latin typeface="Calibri"/>
                <a:cs typeface="B Nazanin"/>
              </a:rPr>
              <a:t>تامين  وايجادشايستگي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B Nazanin"/>
              </a:rPr>
              <a:t>(PROV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80880" y="3327480"/>
            <a:ext cx="2600280" cy="1473120"/>
          </a:xfrm>
          <a:prstGeom prst="wedgeRoundRectCallout">
            <a:avLst>
              <a:gd name="adj1" fmla="val 69291"/>
              <a:gd name="adj2" fmla="val -6787"/>
              <a:gd name="adj3" fmla="val 16667"/>
            </a:avLst>
          </a:prstGeom>
          <a:solidFill>
            <a:srgbClr val="ccc1da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66"/>
                </a:solidFill>
                <a:latin typeface="Calibri"/>
                <a:ea typeface="B Nazanin"/>
              </a:rPr>
              <a:t>5- </a:t>
            </a:r>
            <a:r>
              <a:rPr b="1" lang="fa-IR" sz="2400" spc="-1" strike="noStrike">
                <a:solidFill>
                  <a:srgbClr val="003366"/>
                </a:solidFill>
                <a:latin typeface="Calibri"/>
                <a:cs typeface="B Nazanin"/>
              </a:rPr>
              <a:t>اندازه گيري مجدد نتاي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B Nazanin"/>
              </a:rPr>
              <a:t>(RE</a:t>
            </a:r>
            <a:r>
              <a:rPr b="1" lang="fa-IR" sz="2400" spc="-1" strike="noStrike">
                <a:solidFill>
                  <a:srgbClr val="003366"/>
                </a:solidFill>
                <a:latin typeface="Calibri"/>
                <a:ea typeface="B Nazanin"/>
              </a:rPr>
              <a:t>-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B Nazanin"/>
              </a:rPr>
              <a:t>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6138720" y="2913120"/>
            <a:ext cx="2522520" cy="1873080"/>
          </a:xfrm>
          <a:prstGeom prst="wedgeRoundRectCallout">
            <a:avLst>
              <a:gd name="adj1" fmla="val -79263"/>
              <a:gd name="adj2" fmla="val -6925"/>
              <a:gd name="adj3" fmla="val 16667"/>
            </a:avLst>
          </a:prstGeom>
          <a:solidFill>
            <a:srgbClr val="ffc0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7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Calibri"/>
                <a:ea typeface="B Nazanin"/>
              </a:rPr>
              <a:t>2-</a:t>
            </a:r>
            <a:r>
              <a:rPr b="1" lang="fa-IR" sz="2000" spc="-1" strike="noStrike">
                <a:solidFill>
                  <a:srgbClr val="003366"/>
                </a:solidFill>
                <a:latin typeface="Calibri"/>
                <a:cs typeface="B Nazanin"/>
              </a:rPr>
              <a:t>اندازه گيري  ميزان شايستگي مديران، مطابق بانتايج</a:t>
            </a:r>
            <a:r>
              <a:rPr b="1" lang="fa-IR" sz="2000" spc="-1" strike="noStrike">
                <a:solidFill>
                  <a:srgbClr val="003366"/>
                </a:solidFill>
                <a:latin typeface="Calibri"/>
                <a:ea typeface="B Nazani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Calibri"/>
                <a:cs typeface="B Nazanin"/>
              </a:rPr>
              <a:t>اندازه گيري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Calibri"/>
                <a:ea typeface="B Nazani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  <a:ea typeface="B Nazanin"/>
              </a:rPr>
              <a:t>(EVALU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914400" y="1611360"/>
            <a:ext cx="3006720" cy="1512720"/>
          </a:xfrm>
          <a:prstGeom prst="wedgeRoundRectCallout">
            <a:avLst>
              <a:gd name="adj1" fmla="val 50685"/>
              <a:gd name="adj2" fmla="val 86217"/>
              <a:gd name="adj3" fmla="val 16667"/>
            </a:avLst>
          </a:prstGeom>
          <a:solidFill>
            <a:srgbClr val="fcd5b5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Calibri"/>
                <a:ea typeface="B Nazanin"/>
              </a:rPr>
              <a:t>6- </a:t>
            </a:r>
            <a:r>
              <a:rPr b="1" lang="fa-IR" sz="2000" spc="-1" strike="noStrike">
                <a:solidFill>
                  <a:srgbClr val="003366"/>
                </a:solidFill>
                <a:latin typeface="Calibri"/>
                <a:cs typeface="B Nazanin"/>
              </a:rPr>
              <a:t>بازنگري يا استانداردسازي</a:t>
            </a:r>
            <a:r>
              <a:rPr b="1" lang="fa-IR" sz="2000" spc="-1" strike="noStrike">
                <a:solidFill>
                  <a:srgbClr val="003366"/>
                </a:solidFill>
                <a:latin typeface="Calibri"/>
                <a:ea typeface="B Nazani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66"/>
                </a:solidFill>
                <a:latin typeface="Calibri"/>
                <a:cs typeface="B Nazanin"/>
              </a:rPr>
              <a:t>شايستگي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  <a:ea typeface="B Nazanin"/>
              </a:rPr>
              <a:t>(REVIEW OR STANDARDIZA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20625502"/>
          <p:cNvPicPr/>
          <p:nvPr/>
        </p:nvPicPr>
        <p:blipFill>
          <a:blip r:embed="rId1"/>
          <a:stretch/>
        </p:blipFill>
        <p:spPr>
          <a:xfrm>
            <a:off x="3733920" y="2514600"/>
            <a:ext cx="1577880" cy="3629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8d0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Calibri"/>
                <a:cs typeface="B Nazanin"/>
              </a:rPr>
              <a:t>رويکرداصلي مدل ارزشيابي مديران</a:t>
            </a:r>
            <a:r>
              <a:rPr b="1" lang="fa-IR" sz="6000" spc="-1" strike="noStrike">
                <a:solidFill>
                  <a:srgbClr val="000000"/>
                </a:solidFill>
                <a:latin typeface="Calibri"/>
                <a:ea typeface="B Nazani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B Nazanin"/>
              </a:rPr>
              <a:t>RECP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9E4E-72AC-40DF-9EFD-226127A1B7E6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B Nazan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898989"/>
                </a:solidFill>
                <a:latin typeface="Calibri"/>
                <a:ea typeface="B Nazanin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5638680" y="4876920"/>
            <a:ext cx="2522520" cy="1662120"/>
          </a:xfrm>
          <a:prstGeom prst="wedgeRoundRectCallout">
            <a:avLst>
              <a:gd name="adj1" fmla="val -79263"/>
              <a:gd name="adj2" fmla="val -6925"/>
              <a:gd name="adj3" fmla="val 16667"/>
            </a:avLst>
          </a:prstGeom>
          <a:solidFill>
            <a:srgbClr val="92d05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8000"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3366"/>
                </a:solidFill>
                <a:latin typeface="Calibri"/>
                <a:ea typeface="B Nazanin"/>
              </a:rPr>
              <a:t>3-</a:t>
            </a:r>
            <a:r>
              <a:rPr b="1" lang="fa-IR" sz="1800" spc="-1" strike="noStrike">
                <a:solidFill>
                  <a:srgbClr val="003366"/>
                </a:solidFill>
                <a:latin typeface="Calibri"/>
                <a:cs typeface="B Nazanin"/>
              </a:rPr>
              <a:t>شناسايي فرصت هاي بهبودوايجاد شايستگي مديران، مطابق بابررسي هاي به عمل آم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  <a:ea typeface="B Nazanin"/>
              </a:rPr>
              <a:t>(COMPE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FB5-1FB7-4312-AF4B-71AB998AD1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D:\SHERAFAT\19.7.90\New Folder (2)\8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-304920" y="330120"/>
            <a:ext cx="944892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Calibri"/>
                <a:cs typeface="B Nazanin"/>
              </a:rPr>
              <a:t>نبايد فراموش کرد که ديدگاه اصلي در ارزشيابي مديران ، برارتقاي شايستگي هاي آنها استوار است</a:t>
            </a:r>
            <a:r>
              <a:rPr b="1" lang="fa-IR" sz="2800" spc="-1" strike="noStrike">
                <a:solidFill>
                  <a:srgbClr val="ffffff"/>
                </a:solidFill>
                <a:latin typeface="Calibri"/>
                <a:ea typeface="B Nazanin"/>
              </a:rPr>
              <a:t> </a:t>
            </a:r>
            <a:r>
              <a:rPr b="1" lang="fa-IR" sz="2800" spc="-1" strike="noStrike">
                <a:solidFill>
                  <a:srgbClr val="ffffff"/>
                </a:solidFill>
                <a:latin typeface="Calibri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925C-6469-4A43-B41D-6ACE7D1F89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rayan system\Desktop\team work\teamwork_pic_small_20100313204854.jpg"/>
          <p:cNvPicPr/>
          <p:nvPr/>
        </p:nvPicPr>
        <p:blipFill>
          <a:blip r:embed="rId1"/>
          <a:stretch/>
        </p:blipFill>
        <p:spPr>
          <a:xfrm>
            <a:off x="76320" y="122400"/>
            <a:ext cx="8915400" cy="6126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2209680" y="1143000"/>
            <a:ext cx="4953240" cy="3886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ff"/>
                </a:solidFill>
                <a:latin typeface="Calibri"/>
                <a:cs typeface="B Nazanin"/>
              </a:rPr>
              <a:t>بخش اول</a:t>
            </a:r>
            <a:r>
              <a:rPr b="1" lang="fa-IR" sz="5400" spc="-1" strike="noStrike">
                <a:solidFill>
                  <a:srgbClr val="ffffff"/>
                </a:solidFill>
                <a:latin typeface="Calibri"/>
                <a:ea typeface="B Nazani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ff"/>
                </a:solidFill>
                <a:latin typeface="Calibri"/>
                <a:cs typeface="B Nazanin"/>
              </a:rPr>
              <a:t>آشنايي با مباني نظر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3RD IRAN MANAGEMENT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6B95-E0DB-4C39-A943-F3A687BF96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F:\daily task\me\logo\جایزه مدیریت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3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آرمان ما</a:t>
            </a:r>
            <a:br>
              <a:rPr sz="2800"/>
            </a:b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رتقاي کيفيت مديريت ايراني است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Nazani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  <p:pic>
        <p:nvPicPr>
          <p:cNvPr id="412" name="Picture 2" descr="D:\SHERAFAT\New Image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4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808C-93E4-497A-B801-C22F347FF1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D:\AKHLAGHI\JPEGS for Dr. Amiran\Strategic Managment ( Fifth version)-22-1.jpg"/>
          <p:cNvPicPr/>
          <p:nvPr/>
        </p:nvPicPr>
        <p:blipFill>
          <a:blip r:embed="rId2"/>
          <a:stretch/>
        </p:blipFill>
        <p:spPr>
          <a:xfrm>
            <a:off x="228600" y="-2286000"/>
            <a:ext cx="8534520" cy="80010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762120" y="5257800"/>
            <a:ext cx="7467480" cy="5335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Calibri"/>
              </a:rPr>
              <a:t>ويژگي هاي مورد ارزشيابي</a:t>
            </a:r>
            <a:r>
              <a:rPr b="1" lang="fa-I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Calibri"/>
                <a:cs typeface="B Nazanin"/>
              </a:rPr>
              <a:t>متوسط درصد امتياز اخذ شده از معيارهاي مدل  ارزشيابي مديران در سازمان هاي ايراني   (براساس نتايج سومين دوره جايزه مديريت ايران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44BA-BCA0-4450-A018-86D5A78E4F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Content Placeholder 5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8138_umpire"/>
          <p:cNvPicPr/>
          <p:nvPr/>
        </p:nvPicPr>
        <p:blipFill>
          <a:blip r:embed="rId1"/>
          <a:srcRect l="0" t="6400" r="0" b="3200"/>
          <a:stretch/>
        </p:blipFill>
        <p:spPr>
          <a:xfrm>
            <a:off x="0" y="94284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Sepideh"/>
              </a:rPr>
              <a:t>پس تلاش براي آنچه که مديران را قادر مي سازد به نتايج مورد نظر برسند هدف ومنظور ارزشيابي است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Sepide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0423-C19B-44EC-8965-F7566C149E9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Baran"/>
              </a:rPr>
              <a:t>درجه اهميت فرصت هاي بهبود به تفکيک سازمان هاي ايران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851D-D201-4CA0-B411-EC6A83567D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Content Placeholder 5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F15-FDD8-4CE3-A859-03BF18A8D7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C:\Users\rayan system\Desktop\team work\teamwork_pic_small_20100313204854.jpg"/>
          <p:cNvPicPr/>
          <p:nvPr/>
        </p:nvPicPr>
        <p:blipFill>
          <a:blip r:embed="rId1"/>
          <a:stretch/>
        </p:blipFill>
        <p:spPr>
          <a:xfrm>
            <a:off x="76320" y="122400"/>
            <a:ext cx="8915400" cy="61261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6"/>
          <p:cNvSpPr/>
          <p:nvPr/>
        </p:nvSpPr>
        <p:spPr>
          <a:xfrm>
            <a:off x="2209680" y="1143000"/>
            <a:ext cx="4953240" cy="3886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ff"/>
                </a:solidFill>
                <a:latin typeface="Calibri"/>
                <a:cs typeface="B Nazanin"/>
              </a:rPr>
              <a:t>بخش دوم</a:t>
            </a:r>
            <a:r>
              <a:rPr b="1" lang="fa-IR" sz="5400" spc="-1" strike="noStrike">
                <a:solidFill>
                  <a:srgbClr val="ffffff"/>
                </a:solidFill>
                <a:latin typeface="Calibri"/>
                <a:ea typeface="B Nazani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ff"/>
                </a:solidFill>
                <a:latin typeface="Calibri"/>
                <a:cs typeface="B Nazanin"/>
              </a:rPr>
              <a:t>آشنايي با معيارهاي ارزشيابي مديران</a:t>
            </a:r>
            <a:r>
              <a:rPr b="1" lang="fa-IR" sz="5400" spc="-1" strike="noStrike">
                <a:solidFill>
                  <a:srgbClr val="ffffff"/>
                </a:solidFill>
                <a:latin typeface="Calibri"/>
                <a:ea typeface="B Nazani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  <p:pic>
        <p:nvPicPr>
          <p:cNvPr id="436" name="Picture 2" descr="D:\SHERAFAT\New Image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4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9F46-2168-4FF6-A6D7-074ED6252F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D:\AKHLAGHI\JPEGS for Dr. Amiran\Strategic Managment ( Fifth version)-22-1.jpg"/>
          <p:cNvPicPr/>
          <p:nvPr/>
        </p:nvPicPr>
        <p:blipFill>
          <a:blip r:embed="rId2"/>
          <a:stretch/>
        </p:blipFill>
        <p:spPr>
          <a:xfrm>
            <a:off x="228600" y="-2286000"/>
            <a:ext cx="8534520" cy="80010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762120" y="5257800"/>
            <a:ext cx="7467480" cy="5335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Calibri"/>
              </a:rPr>
              <a:t>ويژگي هاي مورد ارزشيابي</a:t>
            </a:r>
            <a:r>
              <a:rPr b="1" lang="fa-I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000000"/>
                </a:solidFill>
                <a:latin typeface="Calibri"/>
                <a:cs typeface="B Koodak"/>
              </a:rPr>
              <a:t>مقايسه هزينه عملکرد هريک از سطح مديران در شرکت هاي ايراني</a:t>
            </a:r>
            <a:r>
              <a:rPr b="1" i="1" lang="fa-IR" sz="4000" spc="-1" strike="noStrike">
                <a:solidFill>
                  <a:srgbClr val="000000"/>
                </a:solidFill>
                <a:latin typeface="Calibri"/>
                <a:ea typeface="B Kooda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Content Placeholder 5" descr=""/>
          <p:cNvPicPr/>
          <p:nvPr/>
        </p:nvPicPr>
        <p:blipFill>
          <a:blip r:embed="rId1"/>
          <a:stretch/>
        </p:blipFill>
        <p:spPr>
          <a:xfrm>
            <a:off x="-6480" y="1603440"/>
            <a:ext cx="9156960" cy="4552920"/>
          </a:xfrm>
          <a:prstGeom prst="rect">
            <a:avLst/>
          </a:prstGeom>
          <a:ln w="0">
            <a:noFill/>
          </a:ln>
        </p:spPr>
      </p:pic>
      <p:sp>
        <p:nvSpPr>
          <p:cNvPr id="4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8B9C-448D-4FAC-9E3B-5115E3C10E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واع کارکردهاي مورد انتظارسطح مختلف  مديران يک سازمان</a:t>
            </a:r>
            <a:r>
              <a:rPr b="0" lang="fa-I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Content Placeholder 5" descr=""/>
          <p:cNvPicPr/>
          <p:nvPr/>
        </p:nvPicPr>
        <p:blipFill>
          <a:blip r:embed="rId1"/>
          <a:stretch/>
        </p:blipFill>
        <p:spPr>
          <a:xfrm>
            <a:off x="139680" y="1511280"/>
            <a:ext cx="9023400" cy="463392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1FF3-8974-42DB-96B7-3A47FBCA10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346960" cy="3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Linking Vision, Planning and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1482120" y="184464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ission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607400" y="256536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ision and Cor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841040" y="33577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rategic Plan (3y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131200" y="414972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perational  Plan (1y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2580840" y="500076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epartment and team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2858760" y="5805360"/>
            <a:ext cx="484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dividual Performance Develop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2340000" y="2205000"/>
            <a:ext cx="21600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2627280" y="2924280"/>
            <a:ext cx="21600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2916360" y="3716280"/>
            <a:ext cx="215640" cy="577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3203640" y="4508640"/>
            <a:ext cx="21744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3492360" y="5373720"/>
            <a:ext cx="21600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A570-3FBC-4241-A48D-7C31BD621B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2514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1f497d"/>
                </a:solidFill>
                <a:latin typeface="Georgia"/>
                <a:cs typeface="B Koodak"/>
              </a:rPr>
              <a:t>ارزشيابي مديران يعني تعيين ميزان موفقيت مديران در تحقق اهداف سازمان وميزان کاميابي آنها در حفظ واستمرار بقاي سازمان خود</a:t>
            </a:r>
            <a:r>
              <a:rPr b="0" lang="fa-IR" sz="4400" spc="-1" strike="noStrike">
                <a:solidFill>
                  <a:srgbClr val="1f497d"/>
                </a:solidFill>
                <a:latin typeface="Georgia"/>
                <a:ea typeface="B Kooda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594360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228600" y="2133720"/>
            <a:ext cx="4343400" cy="228600"/>
          </a:xfrm>
          <a:custGeom>
            <a:avLst/>
            <a:gdLst>
              <a:gd name="textAreaLeft" fmla="*/ 678600 w 4343400"/>
              <a:gd name="textAreaRight" fmla="*/ 4343400 w 4343400"/>
              <a:gd name="textAreaTop" fmla="*/ 3240 h 228600"/>
              <a:gd name="textAreaBottom" fmla="*/ 2253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338"/>
                </a:lnTo>
                <a:lnTo>
                  <a:pt x="3375" y="338"/>
                </a:lnTo>
                <a:lnTo>
                  <a:pt x="3375" y="21262"/>
                </a:lnTo>
                <a:lnTo>
                  <a:pt x="21600" y="21262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0"/>
                </a:lnTo>
                <a:close/>
              </a:path>
              <a:path w="21600" h="21600">
                <a:moveTo>
                  <a:pt x="1350" y="338"/>
                </a:moveTo>
                <a:lnTo>
                  <a:pt x="1350" y="21262"/>
                </a:lnTo>
                <a:lnTo>
                  <a:pt x="2700" y="21262"/>
                </a:lnTo>
                <a:lnTo>
                  <a:pt x="2700" y="338"/>
                </a:lnTo>
                <a:lnTo>
                  <a:pt x="1350" y="338"/>
                </a:lnTo>
                <a:close/>
              </a:path>
              <a:path w="21600" h="21600">
                <a:moveTo>
                  <a:pt x="0" y="338"/>
                </a:moveTo>
                <a:lnTo>
                  <a:pt x="0" y="21262"/>
                </a:lnTo>
                <a:lnTo>
                  <a:pt x="675" y="21262"/>
                </a:lnTo>
                <a:lnTo>
                  <a:pt x="675" y="338"/>
                </a:lnTo>
                <a:lnTo>
                  <a:pt x="0" y="338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 flipH="1">
            <a:off x="4647600" y="2133720"/>
            <a:ext cx="4343400" cy="228600"/>
          </a:xfrm>
          <a:custGeom>
            <a:avLst/>
            <a:gdLst>
              <a:gd name="textAreaLeft" fmla="*/ 678240 w 4343400"/>
              <a:gd name="textAreaRight" fmla="*/ 4343040 w 4343400"/>
              <a:gd name="textAreaTop" fmla="*/ 3240 h 228600"/>
              <a:gd name="textAreaBottom" fmla="*/ 2253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338"/>
                </a:lnTo>
                <a:lnTo>
                  <a:pt x="3375" y="338"/>
                </a:lnTo>
                <a:lnTo>
                  <a:pt x="3375" y="21262"/>
                </a:lnTo>
                <a:lnTo>
                  <a:pt x="21600" y="21262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0"/>
                </a:lnTo>
                <a:close/>
              </a:path>
              <a:path w="21600" h="21600">
                <a:moveTo>
                  <a:pt x="1350" y="338"/>
                </a:moveTo>
                <a:lnTo>
                  <a:pt x="1350" y="21262"/>
                </a:lnTo>
                <a:lnTo>
                  <a:pt x="2700" y="21262"/>
                </a:lnTo>
                <a:lnTo>
                  <a:pt x="2700" y="338"/>
                </a:lnTo>
                <a:lnTo>
                  <a:pt x="1350" y="338"/>
                </a:lnTo>
                <a:close/>
              </a:path>
              <a:path w="21600" h="21600">
                <a:moveTo>
                  <a:pt x="0" y="338"/>
                </a:moveTo>
                <a:lnTo>
                  <a:pt x="0" y="21262"/>
                </a:lnTo>
                <a:lnTo>
                  <a:pt x="675" y="21262"/>
                </a:lnTo>
                <a:lnTo>
                  <a:pt x="675" y="338"/>
                </a:lnTo>
                <a:lnTo>
                  <a:pt x="0" y="338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0" y="76320"/>
            <a:ext cx="9144000" cy="2775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1f497d"/>
                </a:solidFill>
                <a:latin typeface="Georgia"/>
                <a:cs typeface="B Koodak"/>
              </a:rPr>
              <a:t>ارزشيابي مديران يعني 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83CC-F2DA-4763-AA85-5C6BB26ED7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G:\ \iran.gif"/>
          <p:cNvPicPr/>
          <p:nvPr/>
        </p:nvPicPr>
        <p:blipFill>
          <a:blip r:embed="rId1"/>
          <a:stretch/>
        </p:blipFill>
        <p:spPr>
          <a:xfrm>
            <a:off x="0" y="464832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2  Nazanin"/>
                <a:cs typeface="Times New Roman"/>
              </a:rPr>
              <a:t>ارزشيابي عملکردمديران =</a:t>
            </a:r>
            <a:br>
              <a:rPr sz="4400"/>
            </a:br>
            <a:r>
              <a:rPr b="1" lang="fa-IR" sz="4400" spc="-1" strike="noStrike">
                <a:solidFill>
                  <a:srgbClr val="000000"/>
                </a:solidFill>
                <a:latin typeface="2  Nazanin"/>
                <a:cs typeface="Times New Roman"/>
              </a:rPr>
              <a:t>تلاش براي تغيير فرهنگ سازمان</a:t>
            </a:r>
            <a:r>
              <a:rPr b="1" lang="fa-IR" sz="4400" spc="-1" strike="noStrike">
                <a:solidFill>
                  <a:srgbClr val="000000"/>
                </a:solidFill>
                <a:latin typeface="2  Nazani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Arial"/>
              </a:rPr>
              <a:t>ايجاد فرهنگ نوين مديريت عملکرد مبتني برتاکيد بر موضوعات مهم ز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f497d"/>
                </a:solidFill>
                <a:latin typeface="Calibri"/>
                <a:cs typeface="Arial"/>
              </a:rPr>
              <a:t>کسب نتايج قابل قبول از سازمان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f497d"/>
                </a:solidFill>
                <a:latin typeface="Calibri"/>
                <a:cs typeface="Arial"/>
              </a:rPr>
              <a:t>توانمدنسازي منابع انساني در ايران راست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f497d"/>
                </a:solidFill>
                <a:latin typeface="Calibri"/>
                <a:cs typeface="Arial"/>
              </a:rPr>
              <a:t>رشد مستمر عملکرد سازمان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f497d"/>
                </a:solidFill>
                <a:latin typeface="Calibri"/>
                <a:cs typeface="Arial"/>
              </a:rPr>
              <a:t>تقويت جايگاه اجتماعي سازمان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8" descr="BD05296_"/>
          <p:cNvPicPr/>
          <p:nvPr/>
        </p:nvPicPr>
        <p:blipFill>
          <a:blip r:embed="rId1"/>
          <a:stretch/>
        </p:blipFill>
        <p:spPr>
          <a:xfrm>
            <a:off x="838080" y="2133720"/>
            <a:ext cx="3276720" cy="304164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97E0-DD7C-4EBA-BEFB-77F83531D6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DD9B-709B-44A9-8A0A-6CB52761F9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D:\کسب وکار واقتصاد مقاومتی\مقاومتی\lapto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7"/>
          <p:cNvSpPr/>
          <p:nvPr/>
        </p:nvSpPr>
        <p:spPr>
          <a:xfrm>
            <a:off x="2590920" y="762120"/>
            <a:ext cx="5410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Koodak"/>
              </a:rPr>
              <a:t>هدف در اين ارزشيابي عملکرد مديران ،  فقط وفقط ارتقاي شايستگي هاي آنها است ونه زير سئوال بردن ايش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1143000" y="0"/>
            <a:ext cx="6858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Koodak"/>
              </a:rPr>
              <a:t>مهم ترين نتيجه گيري در ارزشيابي عملکرد مدير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G:\ \iran.gif"/>
          <p:cNvPicPr/>
          <p:nvPr/>
        </p:nvPicPr>
        <p:blipFill>
          <a:blip r:embed="rId2"/>
          <a:stretch/>
        </p:blipFill>
        <p:spPr>
          <a:xfrm>
            <a:off x="7086600" y="4724280"/>
            <a:ext cx="2057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سهم ونقش منابع انساني درحل مسايل سازمان هاي ايرا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4F30-E4B0-4444-A937-B89015B02D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Chart 6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0000"/>
                </a:solidFill>
                <a:latin typeface="Calibri"/>
                <a:cs typeface="Arial"/>
              </a:rPr>
              <a:t>منبع:گزارش آينده کسب وکار در ايران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2248-6A73-466C-AE57-176885BEAF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C:\Users\rayan system\Desktop\team work\teamwork_pic_small_20100313204854.jpg"/>
          <p:cNvPicPr/>
          <p:nvPr/>
        </p:nvPicPr>
        <p:blipFill>
          <a:blip r:embed="rId1"/>
          <a:stretch/>
        </p:blipFill>
        <p:spPr>
          <a:xfrm>
            <a:off x="76320" y="122400"/>
            <a:ext cx="8915400" cy="612612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6"/>
          <p:cNvSpPr/>
          <p:nvPr/>
        </p:nvSpPr>
        <p:spPr>
          <a:xfrm>
            <a:off x="2209680" y="1143000"/>
            <a:ext cx="4953240" cy="3886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ff"/>
                </a:solidFill>
                <a:latin typeface="Calibri"/>
                <a:cs typeface="B Nazanin"/>
              </a:rPr>
              <a:t>بخش سوم</a:t>
            </a:r>
            <a:r>
              <a:rPr b="1" lang="fa-IR" sz="5400" spc="-1" strike="noStrike">
                <a:solidFill>
                  <a:srgbClr val="ffffff"/>
                </a:solidFill>
                <a:latin typeface="Calibri"/>
                <a:ea typeface="B Nazani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ff"/>
                </a:solidFill>
                <a:latin typeface="Calibri"/>
                <a:cs typeface="B Nazanin"/>
              </a:rPr>
              <a:t>آشنايي با نحوه تحليل نتايج  ارزشيابي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B Nazanin"/>
              </a:rPr>
              <a:t> </a:t>
            </a:r>
            <a:r>
              <a:rPr b="1" lang="fa-IR" sz="5400" spc="-1" strike="noStrike">
                <a:solidFill>
                  <a:srgbClr val="ffffff"/>
                </a:solidFill>
                <a:latin typeface="Calibri"/>
                <a:cs typeface="B Nazanin"/>
              </a:rPr>
              <a:t>مدير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A6DB-106D-4F1F-9F2A-1816186095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C:\Users\rayan system\Desktop\team work\gun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Oval 6"/>
          <p:cNvSpPr/>
          <p:nvPr/>
        </p:nvSpPr>
        <p:spPr>
          <a:xfrm>
            <a:off x="3733920" y="76320"/>
            <a:ext cx="5333760" cy="114300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Calibri"/>
                <a:cs typeface="B Nazanin"/>
              </a:rPr>
              <a:t>تلاش براي زيرسئوال بردن مديران ، مساوي است با از بين بردن  مدل ارزشيابي مديران</a:t>
            </a:r>
            <a:r>
              <a:rPr b="1" lang="fa-IR" sz="2400" spc="-1" strike="noStrike">
                <a:solidFill>
                  <a:srgbClr val="ffffff"/>
                </a:solidFill>
                <a:latin typeface="Calibri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7AF0-BC44-42C2-9655-A0539434F1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C:\Users\rayan system\Desktop\team work\direct_communication_marketing.jpg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Oval 6"/>
          <p:cNvSpPr/>
          <p:nvPr/>
        </p:nvSpPr>
        <p:spPr>
          <a:xfrm>
            <a:off x="1447920" y="0"/>
            <a:ext cx="7391160" cy="1752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alibri"/>
                <a:cs typeface="B Nazanin"/>
              </a:rPr>
              <a:t>بيان وطرح نتايج ارزشيابي مديران ، هنر ي ستودني وبسيار مهم است</a:t>
            </a:r>
            <a:r>
              <a:rPr b="1" lang="fa-IR" sz="3200" spc="-1" strike="noStrike">
                <a:solidFill>
                  <a:srgbClr val="ffffff"/>
                </a:solidFill>
                <a:latin typeface="Calibri"/>
                <a:ea typeface="B Nazani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2  Nazanin"/>
                <a:cs typeface="Times New Roman"/>
              </a:rPr>
              <a:t>مهم ترين نکات قابل توجه دراستفاده ازنظام ارزشيابي مديران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2" descr="C:\Documents and Settings\Zahra\Desktop\New Folder (2)\1.jpeg"/>
          <p:cNvPicPr/>
          <p:nvPr/>
        </p:nvPicPr>
        <p:blipFill>
          <a:blip r:embed="rId1"/>
          <a:stretch/>
        </p:blipFill>
        <p:spPr>
          <a:xfrm>
            <a:off x="0" y="1447920"/>
            <a:ext cx="2657520" cy="54100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2590560" y="1371600"/>
            <a:ext cx="6553080" cy="5486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1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- ازنتايج شروع کنيدوآنها را به طورمرتب تحليل کنيد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2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- نگاه 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360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 درجه اي به نتايج داشته باشيد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- به دنبال فرصت هاي بهبود باشيد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4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- به دنبال تغييروبهبود روش ها وفرآيندها باشيد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ff"/>
                </a:solidFill>
                <a:latin typeface="Calibri"/>
                <a:cs typeface="Arial"/>
              </a:rPr>
              <a:t>نه لزوما جابجايي افراد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5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-به موضوعات بپردازيد نه شخصيت افراد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6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- استفاده ازرويکردخوداظهاري را سرلوحه کارخود قراربدهيد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-براي ارزيابي ها ؛حتما از شخص ثالث استفاده کنيد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r>
              <a:rPr b="1" lang="fa-IR" sz="2700" spc="-1" strike="noStrike">
                <a:solidFill>
                  <a:srgbClr val="ffffff"/>
                </a:solidFill>
                <a:latin typeface="Calibri"/>
                <a:ea typeface="Arial"/>
              </a:rPr>
              <a:t>-ارزيابي را به طور پيوسته ، مستمروبرخط انجام بدهيد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2FC7-F61B-4C09-9C29-FDC15AB016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2  Nazanin"/>
                <a:cs typeface="Times New Roman"/>
              </a:rPr>
              <a:t>مهم ترين نکات قابل توجه دراستفاده ازنظام ارزشيابي مديرا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2" descr="C:\Documents and Settings\Zahra\Desktop\New Folder (2)\1.jpeg"/>
          <p:cNvPicPr/>
          <p:nvPr/>
        </p:nvPicPr>
        <p:blipFill>
          <a:blip r:embed="rId1"/>
          <a:stretch/>
        </p:blipFill>
        <p:spPr>
          <a:xfrm>
            <a:off x="0" y="1447920"/>
            <a:ext cx="2657520" cy="5410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2590560" y="1371600"/>
            <a:ext cx="6553080" cy="5486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alibri"/>
                <a:ea typeface="Arial"/>
              </a:rPr>
              <a:t>1</a:t>
            </a:r>
            <a:r>
              <a:rPr b="1" lang="fa-IR" sz="3200" spc="-1" strike="noStrike">
                <a:solidFill>
                  <a:srgbClr val="ffffff"/>
                </a:solidFill>
                <a:latin typeface="Calibri"/>
                <a:ea typeface="Arial"/>
              </a:rPr>
              <a:t>- ازروشها وتحليل هاي آماري استفاده کني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alibri"/>
                <a:ea typeface="Arial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Calibri"/>
                <a:ea typeface="Arial"/>
              </a:rPr>
              <a:t>-درمدل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EM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Calibri"/>
                <a:cs typeface="Arial"/>
              </a:rPr>
              <a:t>به دنبال شناسايي صلاحيت ها وشايستگي هاي مديريتي هستيم که بايد ايجاد ويا تقويت شو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r>
              <a:rPr b="1" lang="fa-IR" sz="3200" spc="-1" strike="noStrike">
                <a:solidFill>
                  <a:srgbClr val="ffffff"/>
                </a:solidFill>
                <a:latin typeface="Calibri"/>
                <a:ea typeface="Arial"/>
              </a:rPr>
              <a:t>- سنجش ها واندازه گيري هاي برخط براندازه گيري هاي موردي ارجحيت د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alibri"/>
                <a:ea typeface="Arial"/>
              </a:rPr>
              <a:t>4</a:t>
            </a:r>
            <a:r>
              <a:rPr b="1" lang="fa-IR" sz="3200" spc="-1" strike="noStrike">
                <a:solidFill>
                  <a:srgbClr val="ffffff"/>
                </a:solidFill>
                <a:latin typeface="Calibri"/>
                <a:ea typeface="Arial"/>
              </a:rPr>
              <a:t>- استفاده از نرم افزارهاي کامپيوتري را مد نظر قرار بده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5C12-BC13-4190-A48E-A26027E1FC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شاخص هاي ارزيابي عملکرد را در کتاب زير ملاحظه کني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17000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K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@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IRANBUSINESS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کانال سايت بيزينس مانيتور ايران</a:t>
            </a:r>
            <a:r>
              <a:rPr b="0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5FFC-3EDC-4360-AD0A-10839EC7EE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Calibri"/>
                <a:cs typeface="B Baran"/>
              </a:rPr>
              <a:t>چگونه نتايج را تحليل کني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C:\Documents and Settings\Zahra\Desktop\New Folder (2)\thumbnail.aspx.jpeg"/>
          <p:cNvPicPr/>
          <p:nvPr/>
        </p:nvPicPr>
        <p:blipFill>
          <a:blip r:embed="rId1"/>
          <a:stretch/>
        </p:blipFill>
        <p:spPr>
          <a:xfrm>
            <a:off x="0" y="1371600"/>
            <a:ext cx="1886040" cy="5486400"/>
          </a:xfrm>
          <a:prstGeom prst="rect">
            <a:avLst/>
          </a:prstGeom>
          <a:ln w="0">
            <a:noFill/>
          </a:ln>
        </p:spPr>
      </p:pic>
      <p:sp>
        <p:nvSpPr>
          <p:cNvPr id="514" name="Title 1"/>
          <p:cNvSpPr/>
          <p:nvPr/>
        </p:nvSpPr>
        <p:spPr>
          <a:xfrm>
            <a:off x="1905120" y="1447920"/>
            <a:ext cx="7238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Baran"/>
              </a:rPr>
              <a:t>درتحليل نتايج بايد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1-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Baran"/>
              </a:rPr>
              <a:t>تعريف مناسبي ازآنها داشته باش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2-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Baran"/>
              </a:rPr>
              <a:t>روش مناسبي براي اندازه گيري تعريف ک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3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-هدف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B Baran"/>
              </a:rPr>
              <a:t>TARGET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Baran"/>
              </a:rPr>
              <a:t>مناسبي براي آنها تعيين ک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4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- به طورمرتب درپي ارتقاي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B Baran"/>
              </a:rPr>
              <a:t>ACTUAL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Baran"/>
              </a:rPr>
              <a:t>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B Baran"/>
              </a:rPr>
              <a:t>TARGET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 باش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5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ea typeface="B Baran"/>
              </a:rPr>
              <a:t>-تحليل هاي آماري مرتبط مثل همبستگي ، کوواريانس وپيش بيني ها را در مورد آنها انجام بده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5007-9AFC-4245-B1B2-DB47DD9437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Homa"/>
              </a:rPr>
              <a:t>نگاهي به مفهوم ارزشيابي</a:t>
            </a:r>
            <a:r>
              <a:rPr b="1" lang="fa-IR" sz="5400" spc="-1" strike="noStrike">
                <a:solidFill>
                  <a:srgbClr val="000000"/>
                </a:solidFill>
                <a:latin typeface="Calibri"/>
                <a:ea typeface="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609480" y="2209680"/>
            <a:ext cx="6400080" cy="2209320"/>
            <a:chOff x="609480" y="2209680"/>
            <a:chExt cx="6400080" cy="2209320"/>
          </a:xfrm>
        </p:grpSpPr>
        <p:grpSp>
          <p:nvGrpSpPr>
            <p:cNvPr id="153" name="Group 4"/>
            <p:cNvGrpSpPr/>
            <p:nvPr/>
          </p:nvGrpSpPr>
          <p:grpSpPr>
            <a:xfrm>
              <a:off x="609480" y="2209680"/>
              <a:ext cx="1994400" cy="2209320"/>
              <a:chOff x="609480" y="2209680"/>
              <a:chExt cx="1994400" cy="2209320"/>
            </a:xfrm>
          </p:grpSpPr>
          <p:sp>
            <p:nvSpPr>
              <p:cNvPr id="154" name="Rectangle 5"/>
              <p:cNvSpPr/>
              <p:nvPr/>
            </p:nvSpPr>
            <p:spPr>
              <a:xfrm>
                <a:off x="609480" y="243072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6"/>
              <p:cNvSpPr/>
              <p:nvPr/>
            </p:nvSpPr>
            <p:spPr>
              <a:xfrm>
                <a:off x="609480" y="309348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7"/>
              <p:cNvSpPr/>
              <p:nvPr/>
            </p:nvSpPr>
            <p:spPr>
              <a:xfrm>
                <a:off x="1025280" y="276228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8"/>
              <p:cNvSpPr/>
              <p:nvPr/>
            </p:nvSpPr>
            <p:spPr>
              <a:xfrm>
                <a:off x="1440720" y="220968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9"/>
              <p:cNvSpPr/>
              <p:nvPr/>
            </p:nvSpPr>
            <p:spPr>
              <a:xfrm>
                <a:off x="1440720" y="287208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0"/>
              <p:cNvSpPr/>
              <p:nvPr/>
            </p:nvSpPr>
            <p:spPr>
              <a:xfrm>
                <a:off x="1440720" y="353484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1"/>
              <p:cNvSpPr/>
              <p:nvPr/>
            </p:nvSpPr>
            <p:spPr>
              <a:xfrm>
                <a:off x="1440720" y="408780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2"/>
              <p:cNvSpPr/>
              <p:nvPr/>
            </p:nvSpPr>
            <p:spPr>
              <a:xfrm>
                <a:off x="1939320" y="353484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3"/>
              <p:cNvSpPr/>
              <p:nvPr/>
            </p:nvSpPr>
            <p:spPr>
              <a:xfrm>
                <a:off x="1939320" y="408780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4"/>
              <p:cNvSpPr/>
              <p:nvPr/>
            </p:nvSpPr>
            <p:spPr>
              <a:xfrm>
                <a:off x="1939320" y="254088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5"/>
              <p:cNvSpPr/>
              <p:nvPr/>
            </p:nvSpPr>
            <p:spPr>
              <a:xfrm>
                <a:off x="2354760" y="2982960"/>
                <a:ext cx="249120" cy="3312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" name="AutoShape 16"/>
              <p:cNvCxnSpPr>
                <a:stCxn id="154" idx="3"/>
                <a:endCxn id="156" idx="1"/>
              </p:cNvCxnSpPr>
              <p:nvPr/>
            </p:nvCxnSpPr>
            <p:spPr>
              <a:xfrm>
                <a:off x="858600" y="2596320"/>
                <a:ext cx="167040" cy="331560"/>
              </a:xfrm>
              <a:prstGeom prst="bentConnector3">
                <a:avLst>
                  <a:gd name="adj1" fmla="val 49892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66" name="AutoShape 17"/>
              <p:cNvCxnSpPr>
                <a:stCxn id="155" idx="3"/>
                <a:endCxn id="156" idx="1"/>
              </p:cNvCxnSpPr>
              <p:nvPr/>
            </p:nvCxnSpPr>
            <p:spPr>
              <a:xfrm flipV="1">
                <a:off x="858600" y="2927520"/>
                <a:ext cx="167040" cy="331560"/>
              </a:xfrm>
              <a:prstGeom prst="bentConnector3">
                <a:avLst>
                  <a:gd name="adj1" fmla="val 49892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67" name="AutoShape 18"/>
              <p:cNvCxnSpPr>
                <a:stCxn id="156" idx="3"/>
                <a:endCxn id="157" idx="1"/>
              </p:cNvCxnSpPr>
              <p:nvPr/>
            </p:nvCxnSpPr>
            <p:spPr>
              <a:xfrm flipV="1">
                <a:off x="1274040" y="2374560"/>
                <a:ext cx="166680" cy="5526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68" name="AutoShape 19"/>
              <p:cNvCxnSpPr>
                <a:stCxn id="156" idx="3"/>
                <a:endCxn id="158" idx="1"/>
              </p:cNvCxnSpPr>
              <p:nvPr/>
            </p:nvCxnSpPr>
            <p:spPr>
              <a:xfrm>
                <a:off x="1274040" y="2927160"/>
                <a:ext cx="166680" cy="1112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69" name="AutoShape 20"/>
              <p:cNvCxnSpPr>
                <a:stCxn id="156" idx="3"/>
                <a:endCxn id="159" idx="1"/>
              </p:cNvCxnSpPr>
              <p:nvPr/>
            </p:nvCxnSpPr>
            <p:spPr>
              <a:xfrm>
                <a:off x="1274040" y="2927520"/>
                <a:ext cx="166680" cy="7740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70" name="AutoShape 21"/>
              <p:cNvCxnSpPr>
                <a:stCxn id="156" idx="3"/>
                <a:endCxn id="160" idx="1"/>
              </p:cNvCxnSpPr>
              <p:nvPr/>
            </p:nvCxnSpPr>
            <p:spPr>
              <a:xfrm>
                <a:off x="1274040" y="2927160"/>
                <a:ext cx="166680" cy="1325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71" name="AutoShape 22"/>
              <p:cNvCxnSpPr>
                <a:stCxn id="157" idx="3"/>
                <a:endCxn id="163" idx="1"/>
              </p:cNvCxnSpPr>
              <p:nvPr/>
            </p:nvCxnSpPr>
            <p:spPr>
              <a:xfrm>
                <a:off x="1689840" y="2375280"/>
                <a:ext cx="249840" cy="33156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72" name="AutoShape 23"/>
              <p:cNvCxnSpPr>
                <a:stCxn id="158" idx="3"/>
                <a:endCxn id="163" idx="1"/>
              </p:cNvCxnSpPr>
              <p:nvPr/>
            </p:nvCxnSpPr>
            <p:spPr>
              <a:xfrm flipV="1">
                <a:off x="1689840" y="2706840"/>
                <a:ext cx="249840" cy="33156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73" name="AutoShape 24"/>
              <p:cNvCxnSpPr>
                <a:stCxn id="159" idx="3"/>
                <a:endCxn id="161" idx="1"/>
              </p:cNvCxnSpPr>
              <p:nvPr/>
            </p:nvCxnSpPr>
            <p:spPr>
              <a:xfrm>
                <a:off x="1689840" y="3700440"/>
                <a:ext cx="249840" cy="108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74" name="AutoShape 25"/>
              <p:cNvCxnSpPr>
                <a:stCxn id="160" idx="3"/>
                <a:endCxn id="162" idx="1"/>
              </p:cNvCxnSpPr>
              <p:nvPr/>
            </p:nvCxnSpPr>
            <p:spPr>
              <a:xfrm>
                <a:off x="1689840" y="4252680"/>
                <a:ext cx="249840" cy="108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75" name="AutoShape 26"/>
              <p:cNvCxnSpPr>
                <a:stCxn id="163" idx="3"/>
                <a:endCxn id="164" idx="1"/>
              </p:cNvCxnSpPr>
              <p:nvPr/>
            </p:nvCxnSpPr>
            <p:spPr>
              <a:xfrm>
                <a:off x="2188080" y="2706480"/>
                <a:ext cx="166680" cy="4424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76" name="AutoShape 27"/>
              <p:cNvCxnSpPr>
                <a:stCxn id="161" idx="3"/>
                <a:endCxn id="164" idx="1"/>
              </p:cNvCxnSpPr>
              <p:nvPr/>
            </p:nvCxnSpPr>
            <p:spPr>
              <a:xfrm flipV="1">
                <a:off x="2188080" y="3148200"/>
                <a:ext cx="166680" cy="5526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77" name="AutoShape 28"/>
              <p:cNvCxnSpPr>
                <a:stCxn id="162" idx="3"/>
                <a:endCxn id="164" idx="1"/>
              </p:cNvCxnSpPr>
              <p:nvPr/>
            </p:nvCxnSpPr>
            <p:spPr>
              <a:xfrm flipV="1">
                <a:off x="2188080" y="3148200"/>
                <a:ext cx="166680" cy="11048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</p:grpSp>
        <p:grpSp>
          <p:nvGrpSpPr>
            <p:cNvPr id="178" name="Group 29"/>
            <p:cNvGrpSpPr/>
            <p:nvPr/>
          </p:nvGrpSpPr>
          <p:grpSpPr>
            <a:xfrm>
              <a:off x="2604240" y="2209680"/>
              <a:ext cx="2243880" cy="1988280"/>
              <a:chOff x="2604240" y="2209680"/>
              <a:chExt cx="2243880" cy="1988280"/>
            </a:xfrm>
          </p:grpSpPr>
          <p:sp>
            <p:nvSpPr>
              <p:cNvPr id="179" name="Rectangle 30"/>
              <p:cNvSpPr/>
              <p:nvPr/>
            </p:nvSpPr>
            <p:spPr>
              <a:xfrm>
                <a:off x="2853360" y="254088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31"/>
              <p:cNvSpPr/>
              <p:nvPr/>
            </p:nvSpPr>
            <p:spPr>
              <a:xfrm>
                <a:off x="2853360" y="309384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32"/>
              <p:cNvSpPr/>
              <p:nvPr/>
            </p:nvSpPr>
            <p:spPr>
              <a:xfrm>
                <a:off x="2853360" y="364608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33"/>
              <p:cNvSpPr/>
              <p:nvPr/>
            </p:nvSpPr>
            <p:spPr>
              <a:xfrm>
                <a:off x="3269160" y="364608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34"/>
              <p:cNvSpPr/>
              <p:nvPr/>
            </p:nvSpPr>
            <p:spPr>
              <a:xfrm>
                <a:off x="3269160" y="276228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35"/>
              <p:cNvSpPr/>
              <p:nvPr/>
            </p:nvSpPr>
            <p:spPr>
              <a:xfrm>
                <a:off x="3684600" y="309384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36"/>
              <p:cNvSpPr/>
              <p:nvPr/>
            </p:nvSpPr>
            <p:spPr>
              <a:xfrm>
                <a:off x="4100040" y="220968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37"/>
              <p:cNvSpPr/>
              <p:nvPr/>
            </p:nvSpPr>
            <p:spPr>
              <a:xfrm>
                <a:off x="4100040" y="276228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8"/>
              <p:cNvSpPr/>
              <p:nvPr/>
            </p:nvSpPr>
            <p:spPr>
              <a:xfrm>
                <a:off x="4100040" y="331452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9"/>
              <p:cNvSpPr/>
              <p:nvPr/>
            </p:nvSpPr>
            <p:spPr>
              <a:xfrm>
                <a:off x="4100040" y="386676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40"/>
              <p:cNvSpPr/>
              <p:nvPr/>
            </p:nvSpPr>
            <p:spPr>
              <a:xfrm>
                <a:off x="4599000" y="254088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41"/>
              <p:cNvSpPr/>
              <p:nvPr/>
            </p:nvSpPr>
            <p:spPr>
              <a:xfrm>
                <a:off x="4599000" y="3646080"/>
                <a:ext cx="249120" cy="331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1" name="AutoShape 42"/>
              <p:cNvCxnSpPr>
                <a:stCxn id="164" idx="3"/>
                <a:endCxn id="179" idx="1"/>
              </p:cNvCxnSpPr>
              <p:nvPr/>
            </p:nvCxnSpPr>
            <p:spPr>
              <a:xfrm flipV="1">
                <a:off x="2604240" y="2706480"/>
                <a:ext cx="249840" cy="44280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92" name="AutoShape 43"/>
              <p:cNvCxnSpPr>
                <a:stCxn id="164" idx="3"/>
                <a:endCxn id="180" idx="1"/>
              </p:cNvCxnSpPr>
              <p:nvPr/>
            </p:nvCxnSpPr>
            <p:spPr>
              <a:xfrm>
                <a:off x="2604240" y="3148920"/>
                <a:ext cx="249840" cy="11052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93" name="AutoShape 44"/>
              <p:cNvCxnSpPr>
                <a:stCxn id="164" idx="3"/>
                <a:endCxn id="181" idx="1"/>
              </p:cNvCxnSpPr>
              <p:nvPr/>
            </p:nvCxnSpPr>
            <p:spPr>
              <a:xfrm>
                <a:off x="2604240" y="3148920"/>
                <a:ext cx="249840" cy="66312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94" name="AutoShape 45"/>
              <p:cNvCxnSpPr>
                <a:stCxn id="179" idx="3"/>
                <a:endCxn id="183" idx="1"/>
              </p:cNvCxnSpPr>
              <p:nvPr/>
            </p:nvCxnSpPr>
            <p:spPr>
              <a:xfrm>
                <a:off x="3102840" y="2706480"/>
                <a:ext cx="167040" cy="221400"/>
              </a:xfrm>
              <a:prstGeom prst="bentConnector3">
                <a:avLst>
                  <a:gd name="adj1" fmla="val 49892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95" name="AutoShape 46"/>
              <p:cNvCxnSpPr>
                <a:stCxn id="180" idx="3"/>
                <a:endCxn id="183" idx="1"/>
              </p:cNvCxnSpPr>
              <p:nvPr/>
            </p:nvCxnSpPr>
            <p:spPr>
              <a:xfrm flipV="1">
                <a:off x="3102840" y="2927880"/>
                <a:ext cx="167040" cy="331560"/>
              </a:xfrm>
              <a:prstGeom prst="bentConnector3">
                <a:avLst>
                  <a:gd name="adj1" fmla="val 49892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96" name="AutoShape 47"/>
              <p:cNvCxnSpPr>
                <a:stCxn id="181" idx="3"/>
                <a:endCxn id="182" idx="1"/>
              </p:cNvCxnSpPr>
              <p:nvPr/>
            </p:nvCxnSpPr>
            <p:spPr>
              <a:xfrm>
                <a:off x="3102840" y="3811680"/>
                <a:ext cx="167040" cy="108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97" name="AutoShape 48"/>
              <p:cNvCxnSpPr>
                <a:stCxn id="183" idx="3"/>
                <a:endCxn id="184" idx="1"/>
              </p:cNvCxnSpPr>
              <p:nvPr/>
            </p:nvCxnSpPr>
            <p:spPr>
              <a:xfrm>
                <a:off x="3518280" y="2927880"/>
                <a:ext cx="166680" cy="3315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98" name="AutoShape 49"/>
              <p:cNvCxnSpPr>
                <a:stCxn id="182" idx="3"/>
                <a:endCxn id="184" idx="1"/>
              </p:cNvCxnSpPr>
              <p:nvPr/>
            </p:nvCxnSpPr>
            <p:spPr>
              <a:xfrm flipV="1">
                <a:off x="3518280" y="3258360"/>
                <a:ext cx="166680" cy="553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199" name="AutoShape 50"/>
              <p:cNvCxnSpPr>
                <a:stCxn id="184" idx="3"/>
                <a:endCxn id="185" idx="1"/>
              </p:cNvCxnSpPr>
              <p:nvPr/>
            </p:nvCxnSpPr>
            <p:spPr>
              <a:xfrm flipV="1">
                <a:off x="3933720" y="2375280"/>
                <a:ext cx="166680" cy="884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00" name="AutoShape 51"/>
              <p:cNvCxnSpPr>
                <a:stCxn id="184" idx="3"/>
                <a:endCxn id="186" idx="1"/>
              </p:cNvCxnSpPr>
              <p:nvPr/>
            </p:nvCxnSpPr>
            <p:spPr>
              <a:xfrm flipV="1">
                <a:off x="3933720" y="2927880"/>
                <a:ext cx="166680" cy="3315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01" name="AutoShape 52"/>
              <p:cNvCxnSpPr>
                <a:stCxn id="184" idx="3"/>
                <a:endCxn id="187" idx="1"/>
              </p:cNvCxnSpPr>
              <p:nvPr/>
            </p:nvCxnSpPr>
            <p:spPr>
              <a:xfrm>
                <a:off x="3933720" y="3259080"/>
                <a:ext cx="166680" cy="221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02" name="AutoShape 53"/>
              <p:cNvCxnSpPr>
                <a:stCxn id="184" idx="3"/>
                <a:endCxn id="188" idx="1"/>
              </p:cNvCxnSpPr>
              <p:nvPr/>
            </p:nvCxnSpPr>
            <p:spPr>
              <a:xfrm>
                <a:off x="3933720" y="3259080"/>
                <a:ext cx="166680" cy="7740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03" name="AutoShape 54"/>
              <p:cNvCxnSpPr>
                <a:stCxn id="185" idx="3"/>
                <a:endCxn id="189" idx="1"/>
              </p:cNvCxnSpPr>
              <p:nvPr/>
            </p:nvCxnSpPr>
            <p:spPr>
              <a:xfrm>
                <a:off x="4349520" y="2375640"/>
                <a:ext cx="249840" cy="33156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04" name="AutoShape 55"/>
              <p:cNvCxnSpPr>
                <a:stCxn id="186" idx="3"/>
                <a:endCxn id="189" idx="1"/>
              </p:cNvCxnSpPr>
              <p:nvPr/>
            </p:nvCxnSpPr>
            <p:spPr>
              <a:xfrm flipV="1">
                <a:off x="4349520" y="2706120"/>
                <a:ext cx="249840" cy="22140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05" name="AutoShape 56"/>
              <p:cNvCxnSpPr>
                <a:stCxn id="187" idx="3"/>
                <a:endCxn id="190" idx="1"/>
              </p:cNvCxnSpPr>
              <p:nvPr/>
            </p:nvCxnSpPr>
            <p:spPr>
              <a:xfrm>
                <a:off x="4349520" y="3480480"/>
                <a:ext cx="249840" cy="33156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06" name="AutoShape 57"/>
              <p:cNvCxnSpPr>
                <a:stCxn id="188" idx="3"/>
                <a:endCxn id="190" idx="1"/>
              </p:cNvCxnSpPr>
              <p:nvPr/>
            </p:nvCxnSpPr>
            <p:spPr>
              <a:xfrm flipV="1">
                <a:off x="4349520" y="3811320"/>
                <a:ext cx="249840" cy="22140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</p:grpSp>
        <p:grpSp>
          <p:nvGrpSpPr>
            <p:cNvPr id="207" name="Group 58"/>
            <p:cNvGrpSpPr/>
            <p:nvPr/>
          </p:nvGrpSpPr>
          <p:grpSpPr>
            <a:xfrm>
              <a:off x="4848480" y="2209680"/>
              <a:ext cx="2161080" cy="1988280"/>
              <a:chOff x="4848480" y="2209680"/>
              <a:chExt cx="2161080" cy="1988280"/>
            </a:xfrm>
          </p:grpSpPr>
          <p:sp>
            <p:nvSpPr>
              <p:cNvPr id="208" name="Rectangle 59"/>
              <p:cNvSpPr/>
              <p:nvPr/>
            </p:nvSpPr>
            <p:spPr>
              <a:xfrm>
                <a:off x="5097600" y="2209680"/>
                <a:ext cx="249120" cy="331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60"/>
              <p:cNvSpPr/>
              <p:nvPr/>
            </p:nvSpPr>
            <p:spPr>
              <a:xfrm>
                <a:off x="5513400" y="2209680"/>
                <a:ext cx="249120" cy="331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61"/>
              <p:cNvSpPr/>
              <p:nvPr/>
            </p:nvSpPr>
            <p:spPr>
              <a:xfrm>
                <a:off x="5513400" y="2762280"/>
                <a:ext cx="249120" cy="331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62"/>
              <p:cNvSpPr/>
              <p:nvPr/>
            </p:nvSpPr>
            <p:spPr>
              <a:xfrm>
                <a:off x="5928840" y="2762280"/>
                <a:ext cx="249120" cy="331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63"/>
              <p:cNvSpPr/>
              <p:nvPr/>
            </p:nvSpPr>
            <p:spPr>
              <a:xfrm>
                <a:off x="6344640" y="2762280"/>
                <a:ext cx="249120" cy="331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64"/>
              <p:cNvSpPr/>
              <p:nvPr/>
            </p:nvSpPr>
            <p:spPr>
              <a:xfrm>
                <a:off x="6344640" y="3314520"/>
                <a:ext cx="249120" cy="331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65"/>
              <p:cNvSpPr/>
              <p:nvPr/>
            </p:nvSpPr>
            <p:spPr>
              <a:xfrm>
                <a:off x="6344640" y="3866760"/>
                <a:ext cx="249120" cy="331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66"/>
              <p:cNvSpPr/>
              <p:nvPr/>
            </p:nvSpPr>
            <p:spPr>
              <a:xfrm>
                <a:off x="6760440" y="2982960"/>
                <a:ext cx="249120" cy="331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67"/>
              <p:cNvSpPr/>
              <p:nvPr/>
            </p:nvSpPr>
            <p:spPr>
              <a:xfrm>
                <a:off x="6760440" y="2209680"/>
                <a:ext cx="249120" cy="331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7" name="AutoShape 68"/>
              <p:cNvCxnSpPr>
                <a:stCxn id="189" idx="3"/>
                <a:endCxn id="208" idx="1"/>
              </p:cNvCxnSpPr>
              <p:nvPr/>
            </p:nvCxnSpPr>
            <p:spPr>
              <a:xfrm flipV="1">
                <a:off x="4848480" y="2375640"/>
                <a:ext cx="249840" cy="33156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18" name="AutoShape 69"/>
              <p:cNvCxnSpPr>
                <a:stCxn id="190" idx="3"/>
                <a:endCxn id="208" idx="1"/>
              </p:cNvCxnSpPr>
              <p:nvPr/>
            </p:nvCxnSpPr>
            <p:spPr>
              <a:xfrm flipV="1">
                <a:off x="4848480" y="2375280"/>
                <a:ext cx="249840" cy="1437120"/>
              </a:xfrm>
              <a:prstGeom prst="bentConnector3">
                <a:avLst>
                  <a:gd name="adj1" fmla="val 49927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19" name="AutoShape 70"/>
              <p:cNvCxnSpPr>
                <a:stCxn id="208" idx="3"/>
                <a:endCxn id="209" idx="1"/>
              </p:cNvCxnSpPr>
              <p:nvPr/>
            </p:nvCxnSpPr>
            <p:spPr>
              <a:xfrm>
                <a:off x="5347080" y="2375280"/>
                <a:ext cx="167040" cy="108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0" name="AutoShape 71"/>
              <p:cNvCxnSpPr>
                <a:stCxn id="208" idx="3"/>
                <a:endCxn id="210" idx="1"/>
              </p:cNvCxnSpPr>
              <p:nvPr/>
            </p:nvCxnSpPr>
            <p:spPr>
              <a:xfrm>
                <a:off x="5347080" y="2375640"/>
                <a:ext cx="167040" cy="552960"/>
              </a:xfrm>
              <a:prstGeom prst="bentConnector3">
                <a:avLst>
                  <a:gd name="adj1" fmla="val 49892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1" name="AutoShape 72"/>
              <p:cNvCxnSpPr>
                <a:stCxn id="209" idx="3"/>
                <a:endCxn id="211" idx="1"/>
              </p:cNvCxnSpPr>
              <p:nvPr/>
            </p:nvCxnSpPr>
            <p:spPr>
              <a:xfrm>
                <a:off x="5762520" y="2375640"/>
                <a:ext cx="166680" cy="552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2" name="AutoShape 73"/>
              <p:cNvCxnSpPr>
                <a:stCxn id="210" idx="3"/>
                <a:endCxn id="211" idx="1"/>
              </p:cNvCxnSpPr>
              <p:nvPr/>
            </p:nvCxnSpPr>
            <p:spPr>
              <a:xfrm>
                <a:off x="5762520" y="2927520"/>
                <a:ext cx="166680" cy="108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3" name="AutoShape 74"/>
              <p:cNvCxnSpPr>
                <a:stCxn id="211" idx="3"/>
                <a:endCxn id="212" idx="1"/>
              </p:cNvCxnSpPr>
              <p:nvPr/>
            </p:nvCxnSpPr>
            <p:spPr>
              <a:xfrm>
                <a:off x="6177960" y="2927520"/>
                <a:ext cx="166680" cy="108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4" name="AutoShape 75"/>
              <p:cNvCxnSpPr>
                <a:stCxn id="211" idx="3"/>
                <a:endCxn id="213" idx="1"/>
              </p:cNvCxnSpPr>
              <p:nvPr/>
            </p:nvCxnSpPr>
            <p:spPr>
              <a:xfrm>
                <a:off x="6177960" y="2927520"/>
                <a:ext cx="166680" cy="553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5" name="AutoShape 76"/>
              <p:cNvCxnSpPr>
                <a:stCxn id="211" idx="3"/>
                <a:endCxn id="214" idx="1"/>
              </p:cNvCxnSpPr>
              <p:nvPr/>
            </p:nvCxnSpPr>
            <p:spPr>
              <a:xfrm>
                <a:off x="6177960" y="2927520"/>
                <a:ext cx="166680" cy="11055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6" name="AutoShape 77"/>
              <p:cNvCxnSpPr>
                <a:stCxn id="209" idx="3"/>
                <a:endCxn id="216" idx="1"/>
              </p:cNvCxnSpPr>
              <p:nvPr/>
            </p:nvCxnSpPr>
            <p:spPr>
              <a:xfrm>
                <a:off x="5762880" y="2375280"/>
                <a:ext cx="997920" cy="108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7" name="AutoShape 78"/>
              <p:cNvCxnSpPr>
                <a:stCxn id="212" idx="3"/>
                <a:endCxn id="216" idx="1"/>
              </p:cNvCxnSpPr>
              <p:nvPr/>
            </p:nvCxnSpPr>
            <p:spPr>
              <a:xfrm flipV="1">
                <a:off x="6593760" y="2375280"/>
                <a:ext cx="167040" cy="552960"/>
              </a:xfrm>
              <a:prstGeom prst="bentConnector3">
                <a:avLst>
                  <a:gd name="adj1" fmla="val 49892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8" name="AutoShape 79"/>
              <p:cNvCxnSpPr>
                <a:stCxn id="212" idx="3"/>
                <a:endCxn id="215" idx="1"/>
              </p:cNvCxnSpPr>
              <p:nvPr/>
            </p:nvCxnSpPr>
            <p:spPr>
              <a:xfrm>
                <a:off x="6593760" y="2927880"/>
                <a:ext cx="167040" cy="221760"/>
              </a:xfrm>
              <a:prstGeom prst="bentConnector3">
                <a:avLst>
                  <a:gd name="adj1" fmla="val 49892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29" name="AutoShape 80"/>
              <p:cNvCxnSpPr>
                <a:stCxn id="213" idx="3"/>
                <a:endCxn id="215" idx="1"/>
              </p:cNvCxnSpPr>
              <p:nvPr/>
            </p:nvCxnSpPr>
            <p:spPr>
              <a:xfrm flipV="1">
                <a:off x="6593760" y="3149280"/>
                <a:ext cx="167040" cy="331560"/>
              </a:xfrm>
              <a:prstGeom prst="bentConnector3">
                <a:avLst>
                  <a:gd name="adj1" fmla="val 49892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  <p:cxnSp>
            <p:nvCxnSpPr>
              <p:cNvPr id="230" name="AutoShape 81"/>
              <p:cNvCxnSpPr>
                <a:stCxn id="214" idx="3"/>
                <a:endCxn id="215" idx="1"/>
              </p:cNvCxnSpPr>
              <p:nvPr/>
            </p:nvCxnSpPr>
            <p:spPr>
              <a:xfrm flipV="1">
                <a:off x="6593760" y="3148920"/>
                <a:ext cx="167040" cy="884160"/>
              </a:xfrm>
              <a:prstGeom prst="bentConnector3">
                <a:avLst>
                  <a:gd name="adj1" fmla="val 49892"/>
                </a:avLst>
              </a:prstGeom>
              <a:ln w="9360">
                <a:solidFill>
                  <a:srgbClr val="dddddd"/>
                </a:solidFill>
                <a:miter/>
              </a:ln>
            </p:spPr>
          </p:cxnSp>
        </p:grpSp>
      </p:grpSp>
      <p:sp>
        <p:nvSpPr>
          <p:cNvPr id="231" name="Oval 82"/>
          <p:cNvSpPr/>
          <p:nvPr/>
        </p:nvSpPr>
        <p:spPr>
          <a:xfrm>
            <a:off x="7448400" y="2728800"/>
            <a:ext cx="1143000" cy="83844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83"/>
          <p:cNvCxnSpPr>
            <a:stCxn id="215" idx="3"/>
            <a:endCxn id="231" idx="2"/>
          </p:cNvCxnSpPr>
          <p:nvPr/>
        </p:nvCxnSpPr>
        <p:spPr>
          <a:xfrm flipV="1">
            <a:off x="7010280" y="3147120"/>
            <a:ext cx="424800" cy="2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33" name="AutoShape 84"/>
          <p:cNvCxnSpPr>
            <a:stCxn id="216" idx="3"/>
            <a:endCxn id="231" idx="2"/>
          </p:cNvCxnSpPr>
          <p:nvPr/>
        </p:nvCxnSpPr>
        <p:spPr>
          <a:xfrm>
            <a:off x="7010280" y="2376000"/>
            <a:ext cx="424800" cy="772200"/>
          </a:xfrm>
          <a:prstGeom prst="bentConnector3">
            <a:avLst>
              <a:gd name="adj1" fmla="val 51653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34" name="Text Box 85"/>
          <p:cNvSpPr/>
          <p:nvPr/>
        </p:nvSpPr>
        <p:spPr>
          <a:xfrm>
            <a:off x="380880" y="491004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درجه انطباق فعاليتها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ffic"/>
              </a:rPr>
              <a:t>با طراحي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6"/>
          <p:cNvSpPr/>
          <p:nvPr/>
        </p:nvSpPr>
        <p:spPr>
          <a:xfrm>
            <a:off x="7010280" y="3813120"/>
            <a:ext cx="1771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ميزان توفي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raff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ffic"/>
              </a:rPr>
              <a:t>سازم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raff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ffic"/>
              </a:rPr>
              <a:t>د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raff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ffic"/>
              </a:rPr>
              <a:t>انجام مأموريت خ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7"/>
          <p:cNvSpPr/>
          <p:nvPr/>
        </p:nvSpPr>
        <p:spPr>
          <a:xfrm>
            <a:off x="990720" y="55576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Homa"/>
              </a:rPr>
              <a:t>پاي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8"/>
          <p:cNvSpPr/>
          <p:nvPr/>
        </p:nvSpPr>
        <p:spPr>
          <a:xfrm>
            <a:off x="7122960" y="5556240"/>
            <a:ext cx="179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Homa"/>
              </a:rPr>
              <a:t>ارزشيا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8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0A14-66CA-4A0D-AF32-5242989F22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8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00000"/>
                </a:solidFill>
                <a:latin typeface="Calibri"/>
                <a:cs typeface="Times New Roman"/>
              </a:rPr>
              <a:t>چرا نتايج را تحليل مي کني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2" descr="F:\desktap\aks\8613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525920"/>
          </a:xfrm>
          <a:prstGeom prst="rect">
            <a:avLst/>
          </a:prstGeom>
          <a:ln w="0">
            <a:noFill/>
          </a:ln>
        </p:spPr>
      </p:pic>
      <p:sp>
        <p:nvSpPr>
          <p:cNvPr id="519" name="Oval 4"/>
          <p:cNvSpPr/>
          <p:nvPr/>
        </p:nvSpPr>
        <p:spPr>
          <a:xfrm>
            <a:off x="3276720" y="1752480"/>
            <a:ext cx="1523880" cy="5335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</a:rPr>
              <a:t>شناسايي بهبود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 rot="19527600">
            <a:off x="6594480" y="4065120"/>
            <a:ext cx="1347840" cy="567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8276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</a:rPr>
              <a:t>تامين شايستگي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 rot="350400">
            <a:off x="2987280" y="3732120"/>
            <a:ext cx="1752480" cy="463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Calibri"/>
              </a:rPr>
              <a:t>ارزيابي هاي 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7"/>
          <p:cNvSpPr/>
          <p:nvPr/>
        </p:nvSpPr>
        <p:spPr>
          <a:xfrm>
            <a:off x="0" y="1447920"/>
            <a:ext cx="1981080" cy="236196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</a:rPr>
              <a:t>اولويت بندي شايستگي هاي مورد ني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6781680" y="1600200"/>
            <a:ext cx="2057400" cy="2057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</a:rPr>
              <a:t>شناسايي ومعرفي الگوهاي کارآمدمديريتي به ارکان ساز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9"/>
          <p:cNvSpPr/>
          <p:nvPr/>
        </p:nvSpPr>
        <p:spPr>
          <a:xfrm>
            <a:off x="0" y="5791320"/>
            <a:ext cx="9144000" cy="9903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</a:rPr>
              <a:t>بهبود مستمرتوانمندي ها وشايستگي هاي مديران سازم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BEE0-EFBF-4AA8-B231-EB37395D38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رصت هاي بهبودرا چگونه شناسايي کني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2" descr="F:\desktap\aks\p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4"/>
          <p:cNvSpPr/>
          <p:nvPr/>
        </p:nvSpPr>
        <p:spPr>
          <a:xfrm>
            <a:off x="3276720" y="152388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=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0" y="495288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&gt;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6629400" y="487692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&lt;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1066680" y="6019920"/>
            <a:ext cx="6629400" cy="83808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</a:rPr>
              <a:t>فرصت هاي بهبود، درهمه حالات وجوددار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F:\desktap\business file\ax\thumbnail.aspx.jpeg"/>
          <p:cNvPicPr/>
          <p:nvPr/>
        </p:nvPicPr>
        <p:blipFill>
          <a:blip r:embed="rId2"/>
          <a:stretch/>
        </p:blipFill>
        <p:spPr>
          <a:xfrm>
            <a:off x="2362320" y="152388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F:\desktap\business file\ax\thumbnail.aspx.jpeg"/>
          <p:cNvPicPr/>
          <p:nvPr/>
        </p:nvPicPr>
        <p:blipFill>
          <a:blip r:embed="rId3"/>
          <a:stretch/>
        </p:blipFill>
        <p:spPr>
          <a:xfrm>
            <a:off x="0" y="59436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F:\desktap\business file\ax\thumbnail.aspx.jpeg"/>
          <p:cNvPicPr/>
          <p:nvPr/>
        </p:nvPicPr>
        <p:blipFill>
          <a:blip r:embed="rId4"/>
          <a:stretch/>
        </p:blipFill>
        <p:spPr>
          <a:xfrm>
            <a:off x="8305920" y="5943600"/>
            <a:ext cx="838080" cy="914400"/>
          </a:xfrm>
          <a:prstGeom prst="rect">
            <a:avLst/>
          </a:prstGeom>
          <a:ln w="0">
            <a:noFill/>
          </a:ln>
        </p:spPr>
      </p:pic>
      <p:sp>
        <p:nvSpPr>
          <p:cNvPr id="536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8BDA-5AB3-496E-AC0C-E14E2F009F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Baran"/>
              </a:rPr>
              <a:t>درارزشيابي مديران مي توان هردورويکرد زيرراداشت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137124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95252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F:\desktap\business file\ax\های خودرو-120x120.jpg"/>
          <p:cNvPicPr/>
          <p:nvPr/>
        </p:nvPicPr>
        <p:blipFill>
          <a:blip r:embed="rId1"/>
          <a:stretch/>
        </p:blipFill>
        <p:spPr>
          <a:xfrm>
            <a:off x="0" y="1752480"/>
            <a:ext cx="4343400" cy="4953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7"/>
          <p:cNvSpPr/>
          <p:nvPr/>
        </p:nvSpPr>
        <p:spPr>
          <a:xfrm>
            <a:off x="0" y="1459080"/>
            <a:ext cx="4419720" cy="13129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Arial"/>
              </a:rPr>
              <a:t>ارزيابي فردي مدي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F:\desktap\business file\New Folder (2)\faq.jpg"/>
          <p:cNvPicPr/>
          <p:nvPr/>
        </p:nvPicPr>
        <p:blipFill>
          <a:blip r:embed="rId2"/>
          <a:stretch/>
        </p:blipFill>
        <p:spPr>
          <a:xfrm>
            <a:off x="4495680" y="2057400"/>
            <a:ext cx="4648320" cy="472428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9"/>
          <p:cNvSpPr/>
          <p:nvPr/>
        </p:nvSpPr>
        <p:spPr>
          <a:xfrm>
            <a:off x="4495680" y="1447920"/>
            <a:ext cx="4648320" cy="10688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 Narrow"/>
                <a:cs typeface="B Baran"/>
              </a:rPr>
              <a:t>ارزيابي جمعي(ونه فردخاصي از)مدير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Straight Arrow Connector 11" descr=""/>
          <p:cNvPicPr/>
          <p:nvPr/>
        </p:nvPicPr>
        <p:blipFill>
          <a:blip r:embed="rId3"/>
          <a:stretch/>
        </p:blipFill>
        <p:spPr>
          <a:xfrm>
            <a:off x="4029120" y="4638600"/>
            <a:ext cx="853920" cy="330120"/>
          </a:xfrm>
          <a:prstGeom prst="rect">
            <a:avLst/>
          </a:prstGeom>
          <a:ln w="0">
            <a:noFill/>
          </a:ln>
        </p:spPr>
      </p:pic>
      <p:pic>
        <p:nvPicPr>
          <p:cNvPr id="546" name="Straight Arrow Connector 20" descr=""/>
          <p:cNvPicPr/>
          <p:nvPr/>
        </p:nvPicPr>
        <p:blipFill>
          <a:blip r:embed="rId4"/>
          <a:stretch/>
        </p:blipFill>
        <p:spPr>
          <a:xfrm>
            <a:off x="4029120" y="5626080"/>
            <a:ext cx="853920" cy="330120"/>
          </a:xfrm>
          <a:prstGeom prst="rect">
            <a:avLst/>
          </a:prstGeom>
          <a:ln w="0">
            <a:noFill/>
          </a:ln>
        </p:spPr>
      </p:pic>
      <p:pic>
        <p:nvPicPr>
          <p:cNvPr id="547" name="Straight Arrow Connector 21" descr=""/>
          <p:cNvPicPr/>
          <p:nvPr/>
        </p:nvPicPr>
        <p:blipFill>
          <a:blip r:embed="rId5"/>
          <a:stretch/>
        </p:blipFill>
        <p:spPr>
          <a:xfrm>
            <a:off x="4029120" y="3645000"/>
            <a:ext cx="853920" cy="330120"/>
          </a:xfrm>
          <a:prstGeom prst="rect">
            <a:avLst/>
          </a:prstGeom>
          <a:ln w="0">
            <a:noFill/>
          </a:ln>
        </p:spPr>
      </p:pic>
      <p:pic>
        <p:nvPicPr>
          <p:cNvPr id="548" name="Straight Arrow Connector 22" descr=""/>
          <p:cNvPicPr/>
          <p:nvPr/>
        </p:nvPicPr>
        <p:blipFill>
          <a:blip r:embed="rId6"/>
          <a:stretch/>
        </p:blipFill>
        <p:spPr>
          <a:xfrm>
            <a:off x="4029120" y="2657520"/>
            <a:ext cx="853920" cy="330120"/>
          </a:xfrm>
          <a:prstGeom prst="rect">
            <a:avLst/>
          </a:prstGeom>
          <a:ln w="0">
            <a:noFill/>
          </a:ln>
        </p:spPr>
      </p:pic>
      <p:sp>
        <p:nvSpPr>
          <p:cNvPr id="549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DD52-CA59-49BD-8259-00D0DCEC8B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2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5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5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5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ff"/>
                </a:solidFill>
                <a:latin typeface="Calibri"/>
                <a:cs typeface="Times New Roman"/>
              </a:rPr>
              <a:t>تحليل نتايج را با پنج معيارانجام بدهي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Content Placeholder 7" descr=""/>
          <p:cNvPicPr/>
          <p:nvPr/>
        </p:nvPicPr>
        <p:blipFill>
          <a:blip r:embed="rId1"/>
          <a:stretch/>
        </p:blipFill>
        <p:spPr>
          <a:xfrm>
            <a:off x="0" y="1444680"/>
            <a:ext cx="9144000" cy="5413320"/>
          </a:xfrm>
          <a:prstGeom prst="rect">
            <a:avLst/>
          </a:prstGeom>
          <a:ln w="0">
            <a:noFill/>
          </a:ln>
        </p:spPr>
      </p:pic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23A6-47B5-47B6-8827-2053DC28B4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Baran"/>
              </a:rPr>
              <a:t>هدف گذاري براي شاخص ها، بسيارتعيين کننده ومهم اس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F:\desktap\business file\لبنیات\2.jpeg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2514600"/>
          </a:xfrm>
          <a:prstGeom prst="rect">
            <a:avLst/>
          </a:prstGeom>
          <a:ln w="0">
            <a:noFill/>
          </a:ln>
        </p:spPr>
      </p:pic>
      <p:sp>
        <p:nvSpPr>
          <p:cNvPr id="557" name="Rounded Rectangle 3"/>
          <p:cNvSpPr/>
          <p:nvPr/>
        </p:nvSpPr>
        <p:spPr>
          <a:xfrm>
            <a:off x="152280" y="1523880"/>
            <a:ext cx="2743200" cy="518184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5181840"/>
              <a:gd name="textAreaBottom" fmla="*/ 5047920 h 5181840"/>
            </a:gdLst>
            <a:ahLst/>
            <a:rect l="textAreaLeft" t="textAreaTop" r="textAreaRight" b="textAreaBottom"/>
            <a:pathLst>
              <a:path w="21600" h="40799">
                <a:moveTo>
                  <a:pt x="3600" y="0"/>
                </a:moveTo>
                <a:arcTo wR="3600" hR="3600" stAng="16200000" swAng="-5400000"/>
                <a:lnTo>
                  <a:pt x="0" y="37199"/>
                </a:lnTo>
                <a:arcTo wR="3600" hR="3600" stAng="10800000" swAng="-5400000"/>
                <a:lnTo>
                  <a:pt x="18000" y="40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Calibri"/>
              </a:rPr>
              <a:t>هدف ها را براساس موارد زير بهبود بدهيد</a:t>
            </a:r>
            <a:r>
              <a:rPr b="0" lang="fa-IR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Calibri"/>
              </a:rPr>
              <a:t>عملکردواق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Calibri"/>
              </a:rPr>
              <a:t>تحقق ا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Calibri"/>
              </a:rPr>
              <a:t>تغييرات محيط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Calibri"/>
              </a:rPr>
              <a:t>تغييرات استراتژي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Calibri"/>
              </a:rPr>
              <a:t>عملکردووضعيت رقب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4"/>
          <p:cNvSpPr/>
          <p:nvPr/>
        </p:nvSpPr>
        <p:spPr>
          <a:xfrm>
            <a:off x="6248520" y="1447920"/>
            <a:ext cx="2743200" cy="5257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5257800"/>
              <a:gd name="textAreaBottom" fmla="*/ 5123880 h 5257800"/>
            </a:gdLst>
            <a:ahLst/>
            <a:rect l="textAreaLeft" t="textAreaTop" r="textAreaRight" b="textAreaBottom"/>
            <a:pathLst>
              <a:path w="21600" h="41397">
                <a:moveTo>
                  <a:pt x="3600" y="0"/>
                </a:moveTo>
                <a:arcTo wR="3600" hR="3600" stAng="16200000" swAng="-5400000"/>
                <a:lnTo>
                  <a:pt x="0" y="37797"/>
                </a:lnTo>
                <a:arcTo wR="3600" hR="3600" stAng="10800000" swAng="-5400000"/>
                <a:lnTo>
                  <a:pt x="18000" y="41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هدف ها را براساس</a:t>
            </a: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برنامه استراتژي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عملکرددوره هاي گذ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-متوسط دوره هاي گذ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دوره مبنا(دوره اي که خيلي</a:t>
            </a: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خوب عمل کرده ايد</a:t>
            </a: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عملکردرقيب/مبنا</a:t>
            </a: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NCHMARK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</a:rPr>
              <a:t>تعيين کن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Chart 5" descr=""/>
          <p:cNvPicPr/>
          <p:nvPr/>
        </p:nvPicPr>
        <p:blipFill>
          <a:blip r:embed="rId2"/>
          <a:stretch/>
        </p:blipFill>
        <p:spPr>
          <a:xfrm>
            <a:off x="2968560" y="3962520"/>
            <a:ext cx="3206880" cy="2670120"/>
          </a:xfrm>
          <a:prstGeom prst="rect">
            <a:avLst/>
          </a:prstGeom>
          <a:ln w="0">
            <a:noFill/>
          </a:ln>
        </p:spPr>
      </p:pic>
      <p:sp>
        <p:nvSpPr>
          <p:cNvPr id="56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AD9C-840F-4A85-A1A8-3EC848277D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pic>
        <p:nvPicPr>
          <p:cNvPr id="563" name="Picture 2" descr="F:\desktap\business file\لبنیات\2137729430_11b29f9164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3962520" y="0"/>
            <a:ext cx="5181480" cy="2775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Arial"/>
              </a:rPr>
              <a:t>تحليل تحقق هدف ها ، يعني تحليل کفايت شايستگي هاي مدي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F:\desktap\business file\لبنیات\business-clip-art.jpg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9330-66AA-4DDA-98BF-AF0085E0E6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0000"/>
                </a:solidFill>
                <a:latin typeface="Calibri"/>
                <a:cs typeface="B Baran"/>
              </a:rPr>
              <a:t>رابطه علي بين شايستگي ها ونتايج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0C10-23CC-41DA-A85C-10F8ED7AD2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F:\desktap\aks\zombie-photo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572" name="Rounded Rectangle 6"/>
          <p:cNvSpPr/>
          <p:nvPr/>
        </p:nvSpPr>
        <p:spPr>
          <a:xfrm>
            <a:off x="5943600" y="3886200"/>
            <a:ext cx="2971800" cy="190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fa-IR" sz="1800" spc="-1" strike="noStrike">
                <a:solidFill>
                  <a:srgbClr val="ffffff"/>
                </a:solidFill>
                <a:latin typeface="Calibri"/>
              </a:rPr>
              <a:t>آيا بين نتايج وشايستگي ها ، رابطه معناداري وجود دارد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fa-IR" sz="1800" spc="-1" strike="noStrike">
                <a:solidFill>
                  <a:srgbClr val="ffffff"/>
                </a:solidFill>
                <a:latin typeface="Calibri"/>
              </a:rPr>
              <a:t>آيا بين نتايج بايکديگر، رابطه معناداري وجود دارد؟</a:t>
            </a:r>
            <a:r>
              <a:rPr b="0" lang="fa-I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fa-IR" sz="1800" spc="-1" strike="noStrike">
                <a:solidFill>
                  <a:srgbClr val="ffffff"/>
                </a:solidFill>
                <a:latin typeface="Calibri"/>
              </a:rPr>
              <a:t>توجه به روابط همبستگي وکوواريانسي بين نتاي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ounded Rectangle 7"/>
          <p:cNvSpPr/>
          <p:nvPr/>
        </p:nvSpPr>
        <p:spPr>
          <a:xfrm>
            <a:off x="228600" y="4267080"/>
            <a:ext cx="1600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Calibri"/>
              </a:rPr>
              <a:t>همبست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ounded Rectangle 8"/>
          <p:cNvSpPr/>
          <p:nvPr/>
        </p:nvSpPr>
        <p:spPr>
          <a:xfrm>
            <a:off x="228600" y="5029200"/>
            <a:ext cx="1600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Calibri"/>
              </a:rPr>
              <a:t>کوواريان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0000"/>
                </a:solidFill>
                <a:latin typeface="Calibri"/>
                <a:cs typeface="B Baran"/>
              </a:rPr>
              <a:t>عدم تضادومقايسه بين شاخص ها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3DF4-6E7A-4B22-B649-7F144CAAEC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Chart 5" descr=""/>
          <p:cNvPicPr/>
          <p:nvPr/>
        </p:nvPicPr>
        <p:blipFill>
          <a:blip r:embed="rId1"/>
          <a:stretch/>
        </p:blipFill>
        <p:spPr>
          <a:xfrm>
            <a:off x="0" y="2054160"/>
            <a:ext cx="9144000" cy="4041720"/>
          </a:xfrm>
          <a:prstGeom prst="rect">
            <a:avLst/>
          </a:prstGeom>
          <a:ln w="0">
            <a:noFill/>
          </a:ln>
        </p:spPr>
      </p:pic>
      <p:sp>
        <p:nvSpPr>
          <p:cNvPr id="579" name="Rounded Rectangle 7"/>
          <p:cNvSpPr/>
          <p:nvPr/>
        </p:nvSpPr>
        <p:spPr>
          <a:xfrm>
            <a:off x="0" y="1371600"/>
            <a:ext cx="9144000" cy="609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alibri"/>
                <a:cs typeface="B Baran"/>
              </a:rPr>
              <a:t>نتايج عملکردي خود را با ديگران ، دوره مبنا وساير نتايج مقايسه کن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0000"/>
                </a:solidFill>
                <a:latin typeface="Calibri"/>
                <a:cs typeface="B Baran"/>
              </a:rPr>
              <a:t>بررسي حوزه هاي تحت پوش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EEB7-C79B-4D57-A450-BBE39E8B81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Documents and Settings\Zahra\Desktop\New Folder (2)\1.jpeg"/>
          <p:cNvPicPr/>
          <p:nvPr/>
        </p:nvPicPr>
        <p:blipFill>
          <a:blip r:embed="rId1"/>
          <a:stretch/>
        </p:blipFill>
        <p:spPr>
          <a:xfrm>
            <a:off x="4572000" y="137160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584" name="Rounded Rectangle 8"/>
          <p:cNvSpPr/>
          <p:nvPr/>
        </p:nvSpPr>
        <p:spPr>
          <a:xfrm>
            <a:off x="0" y="1523880"/>
            <a:ext cx="4419720" cy="4724640"/>
          </a:xfrm>
          <a:custGeom>
            <a:avLst/>
            <a:gdLst>
              <a:gd name="textAreaLeft" fmla="*/ 215640 w 4419720"/>
              <a:gd name="textAreaRight" fmla="*/ 4204080 w 4419720"/>
              <a:gd name="textAreaTop" fmla="*/ 215640 h 4724640"/>
              <a:gd name="textAreaBottom" fmla="*/ 4509000 h 4724640"/>
            </a:gdLst>
            <a:ahLst/>
            <a:rect l="textAreaLeft" t="textAreaTop" r="textAreaRight" b="textAreaBottom"/>
            <a:pathLst>
              <a:path w="21600" h="23090">
                <a:moveTo>
                  <a:pt x="3600" y="0"/>
                </a:moveTo>
                <a:arcTo wR="3600" hR="3600" stAng="16200000" swAng="-5400000"/>
                <a:lnTo>
                  <a:pt x="0" y="19490"/>
                </a:lnTo>
                <a:arcTo wR="3600" hR="3600" stAng="10800000" swAng="-5400000"/>
                <a:lnTo>
                  <a:pt x="18000" y="230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ran"/>
              </a:rPr>
              <a:t>آيا همه موارد زير رادرارزيابي ها لحاظ کرده اي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ran"/>
              </a:rPr>
              <a:t>واح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ran"/>
              </a:rPr>
              <a:t>شهر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ran"/>
              </a:rPr>
              <a:t>افر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ran"/>
              </a:rPr>
              <a:t>فرآين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ran"/>
              </a:rPr>
              <a:t>گرو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ran"/>
              </a:rPr>
              <a:t>محص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ran"/>
              </a:rPr>
              <a:t>شرکت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Calibri"/>
                <a:cs typeface="B Baran"/>
              </a:rPr>
              <a:t>بررسي وارزيابي شايستگي ها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2" descr="C:\Documents and Settings\Zahra\My Documents\iraneagle_nature02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678200"/>
          </a:xfrm>
          <a:prstGeom prst="rect">
            <a:avLst/>
          </a:prstGeom>
          <a:ln w="0">
            <a:noFill/>
          </a:ln>
        </p:spPr>
      </p:pic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17F4-43ED-47F0-AE34-26CE07A5A6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5"/>
          <p:cNvSpPr/>
          <p:nvPr/>
        </p:nvSpPr>
        <p:spPr>
          <a:xfrm>
            <a:off x="1523880" y="1752480"/>
            <a:ext cx="59436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Calibri"/>
                <a:cs typeface="B Baran"/>
              </a:rPr>
              <a:t>اندازه گيري نتايج ، معيارمناسبي براي کفايت شايستگي مديران است</a:t>
            </a:r>
            <a:r>
              <a:rPr b="1" lang="fa-IR" sz="2800" spc="-1" strike="noStrike">
                <a:solidFill>
                  <a:srgbClr val="ffffff"/>
                </a:solidFill>
                <a:latin typeface="Calibri"/>
                <a:ea typeface="B Bar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ance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It is based on the assumption that organizational performance is closely related to the performance of its individual sta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A means to improve organizational performance by linking and aligning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individu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ea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organization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objectives and resul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5CF4-1938-48C8-B0DE-6D164BFAC9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Baran"/>
              </a:rPr>
              <a:t>ارزيابي شايستگي ها ؛ براساس رويکرد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B Baran"/>
              </a:rPr>
              <a:t>360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B Baran"/>
              </a:rPr>
              <a:t> درجه انجام شو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26A7-5660-4560-ADBF-E18DB09965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Content Placeholder 5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45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هم ترين شايستگي هاي مديريتي شايسته ارتقا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EFC8-8B87-4E3D-A882-F969F0B79A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0" y="1219320"/>
            <a:ext cx="9144000" cy="49068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Arial"/>
              </a:rPr>
              <a:t>بينش استراتژيک آينده شناسي مديريت برخود شناسايي روندها هدايت وانگيزه بخشي به کارکنان هم افزايي درفضاي کسب وکار بهبودفضاي کسب وکار توليد محصولات /خدمات جديد افزايش فروش بهبودشاخص هاي اصلي کسب وکار استفاده ازفن آوري اطلاعات تعاملات محيطي سازنده ايجادوتاکيذبرچشم اندازي اثربخش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Calibri"/>
                <a:cs typeface="B Koodak"/>
              </a:rPr>
              <a:t>با تشکر از توجه شما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Koodak"/>
              </a:rPr>
              <a:t>به اميدروزي که جمله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B Koodak"/>
              </a:rPr>
              <a:t>MADE IN IR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B Kooda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B Koodak"/>
              </a:rPr>
              <a:t> خود گوياي کيفيت محصولات وخدمات کشورعزيزمان ايران باش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4FDF-8B0B-4596-9D09-6F2C4A101AE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2" descr="G:\ \iran.gif"/>
          <p:cNvPicPr/>
          <p:nvPr/>
        </p:nvPicPr>
        <p:blipFill>
          <a:blip r:embed="rId1"/>
          <a:stretch/>
        </p:blipFill>
        <p:spPr>
          <a:xfrm>
            <a:off x="457200" y="2819520"/>
            <a:ext cx="8153280" cy="3047760"/>
          </a:xfrm>
          <a:prstGeom prst="rect">
            <a:avLst/>
          </a:prstGeom>
          <a:ln w="0">
            <a:noFill/>
          </a:ln>
        </p:spPr>
      </p:pic>
      <p:sp>
        <p:nvSpPr>
          <p:cNvPr id="603" name="Rounded Rectangle 6"/>
          <p:cNvSpPr/>
          <p:nvPr/>
        </p:nvSpPr>
        <p:spPr>
          <a:xfrm>
            <a:off x="0" y="5943600"/>
            <a:ext cx="9144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miranheydar@yahoo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D9EA-5D9E-4FF2-9CA8-E306AA6B08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Calibri"/>
                <a:cs typeface="B Koodak"/>
              </a:rPr>
              <a:t>تلاش براي حفظ واستمرار بقاء سازمان، مفهوم واقعي ونهفته در ارزشيابي مديران است</a:t>
            </a:r>
            <a:r>
              <a:rPr b="0" lang="fa-IR" sz="4800" spc="-1" strike="noStrike">
                <a:solidFill>
                  <a:srgbClr val="000000"/>
                </a:solidFill>
                <a:latin typeface="Calibri"/>
                <a:ea typeface="B Koodak"/>
              </a:rPr>
              <a:t> </a:t>
            </a:r>
            <a:r>
              <a:rPr b="0" lang="fa-IR" sz="4800" spc="-1" strike="noStrike">
                <a:solidFill>
                  <a:srgbClr val="000000"/>
                </a:solidFill>
                <a:latin typeface="Calibri"/>
                <a:ea typeface="B Kooda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G:\ \iran.gif"/>
          <p:cNvPicPr/>
          <p:nvPr/>
        </p:nvPicPr>
        <p:blipFill>
          <a:blip r:embed="rId1"/>
          <a:stretch/>
        </p:blipFill>
        <p:spPr>
          <a:xfrm>
            <a:off x="0" y="41148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Koodak"/>
              </a:rPr>
              <a:t>مهم ترين وظيفه مديران ايراني شناسايي وشکار به موقع فرصت ها است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Kooda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opp-generation-process-colo"/>
          <p:cNvPicPr/>
          <p:nvPr/>
        </p:nvPicPr>
        <p:blipFill>
          <a:blip r:embed="rId1"/>
          <a:stretch/>
        </p:blipFill>
        <p:spPr>
          <a:xfrm>
            <a:off x="0" y="831960"/>
            <a:ext cx="9144000" cy="41209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"/>
          <p:cNvSpPr/>
          <p:nvPr/>
        </p:nvSpPr>
        <p:spPr>
          <a:xfrm>
            <a:off x="0" y="5105520"/>
            <a:ext cx="9144000" cy="1676160"/>
          </a:xfrm>
          <a:prstGeom prst="rect">
            <a:avLst/>
          </a:prstGeom>
          <a:solidFill>
            <a:srgbClr val="000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Calibri"/>
                <a:cs typeface="B Koodak"/>
              </a:rPr>
              <a:t>کسب وکارهاي موفق ، به جاي پرداختن به برداشت هاي سخت ، برداشت هاي نرم را در ساختارخود نهادينه کرده ان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7696080" y="1600200"/>
            <a:ext cx="144792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فرصت هاي  استثنايي وخا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7924680" y="3048120"/>
            <a:ext cx="114300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Koodak"/>
              </a:rPr>
              <a:t>رشد غير منتظره کسب وکاره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495680" y="3429000"/>
            <a:ext cx="1371600" cy="762120"/>
          </a:xfrm>
          <a:prstGeom prst="rect">
            <a:avLst/>
          </a:prstGeom>
          <a:solidFill>
            <a:srgbClr val="000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ffffff"/>
                </a:solidFill>
                <a:latin typeface="Calibri"/>
                <a:cs typeface="B Koodak"/>
              </a:rPr>
              <a:t>بالفعل شدن پتانسيل هاي باقوه رشدسازمان هاي ايران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914400" y="914400"/>
            <a:ext cx="2590920" cy="609480"/>
          </a:xfrm>
          <a:prstGeom prst="rect">
            <a:avLst/>
          </a:prstGeom>
          <a:solidFill>
            <a:srgbClr val="ccc1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Koodak"/>
              </a:rPr>
              <a:t>توليدفرص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380880" y="1600200"/>
            <a:ext cx="152424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Koodak"/>
              </a:rPr>
              <a:t>تحريم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80880" y="3505320"/>
            <a:ext cx="152424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B Koodak"/>
              </a:rPr>
              <a:t>عدم حضور مستقيم شرکتهاي خارج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2209680" y="3962520"/>
            <a:ext cx="1524240" cy="761760"/>
          </a:xfrm>
          <a:prstGeom prst="rect">
            <a:avLst/>
          </a:prstGeom>
          <a:solidFill>
            <a:srgbClr val="000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Calibri"/>
                <a:cs typeface="B Koodak"/>
              </a:rPr>
              <a:t>امکان حضورمستقيم وقوي شرکت هاي ايران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1797-7FAD-4D0C-AE5A-7403FDC386F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380880" y="2438280"/>
            <a:ext cx="152424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Calibri"/>
                <a:cs typeface="B Koodak"/>
              </a:rPr>
              <a:t>سخت شدن وغير عادي شدن مسيرهاي عادي تعام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4419720" y="914400"/>
            <a:ext cx="2209680" cy="9144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alibri"/>
                <a:cs typeface="B Koodak"/>
              </a:rPr>
              <a:t>توجه وانتظاردولت از حضورموثرکسب وکا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G:\ \iran.gif"/>
          <p:cNvPicPr/>
          <p:nvPr/>
        </p:nvPicPr>
        <p:blipFill>
          <a:blip r:embed="rId2"/>
          <a:stretch/>
        </p:blipFill>
        <p:spPr>
          <a:xfrm>
            <a:off x="66600" y="-76320"/>
            <a:ext cx="9241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6769-0418-4D3C-B2B4-BA4E88DA84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D:\کسب وکار واقتصاد مقاومتی\مقاومتی\writing3.jpg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Content Placeholder 2"/>
          <p:cNvSpPr/>
          <p:nvPr/>
        </p:nvSpPr>
        <p:spPr>
          <a:xfrm>
            <a:off x="0" y="0"/>
            <a:ext cx="32004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- تعيين انتظارات از مدير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- تعيين ومشخص کردن  شاخص ها ونتايج کليدي عملکرد  سازم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- کنترل وپايش  ميزان تحقق اين اهدا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- تلاش براي ارتقاي کارايي مديران در تحقق اين اهدا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Calibri"/>
                <a:ea typeface="B Koodak"/>
              </a:rPr>
              <a:t>- شناسايي فرصت هاي بهبود وارتقاي شايستگي هاي مديران  براساس نتايج ارزشياب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200400" y="5867280"/>
            <a:ext cx="59436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Koodak"/>
              </a:rPr>
              <a:t>ارزشيابي مديران يعني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ea typeface="B Koodak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ea typeface="B Kooda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G:\ \iran.gif"/>
          <p:cNvPicPr/>
          <p:nvPr/>
        </p:nvPicPr>
        <p:blipFill>
          <a:blip r:embed="rId2"/>
          <a:stretch/>
        </p:blipFill>
        <p:spPr>
          <a:xfrm>
            <a:off x="3276720" y="76320"/>
            <a:ext cx="2057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5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8229600" y="6507000"/>
            <a:ext cx="80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5d5"/>
                </a:solidFill>
                <a:latin typeface="Calibri"/>
                <a:ea typeface="Arial"/>
              </a:rPr>
              <a:t>11-</a:t>
            </a:r>
            <a:fld id="{D7858137-CB78-4F64-AAB9-4A15A8B166E0}" type="slidenum">
              <a:rPr b="0" lang="en-US" sz="1000" spc="-1" strike="noStrike">
                <a:solidFill>
                  <a:srgbClr val="0075d5"/>
                </a:solidFill>
                <a:latin typeface="Calibr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j0422529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808080"/>
            </a:outerShdw>
          </a:effectLst>
        </p:spPr>
      </p:pic>
      <p:sp>
        <p:nvSpPr>
          <p:cNvPr id="27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05E3-4B91-4FBC-9B56-89661761CF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dr AMIRAN-amiranheydar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2  Nazanin"/>
              </a:rPr>
              <a:t>پس در يک جمله مي توان گفت</a:t>
            </a:r>
            <a:r>
              <a:rPr b="0" lang="fa-IR" sz="4800" spc="-1" strike="noStrike">
                <a:solidFill>
                  <a:srgbClr val="000000"/>
                </a:solidFill>
                <a:latin typeface="2  Nazanin"/>
              </a:rPr>
              <a:t> </a:t>
            </a:r>
            <a:r>
              <a:rPr b="0" lang="fa-IR" sz="4800" spc="-1" strike="noStrike">
                <a:solidFill>
                  <a:srgbClr val="000000"/>
                </a:solidFill>
                <a:latin typeface="2  Nazani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2  Nazanin"/>
              </a:rPr>
              <a:t>ارزشيابي مديران يعني تعيين ميزان موفقيت آنها در تامين نتايج سازماني وارتقاي شايستگي آنها در اين مسي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EsAm</dc:creator>
  <dc:description/>
  <dc:language>en-US</dc:language>
  <cp:lastModifiedBy>HAP</cp:lastModifiedBy>
  <dcterms:modified xsi:type="dcterms:W3CDTF">2016-02-27T21:21:47Z</dcterms:modified>
  <cp:revision>100</cp:revision>
  <dc:subject/>
  <dc:title>تعاریف به کاررفته در این مقاله</dc:title>
</cp:coreProperties>
</file>